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B87-B1DD-4CA9-A6D4-D1116642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570-D074-4CE1-ABE0-5C7A136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929-2E10-4A8A-AD53-1ECD64E8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422-8A0C-4EAC-978E-E243D72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6AD-CC96-4623-BD86-EDBAA5FE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AE19-FB5C-4940-8CA0-46A3F66B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8D1-6DF2-46D1-B1AB-3140E3E2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30EC-99B4-4151-B0D2-76E7CCFB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435C-E3F5-4A66-AD92-D93C095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5933-22C1-4A93-A8D9-76217B0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286-9353-4CEB-83A9-CEEDC86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20C-29D2-4F99-87DA-E3ADF322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6CB-D6C3-4879-A6BC-7229F71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242B-B1A3-47C6-9CFE-150AAD9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54B7-88BE-48D3-82D0-4588A4B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45F-D953-4A77-B292-EAEE6699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081B-F3AD-452D-A90D-54BA7CC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465-2581-457E-BCBE-26BDFF6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23F-9937-453B-B04E-DDF9960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890-EE86-4F6F-9917-BE81954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464-B447-4A4F-8A87-E6E2D85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3D7-98DB-4570-81A6-3B530F50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4DD-3C21-49E0-822B-034FD24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610-6D0D-462F-A9CF-6B9D75B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C4E5-3386-4577-AE4E-C4F3DE6A31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BACE-DF00-4B8A-9F80-973BD4704F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итание и здоровье челове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должна быть лекарством, а лекарство пищ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цкая Наталь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чем мы едим ?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овой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урм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 энергию для умственной и физ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оставаться здор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03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– все хорошо , состояние физического комфорта , душевное равновесие , когда жизнь кажется бесконечной (работа с понятием, составление синквей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зультаты нездорового питания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Приобретение заболеваний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высокое артериаль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болезни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болезни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инсуль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ож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Задержка умствен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Группы продуктов питания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таблицей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укты и 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 и крупяные изд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ко и молоч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со и мяс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ищевые добавки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роводится в па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ченических столах упаковки от пищев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олах две 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пищевых доба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 добавки, вызывающие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еты по здоровому питанию (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группах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екта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разнообразную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нормальный 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ерживайтесь рациона с низким содержанием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йте в рацион больше овощей , фруктов и продуктов из злаков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ивайте употребление продуктов , содержащих пищевые доб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ерживайтесь сбалансированного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SC02545"/>
          <p:cNvPicPr/>
          <p:nvPr/>
        </p:nvPicPr>
        <p:blipFill>
          <a:blip r:embed="rId1"/>
          <a:stretch/>
        </p:blipFill>
        <p:spPr>
          <a:xfrm>
            <a:off x="31680" y="25560"/>
            <a:ext cx="9112320" cy="683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22:33Z</dcterms:created>
  <dc:creator>school2</dc:creator>
  <dc:description/>
  <dc:language>en-US</dc:language>
  <cp:lastModifiedBy>Админ</cp:lastModifiedBy>
  <dcterms:modified xsi:type="dcterms:W3CDTF">2020-03-29T11:27:09Z</dcterms:modified>
  <cp:revision>33</cp:revision>
  <dc:subject/>
  <dc:title>Внеклассная деятельность учащихся</dc:title>
</cp:coreProperties>
</file>