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3.gif" ContentType="image/gif"/>
  <Override PartName="/ppt/media/image2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20.gif" ContentType="image/gif"/>
  <Override PartName="/ppt/media/image13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8.png" ContentType="image/png"/>
  <Override PartName="/ppt/media/image14.jpeg" ContentType="image/jpeg"/>
  <Override PartName="/ppt/media/image36.gif" ContentType="image/gif"/>
  <Override PartName="/ppt/media/image4.gif" ContentType="image/gif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1.gif" ContentType="image/gif"/>
  <Override PartName="/ppt/media/image24.gif" ContentType="image/gif"/>
  <Override PartName="/ppt/media/image17.png" ContentType="image/png"/>
  <Override PartName="/ppt/media/image3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8EB-F579-4783-BD5A-D0BCC51F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6BD-57A2-4C54-949F-ABA5BFE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A73-341F-490E-AAD7-F1DDEEC9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547-8E25-4CE3-AF3A-431E1683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F5C-C9A1-45DD-A369-2F8F631F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376-4EFE-404B-9233-EB0C74B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49DF-709F-4204-BB35-AA108DE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ED2-13F3-4E35-82BB-C028EFF9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6C5-071C-4757-ABAB-6D7B39C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4BA4-0A0A-47DA-A621-9FEFD43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4F20-0372-49CE-AB50-796AF71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616-C32C-4577-BFA2-D620C5E9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803-6122-40F7-A4F0-012209F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D15-A5F3-4E44-B845-71DEF79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F4D5-5AA9-4696-8F07-84DB233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670-708F-4A6E-8AFF-24D4B57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33D3-2EB4-47E9-8C3C-DE03CF69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3C283-BC1E-447B-A38D-A1C8AEA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5C3C2-D4D5-4ED3-B84B-AF22CF2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499F0-DB93-400F-BD7D-4BD6460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6E04C-C0EC-43D1-9291-FA3F752E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54B23-1EE6-4276-8CC3-BD5360F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E86-05C8-4F31-BF6E-45E7AC6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58C3B-C8EF-48A1-ABB1-0EC58F4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B97F0-AE91-490C-A8DC-66DEBA51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451DE-BF5B-4FD1-889D-D4E12B2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01633-9959-4A12-9666-0024723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D60F5-CB62-4C99-811A-086785DD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6802A-A2F5-4820-9792-1CB66FC5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F950C-7DA5-452A-B93F-EE472963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1317-E3BC-46DF-9645-CF542C41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848F-C187-4BE5-BD7D-78825CD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CB77-0AEA-444C-AD10-3202D0A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AB3-D59B-47FB-868A-8202135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7424-CF2C-488B-A20E-E62B72F2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8419-40E6-4429-BA37-FA5960B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66DF-0228-4D7E-AF3C-D2138494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C01C-666D-4D79-B11D-80E57A6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5572-E6C5-44D9-A3E0-759BDCD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3151-0168-4F9A-AE3B-41CBD04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17BE-F92C-4C89-8340-5895AA9D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510D-22F0-4F15-9E99-D7D1AD07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49F2-5BB5-4EC7-A561-15E7F507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D3350-E77B-47FC-BA32-41278818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48C-E362-498E-A898-E70FE7B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C18D8-8935-4681-BD40-AD9BF4B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50B76-2464-44FC-95C7-0CB6BE2F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98BB2-228A-4BA5-906D-E6073A23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9341E-527F-4227-98A8-48E5E2F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1795F-DBD4-4006-A5FB-FE8C787E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9C9C0-ADE1-48EF-91F4-81D67FE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B9954-9C16-4C3B-A75C-B8E36C4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CC119-CF24-4767-8300-3667FBA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7EF6A-3B0D-4E1A-90CC-97804B75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9EC7D-4899-40CF-BA43-203C3C99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C66-D09F-4EA7-8F72-5B21720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0D8EB-D3F8-4DCB-955D-5AFCF394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BF146-05E5-4F9F-9896-82390B3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A17DD-CC52-473B-9E62-3BE51AA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EE41D-6B8C-4417-B3A9-ED8A1FE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600E4-4EB7-49FF-837B-A59E934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AD6A1-5A28-4EA5-A98C-A3BD8FF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79BD1-B4B6-44B8-8955-C1DB33A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3CC6B-2564-4F5C-A025-9C7D5A9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BA78D-80B6-4A9E-9B88-C707B75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932D1-9BF9-486A-B0EF-67B850C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510-06D0-450F-A4A6-8317D19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26FC4-3D5D-4BB9-BE85-030DB282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73D75-6921-4577-9BFF-5AA3EFCC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93FFB-139B-4028-82B1-4830D0D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80D2F-0C94-45D0-AF43-A66F692A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7C286-993B-4D41-A56B-5E9D148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40104-FB80-4374-9E3B-E126202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7B250-3937-4CA3-8B18-3233FCA1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BBCB1-10EF-4D10-AA31-C1DF07C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61AE6-CBF3-402E-80AB-206EA5C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6AA73-CA68-444C-AACD-173228E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DE8-8232-44C4-A157-1560A12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9FC82-F0C6-48C0-B8AE-4BBB052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0DFEC-BE17-4FD7-A22C-43586F9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D96DB-8ABB-457B-A664-6EA004EA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34D23-040E-4461-BBFB-928EE6BC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6207D-D851-4FAE-B5C5-B5584690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48E-B5C1-45F5-B1EC-4C95407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1A7B-D24D-492E-B420-EF6AE2730B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289-6ACF-4682-A47F-B1DDA5C755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24B8-5CBC-4F0E-9E87-CA5D0AADE8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2FDC-29D8-45BD-9340-A8D27156BE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C20-0A21-4A2E-8840-E246C235D0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5B0A-C745-4F14-97E2-05D8638D4C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8937-33A3-4359-851F-9DB3E52692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3" name="Picture 12" descr="Рисунок2"/>
          <p:cNvPicPr/>
          <p:nvPr/>
        </p:nvPicPr>
        <p:blipFill>
          <a:blip r:embed="rId1"/>
          <a:stretch/>
        </p:blipFill>
        <p:spPr>
          <a:xfrm>
            <a:off x="252360" y="2232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4" name="WordArt 6"/>
          <p:cNvSpPr txBox="1"/>
          <p:nvPr/>
        </p:nvSpPr>
        <p:spPr>
          <a:xfrm>
            <a:off x="900000" y="1197000"/>
            <a:ext cx="741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Урок  чтения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547640" y="2276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А.Л. Барто  «В театр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500280"/>
            <a:ext cx="3240360" cy="2292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gest2"/>
          <p:cNvPicPr/>
          <p:nvPr/>
        </p:nvPicPr>
        <p:blipFill>
          <a:blip r:embed="rId3"/>
          <a:stretch/>
        </p:blipFill>
        <p:spPr>
          <a:xfrm rot="21355200">
            <a:off x="6075000" y="3789360"/>
            <a:ext cx="2793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70-4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i353561127_59420_6"/>
          <p:cNvPicPr/>
          <p:nvPr/>
        </p:nvPicPr>
        <p:blipFill>
          <a:blip r:embed="rId2"/>
          <a:stretch/>
        </p:blipFill>
        <p:spPr>
          <a:xfrm>
            <a:off x="1332000" y="3860640"/>
            <a:ext cx="1522440" cy="24480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250920" y="2205000"/>
            <a:ext cx="8640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авильно ли вели себя подружки во время спектак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нужно вести себя, если во время представления потерялся номеро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йте совет девочке, как нужно  вести  себя  в  теа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7"/>
          <p:cNvSpPr txBox="1"/>
          <p:nvPr/>
        </p:nvSpPr>
        <p:spPr>
          <a:xfrm>
            <a:off x="395280" y="981000"/>
            <a:ext cx="835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Страничка   добрых  совет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418" name="WordArt 5"/>
          <p:cNvSpPr txBox="1"/>
          <p:nvPr/>
        </p:nvSpPr>
        <p:spPr>
          <a:xfrm>
            <a:off x="1187280" y="1484280"/>
            <a:ext cx="698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 зада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826920" y="3284640"/>
            <a:ext cx="7561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.Барто «В театре» стр. 113 – 1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разительное чтение;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ставить советы как вести себя в теа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55280" y="620280"/>
            <a:ext cx="806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바탕"/>
                <a:ea typeface="바탕"/>
              </a:rPr>
              <a:t>Книги рассказывают нам о многом: рабочий читает книги о станках, чтобы научиться лучше управлять ими; врач – о том, как помочь людям стать здоровыми; учитель – как лучше учить. Книги помогают лучше понять окружающую жизнь. Поэтому их нужно читать не спеша, внимательно, не пропуская страни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10" descr="BOOK2"/>
          <p:cNvPicPr/>
          <p:nvPr/>
        </p:nvPicPr>
        <p:blipFill>
          <a:blip r:embed="rId1"/>
          <a:stretch/>
        </p:blipFill>
        <p:spPr>
          <a:xfrm rot="19930200">
            <a:off x="3378240" y="4655880"/>
            <a:ext cx="16066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250920" y="33336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Impact"/>
              </a:rPr>
              <a:t>Речевая разминк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539640" y="2708280"/>
            <a:ext cx="784872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0066"/>
                </a:solidFill>
                <a:latin typeface="Arial Black"/>
              </a:rPr>
              <a:t>Прочитайте скороговорку</a:t>
            </a:r>
            <a:r>
              <a:rPr b="1" lang="ru-RU" sz="2400" spc="-1" strike="noStrike">
                <a:solidFill>
                  <a:srgbClr val="ff0066"/>
                </a:solidFill>
                <a:latin typeface="Arial Black"/>
              </a:rPr>
              <a:t>: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 Black"/>
              </a:rPr>
              <a:t>-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медленно;</a:t>
            </a:r>
            <a:r>
              <a:rPr b="1" lang="ru-RU" sz="2000" spc="-1" strike="noStrike">
                <a:solidFill>
                  <a:srgbClr val="ff0066"/>
                </a:solidFill>
                <a:latin typeface="Arial Black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с ускор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шёпо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гром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весе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вырази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-скороговор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900000" y="155736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 Black"/>
              </a:rPr>
              <a:t>Кричал Архип, Архип охри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 Black"/>
              </a:rPr>
              <a:t>Не надо Архипу кричать до хрипу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5"/>
          <p:cNvSpPr txBox="1"/>
          <p:nvPr/>
        </p:nvSpPr>
        <p:spPr>
          <a:xfrm>
            <a:off x="684360" y="260280"/>
            <a:ext cx="7920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Проверяем  домашнее   зада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324000" y="1341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А.Л. Барто  «Разл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324000" y="342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читайте, представляя себя на месте маль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395280" y="220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чувствуете ли вы мальчи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39528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5" descr="020524_1521_0001_lslp"/>
          <p:cNvPicPr/>
          <p:nvPr/>
        </p:nvPicPr>
        <p:blipFill>
          <a:blip r:embed="rId3"/>
          <a:stretch/>
        </p:blipFill>
        <p:spPr>
          <a:xfrm>
            <a:off x="7265880" y="4653000"/>
            <a:ext cx="140508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4" descr="14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WordArt 5"/>
          <p:cNvSpPr txBox="1"/>
          <p:nvPr/>
        </p:nvSpPr>
        <p:spPr>
          <a:xfrm>
            <a:off x="539640" y="404640"/>
            <a:ext cx="835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А.Л. Барто  " В  театре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374" name="Picture 7" descr="images"/>
          <p:cNvPicPr/>
          <p:nvPr/>
        </p:nvPicPr>
        <p:blipFill>
          <a:blip r:embed="rId4"/>
          <a:stretch/>
        </p:blipFill>
        <p:spPr>
          <a:xfrm>
            <a:off x="324000" y="1844640"/>
            <a:ext cx="3351240" cy="4321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020"/>
          <p:cNvPicPr/>
          <p:nvPr/>
        </p:nvPicPr>
        <p:blipFill>
          <a:blip r:embed="rId5"/>
          <a:stretch/>
        </p:blipFill>
        <p:spPr>
          <a:xfrm rot="21280800">
            <a:off x="3555720" y="1488960"/>
            <a:ext cx="1468440" cy="194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117874_1"/>
          <p:cNvPicPr/>
          <p:nvPr/>
        </p:nvPicPr>
        <p:blipFill>
          <a:blip r:embed="rId6"/>
          <a:stretch/>
        </p:blipFill>
        <p:spPr>
          <a:xfrm>
            <a:off x="5148360" y="155736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355601"/>
          <p:cNvPicPr/>
          <p:nvPr/>
        </p:nvPicPr>
        <p:blipFill>
          <a:blip r:embed="rId7"/>
          <a:stretch/>
        </p:blipFill>
        <p:spPr>
          <a:xfrm rot="486600">
            <a:off x="6587640" y="1699920"/>
            <a:ext cx="1324080" cy="1851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1290404647492287368"/>
          <p:cNvPicPr/>
          <p:nvPr/>
        </p:nvPicPr>
        <p:blipFill>
          <a:blip r:embed="rId8"/>
          <a:stretch/>
        </p:blipFill>
        <p:spPr>
          <a:xfrm rot="20601000">
            <a:off x="3924360" y="4653000"/>
            <a:ext cx="1268280" cy="1787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щш"/>
          <p:cNvPicPr/>
          <p:nvPr/>
        </p:nvPicPr>
        <p:blipFill>
          <a:blip r:embed="rId9"/>
          <a:stretch/>
        </p:blipFill>
        <p:spPr>
          <a:xfrm rot="21307800">
            <a:off x="5003640" y="3716280"/>
            <a:ext cx="1224000" cy="1716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d-irjke_enl"/>
          <p:cNvPicPr/>
          <p:nvPr/>
        </p:nvPicPr>
        <p:blipFill>
          <a:blip r:embed="rId10"/>
          <a:stretch/>
        </p:blipFill>
        <p:spPr>
          <a:xfrm rot="1899000">
            <a:off x="7524360" y="4076640"/>
            <a:ext cx="1179720" cy="1733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agniya-barto-ya-rastu-planeta-detstva"/>
          <p:cNvPicPr/>
          <p:nvPr/>
        </p:nvPicPr>
        <p:blipFill>
          <a:blip r:embed="rId11"/>
          <a:stretch/>
        </p:blipFill>
        <p:spPr>
          <a:xfrm rot="213000">
            <a:off x="6084360" y="4292280"/>
            <a:ext cx="1231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73-4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383" name="WordArt 6"/>
          <p:cNvSpPr txBox="1"/>
          <p:nvPr/>
        </p:nvSpPr>
        <p:spPr>
          <a:xfrm>
            <a:off x="755640" y="692280"/>
            <a:ext cx="7416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                 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971640" y="278136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0_58fdb_ab7a7678_L"/>
          <p:cNvPicPr/>
          <p:nvPr/>
        </p:nvPicPr>
        <p:blipFill>
          <a:blip r:embed="rId2"/>
          <a:stretch/>
        </p:blipFill>
        <p:spPr>
          <a:xfrm>
            <a:off x="3924360" y="263700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9"/>
          <p:cNvSpPr/>
          <p:nvPr/>
        </p:nvSpPr>
        <p:spPr>
          <a:xfrm>
            <a:off x="179280" y="155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ЛЕ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1763640" y="17002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ид искусства, в котором артисты говорят  на языке т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2771640" y="20606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ЛЕРИН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148360" y="213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ртистка балета, танцовщ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ballerina_tanec"/>
          <p:cNvPicPr/>
          <p:nvPr/>
        </p:nvPicPr>
        <p:blipFill>
          <a:blip r:embed="rId3"/>
          <a:stretch/>
        </p:blipFill>
        <p:spPr>
          <a:xfrm>
            <a:off x="324000" y="2060640"/>
            <a:ext cx="2900160" cy="3095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4"/>
          <p:cNvSpPr/>
          <p:nvPr/>
        </p:nvSpPr>
        <p:spPr>
          <a:xfrm>
            <a:off x="39528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Е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1547640" y="530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лшеб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395280" y="57340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КЕСТР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411280" y="57340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руппа музыкантов, играющих на разных музыкальных инстру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3" descr="72-4"/>
          <p:cNvPicPr/>
          <p:nvPr/>
        </p:nvPicPr>
        <p:blipFill>
          <a:blip r:embed="rId1"/>
          <a:stretch/>
        </p:blipFill>
        <p:spPr>
          <a:xfrm>
            <a:off x="36360" y="27000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396" name="WordArt 10"/>
          <p:cNvSpPr txBox="1"/>
          <p:nvPr/>
        </p:nvSpPr>
        <p:spPr>
          <a:xfrm>
            <a:off x="1258920" y="26028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раничка  осмысленного  чтения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324000" y="1916280"/>
            <a:ext cx="777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девочка впервые попала на бал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кем она пошла в теат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ое настроение было у девочек перед началом бал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о девочки хотели увидать на сце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произошло, когда заиграл оркест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ем занимались девочки во время представ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в это время происходило на сце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де девочки искали номе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на это реагировали остальные зрите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девочки нашли номе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могли ли девочки посмотреть балет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2" descr="1974304"/>
          <p:cNvPicPr/>
          <p:nvPr/>
        </p:nvPicPr>
        <p:blipFill>
          <a:blip r:embed="rId4"/>
          <a:stretch/>
        </p:blipFill>
        <p:spPr>
          <a:xfrm>
            <a:off x="6804000" y="3860640"/>
            <a:ext cx="18288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74-4"/>
          <p:cNvPicPr/>
          <p:nvPr/>
        </p:nvPicPr>
        <p:blipFill>
          <a:blip r:embed="rId1"/>
          <a:stretch/>
        </p:blipFill>
        <p:spPr>
          <a:xfrm>
            <a:off x="108000" y="34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0" name="WordArt 5"/>
          <p:cNvSpPr txBox="1"/>
          <p:nvPr/>
        </p:nvSpPr>
        <p:spPr>
          <a:xfrm>
            <a:off x="468360" y="260280"/>
            <a:ext cx="82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раничка  выборочного  чтения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611280" y="1557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читайте, как девочка ждала начала предст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611280" y="1916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читайте, как подружки вели себя во время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611280" y="2276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читайте, какое представление шло на сце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468360" y="2637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дберите отрывки из стихотворения, подходящие к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barto_v_teatre_1"/>
          <p:cNvPicPr/>
          <p:nvPr/>
        </p:nvPicPr>
        <p:blipFill>
          <a:blip r:embed="rId4"/>
          <a:stretch/>
        </p:blipFill>
        <p:spPr>
          <a:xfrm>
            <a:off x="2987640" y="3141720"/>
            <a:ext cx="3168720" cy="22176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406" name="Picture 11" descr="barto_v_teatre_2"/>
          <p:cNvPicPr/>
          <p:nvPr/>
        </p:nvPicPr>
        <p:blipFill>
          <a:blip r:embed="rId5"/>
          <a:stretch/>
        </p:blipFill>
        <p:spPr>
          <a:xfrm>
            <a:off x="6227640" y="3068640"/>
            <a:ext cx="2592360" cy="23367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07" name="Picture 12" descr="barto_v_teatre_3"/>
          <p:cNvPicPr/>
          <p:nvPr/>
        </p:nvPicPr>
        <p:blipFill>
          <a:blip r:embed="rId6"/>
          <a:stretch/>
        </p:blipFill>
        <p:spPr>
          <a:xfrm>
            <a:off x="395280" y="3068640"/>
            <a:ext cx="2448000" cy="23544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408" name="Text Box 13"/>
          <p:cNvSpPr/>
          <p:nvPr/>
        </p:nvSpPr>
        <p:spPr>
          <a:xfrm>
            <a:off x="684360" y="58053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асставьте картинки в правиль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10" name="WordArt 7"/>
          <p:cNvSpPr txBox="1"/>
          <p:nvPr/>
        </p:nvSpPr>
        <p:spPr>
          <a:xfrm>
            <a:off x="468360" y="260280"/>
            <a:ext cx="8207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траничка  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выразительного  чт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539640" y="234936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ое  настроение было у девочек перед началом спектакля? Как передать это при помощи голо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ак изменилось настроение, когда девочка обнаружила пропажу номерка? Как можно назвать состояние девочки? Выберите подходящее сло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ОСТЬ   ТРЕВОГА   ОГОРЧЕНИЕ   УДИВЛЕНИЕ   ВОСТОРГ    С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Шутова С.А.</dc:creator>
  <dc:description/>
  <dc:language>en-US</dc:language>
  <cp:lastModifiedBy>Ефимка</cp:lastModifiedBy>
  <dcterms:modified xsi:type="dcterms:W3CDTF">2020-04-03T10:55:14Z</dcterms:modified>
  <cp:revision>50</cp:revision>
  <dc:subject/>
  <dc:title>Слайд 1</dc:title>
</cp:coreProperties>
</file>