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0BB5-0A7B-463B-BEF9-8A68FEE6C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0E7C7-4ACD-4005-ABD4-7CF383C9E2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F0B-3283-459E-BEAE-6DD48C06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298-678D-4DE9-AB2C-AD7C3D07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FA9-406F-4876-8BAD-3AE8C777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E47-0EF9-44A1-BCEC-D7A080F6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BA8-94ED-456A-BC88-91CDA21F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191-4B3B-404E-BB4A-8CFAB1C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CA7-79ED-446C-B8FF-ECB95FA6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8E4-8645-41F2-844B-795C172E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458-AD95-479C-A920-FAC60048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BF4-52F3-4B80-8874-95C6DD37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390-89C3-45C5-9988-D7D6DEF7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71B-F8B3-4A17-ACAB-1E52CCCE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B90-B861-4936-B7FE-9951F289D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&amp;Icy;&amp;ncy;&amp;fcy;&amp;ocy;&amp;rcy;&amp;mcy;&amp;acy;&amp;tcy;&amp;icy;&amp;kcy;&amp;acy; : &amp;ucy;&amp;chcy;&amp;iecy;&amp;bcy;&amp;ncy;&amp;icy;&amp;kcy; &amp;dcy;&amp;lcy;&amp;yacy; 6 &amp;kcy;&amp;lcy;&amp;acy;&amp;scy;&amp;scy;&amp;acy;"/>
          <p:cNvPicPr/>
          <p:nvPr/>
        </p:nvPicPr>
        <p:blipFill>
          <a:blip r:embed="rId1"/>
          <a:stretch/>
        </p:blipFill>
        <p:spPr>
          <a:xfrm>
            <a:off x="755640" y="1557360"/>
            <a:ext cx="1857240" cy="267480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  <p:sp>
        <p:nvSpPr>
          <p:cNvPr id="50" name="TextBox 6"/>
          <p:cNvSpPr/>
          <p:nvPr/>
        </p:nvSpPr>
        <p:spPr>
          <a:xfrm>
            <a:off x="4714920" y="1500120"/>
            <a:ext cx="360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§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7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 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Вопрос №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стр. 46 письменно в 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РТ:  №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75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78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(ж -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Решебник по информатике"/>
          <p:cNvPicPr/>
          <p:nvPr/>
        </p:nvPicPr>
        <p:blipFill>
          <a:blip r:embed="rId2"/>
          <a:stretch/>
        </p:blipFill>
        <p:spPr>
          <a:xfrm>
            <a:off x="1857240" y="2928960"/>
            <a:ext cx="2214720" cy="308124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324000" y="333360"/>
            <a:ext cx="8208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Как происходит чувственное позн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24000" y="907920"/>
            <a:ext cx="8305560" cy="1191240"/>
          </a:xfrm>
          <a:prstGeom prst="rect">
            <a:avLst/>
          </a:prstGeom>
          <a:solidFill>
            <a:srgbClr val="a7d2df"/>
          </a:solidFill>
          <a:ln w="9360">
            <a:solidFill>
              <a:srgbClr val="275c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Восприятие</a:t>
            </a: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 – это целостное отражение объекта, непосредственно воздействующего на наши органы чув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1403280" y="2565360"/>
            <a:ext cx="4681080" cy="3659400"/>
            <a:chOff x="1403280" y="2565360"/>
            <a:chExt cx="4681080" cy="3659400"/>
          </a:xfrm>
        </p:grpSpPr>
        <p:sp>
          <p:nvSpPr>
            <p:cNvPr id="118" name="Text Box 7"/>
            <p:cNvSpPr/>
            <p:nvPr/>
          </p:nvSpPr>
          <p:spPr>
            <a:xfrm>
              <a:off x="1495080" y="3098880"/>
              <a:ext cx="2294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желтый, овальный, ароматный, сочный, кисл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1403280" y="2565360"/>
              <a:ext cx="146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 u="sng">
                  <a:solidFill>
                    <a:srgbClr val="000033"/>
                  </a:solidFill>
                  <a:uFillTx/>
                  <a:latin typeface="Times New Roman"/>
                  <a:ea typeface="Arial"/>
                </a:rPr>
                <a:t>ПРИМ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9" descr=""/>
            <p:cNvPicPr/>
            <p:nvPr/>
          </p:nvPicPr>
          <p:blipFill>
            <a:blip r:embed="rId1"/>
            <a:stretch/>
          </p:blipFill>
          <p:spPr>
            <a:xfrm>
              <a:off x="1487160" y="5114880"/>
              <a:ext cx="17211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10"/>
            <p:cNvSpPr/>
            <p:nvPr/>
          </p:nvSpPr>
          <p:spPr>
            <a:xfrm>
              <a:off x="3606120" y="3022560"/>
              <a:ext cx="367200" cy="1981440"/>
            </a:xfrm>
            <a:custGeom>
              <a:avLst/>
              <a:gdLst>
                <a:gd name="textAreaLeft" fmla="*/ 0 w 367200"/>
                <a:gd name="textAreaRight" fmla="*/ 132480 w 36720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4002120" y="3556080"/>
              <a:ext cx="208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целостное отражение объ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"/>
          <p:cNvPicPr/>
          <p:nvPr/>
        </p:nvPicPr>
        <p:blipFill>
          <a:blip r:embed="rId1"/>
          <a:srcRect l="0" t="0" r="0" b="10003"/>
          <a:stretch/>
        </p:blipFill>
        <p:spPr>
          <a:xfrm>
            <a:off x="712800" y="3941640"/>
            <a:ext cx="3200400" cy="21607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9"/>
          <p:cNvSpPr/>
          <p:nvPr/>
        </p:nvSpPr>
        <p:spPr>
          <a:xfrm flipH="1">
            <a:off x="468360" y="2565360"/>
            <a:ext cx="1371600" cy="1295280"/>
          </a:xfrm>
          <a:prstGeom prst="cloudCallout">
            <a:avLst>
              <a:gd name="adj1" fmla="val -84689"/>
              <a:gd name="adj2" fmla="val 55208"/>
            </a:avLst>
          </a:prstGeom>
          <a:solidFill>
            <a:srgbClr val="ffff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24000" y="692280"/>
            <a:ext cx="8280360" cy="825480"/>
          </a:xfrm>
          <a:prstGeom prst="rect">
            <a:avLst/>
          </a:prstGeom>
          <a:solidFill>
            <a:srgbClr val="a7d2df"/>
          </a:solidFill>
          <a:ln w="9360">
            <a:solidFill>
              <a:srgbClr val="275c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едставление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  - это чувственный образ объекта, в данный момент нами не воспринимаемого, но воспринятого 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68360" y="198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33"/>
                </a:solidFill>
                <a:uFillTx/>
                <a:latin typeface="Times New Roman"/>
                <a:ea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763640" y="270828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чувственный образ объ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4067280" y="2781360"/>
            <a:ext cx="4750920" cy="3320640"/>
            <a:chOff x="4067280" y="2781360"/>
            <a:chExt cx="4750920" cy="3320640"/>
          </a:xfrm>
        </p:grpSpPr>
        <p:pic>
          <p:nvPicPr>
            <p:cNvPr id="129" name="Picture 4" descr=""/>
            <p:cNvPicPr/>
            <p:nvPr/>
          </p:nvPicPr>
          <p:blipFill>
            <a:blip r:embed="rId2"/>
            <a:stretch/>
          </p:blipFill>
          <p:spPr>
            <a:xfrm>
              <a:off x="6733440" y="3229920"/>
              <a:ext cx="2084760" cy="2449800"/>
            </a:xfrm>
            <a:prstGeom prst="rect">
              <a:avLst/>
            </a:prstGeom>
            <a:ln w="28440">
              <a:solidFill>
                <a:srgbClr val="275c6d"/>
              </a:solidFill>
              <a:miter/>
            </a:ln>
          </p:spPr>
        </p:pic>
        <p:sp>
          <p:nvSpPr>
            <p:cNvPr id="130" name="AutoShape 5"/>
            <p:cNvSpPr/>
            <p:nvPr/>
          </p:nvSpPr>
          <p:spPr>
            <a:xfrm>
              <a:off x="4067280" y="2781360"/>
              <a:ext cx="3046680" cy="3320640"/>
            </a:xfrm>
            <a:prstGeom prst="rightArrowCallout">
              <a:avLst>
                <a:gd name="adj1" fmla="val 13131"/>
                <a:gd name="adj2" fmla="val 27248"/>
                <a:gd name="adj3" fmla="val 17273"/>
                <a:gd name="adj4" fmla="val 72343"/>
              </a:avLst>
            </a:prstGeom>
            <a:solidFill>
              <a:srgbClr val="a7d2d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Информацию, чувственно воспринимаемую ранее, человек воспроизводит в своей памяти, обрабатывает с помощью мышления и использует для достижения поставленных целе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10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971640" cy="754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"/>
          <p:cNvSpPr/>
          <p:nvPr/>
        </p:nvSpPr>
        <p:spPr>
          <a:xfrm>
            <a:off x="395280" y="189000"/>
            <a:ext cx="8280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Как происходит чувственное позн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Заполни часть схем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645160" y="33336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  <a:ea typeface="Arial"/>
              </a:rPr>
              <a:t>РТ: с. 71  №  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001000" cy="485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786120" cy="6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642960" y="2857680"/>
            <a:ext cx="3357720" cy="714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642960" y="3857760"/>
            <a:ext cx="3357720" cy="696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642960" y="4857840"/>
            <a:ext cx="3367080" cy="714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47636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Т: стр. 72 №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Самостоятельная рабо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Решебник по информатике"/>
          <p:cNvPicPr/>
          <p:nvPr/>
        </p:nvPicPr>
        <p:blipFill>
          <a:blip r:embed="rId1"/>
          <a:stretch/>
        </p:blipFill>
        <p:spPr>
          <a:xfrm>
            <a:off x="468360" y="1700280"/>
            <a:ext cx="1293840" cy="180000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  <p:sp>
        <p:nvSpPr>
          <p:cNvPr id="143" name="TextBox 4"/>
          <p:cNvSpPr/>
          <p:nvPr/>
        </p:nvSpPr>
        <p:spPr>
          <a:xfrm>
            <a:off x="2340000" y="1268280"/>
            <a:ext cx="580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  <a:ea typeface="Arial"/>
              </a:rPr>
              <a:t>РТ: с. 72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  <a:ea typeface="Arial"/>
              </a:rPr>
              <a:t>№ </a:t>
            </a:r>
            <a:r>
              <a:rPr b="1" lang="ru-RU" sz="4400" spc="-1" strike="noStrike">
                <a:solidFill>
                  <a:srgbClr val="632523"/>
                </a:solidFill>
                <a:latin typeface="Calibri"/>
                <a:ea typeface="Arial"/>
              </a:rPr>
              <a:t>78 (а - 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6771240" y="595008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о 1  бал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2268360" y="2637000"/>
            <a:ext cx="5185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ложени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2195640" y="3213000"/>
            <a:ext cx="51847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ффикс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468360" y="3716280"/>
            <a:ext cx="51847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стоимени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68360" y="4292640"/>
            <a:ext cx="417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рость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68360" y="4869000"/>
            <a:ext cx="417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резок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1"/>
          <p:cNvSpPr txBox="1"/>
          <p:nvPr/>
        </p:nvSpPr>
        <p:spPr>
          <a:xfrm>
            <a:off x="900000" y="5516640"/>
            <a:ext cx="51847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угольник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Выполни практическо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95280" y="1413000"/>
            <a:ext cx="7993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На рабочем столе в папке «Классы» открываем папку «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В папке «6» открываем файл «Семь чудес све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Читаем внимательно задание в распечатке и выполняем практическ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е забыва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по 2 балла за  каждое выполненн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одержимое 2"/>
          <p:cNvSpPr/>
          <p:nvPr/>
        </p:nvSpPr>
        <p:spPr>
          <a:xfrm>
            <a:off x="0" y="1700280"/>
            <a:ext cx="8964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178920" indent="-20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0 - 12 балл –  оценка «2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78920" indent="-20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13 - 18   баллов – оценка «3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19 – 25 баллов – оценка «4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26 и более баллов – оценка «5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84807"/>
                </a:solidFill>
                <a:latin typeface="Calibri"/>
              </a:rPr>
              <a:t>Оценка за урок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Проверь свои зн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24000" y="9810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Arial"/>
              </a:rPr>
              <a:t>РТ:  №</a:t>
            </a: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Arial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091040" y="907920"/>
            <a:ext cx="4765680" cy="5113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869520" y="60721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о 1 бал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24000" y="162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24000" y="2060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24000" y="2349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пер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24000" y="2708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24000" y="3068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грам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2400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Аппара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50920" y="3716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24000" y="4076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И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187280" y="4581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50920" y="4869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50920" y="5229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5092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льз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042920" y="6021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Трехм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4200" y="285840"/>
            <a:ext cx="47865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11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 плачет мелкими слезинками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нул зонтик в девичьей рук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и тают маленькими льдинками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ленно сползая по щеке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пошел, торопятся прохожи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а черным вороном парит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ли мгновения негожие-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гром раскатом говорит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заблестели, как зеркальны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венели в стоках ручейки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и с неба падают хрустальны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аясь, с дрожью, в пузырьки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 затянуло, дождь усилился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уже не виден горизонт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году ветер чуть обиделся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в в порыве яром зонт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 чист, озоном не надышишься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вдох, кружится голова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рном стуке песня дождя слышится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лестит под каплями тра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2160" indent="11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Задорож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2160" indent="1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1" descr="http://imgc.allpostersimages.com/images/P-473-488-90/12/1291/631O000Z/poster/jessie-willcox-smith-good-housekeeping-april-1922.jpg"/>
          <p:cNvPicPr/>
          <p:nvPr/>
        </p:nvPicPr>
        <p:blipFill>
          <a:blip r:embed="rId1"/>
          <a:srcRect l="5796" t="15373" r="9147" b="6250"/>
          <a:stretch/>
        </p:blipFill>
        <p:spPr>
          <a:xfrm>
            <a:off x="4643280" y="1714680"/>
            <a:ext cx="3857760" cy="4825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71960" y="214200"/>
            <a:ext cx="48578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84807"/>
                </a:solidFill>
                <a:latin typeface="Calibri"/>
              </a:rPr>
              <a:t>Прочитай стихотворение. Какие ощущения автора позволили так подробно описать дожд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Информацию об окружающем мире мы получаем с помощью 5 чувств…"/>
          <p:cNvPicPr/>
          <p:nvPr/>
        </p:nvPicPr>
        <p:blipFill>
          <a:blip r:embed="rId2"/>
          <a:srcRect l="0" t="14583" r="0" b="0"/>
          <a:stretch/>
        </p:blipFill>
        <p:spPr>
          <a:xfrm>
            <a:off x="395280" y="333360"/>
            <a:ext cx="84758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2" descr=""/>
          <p:cNvPicPr/>
          <p:nvPr/>
        </p:nvPicPr>
        <p:blipFill>
          <a:blip r:embed="rId1"/>
          <a:stretch/>
        </p:blipFill>
        <p:spPr>
          <a:xfrm>
            <a:off x="457200" y="1427040"/>
            <a:ext cx="8229600" cy="469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357200" y="3429000"/>
            <a:ext cx="66312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Содержимое 2"/>
          <p:cNvSpPr/>
          <p:nvPr/>
        </p:nvSpPr>
        <p:spPr>
          <a:xfrm>
            <a:off x="179280" y="1197000"/>
            <a:ext cx="8715600" cy="53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00" y="157176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вторить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нят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учить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рок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987640" y="1484280"/>
            <a:ext cx="492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  <a:ea typeface="Arial"/>
              </a:rPr>
              <a:t>как человек познает окружающий м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916360" y="4437000"/>
            <a:ext cx="578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  <a:ea typeface="Arial"/>
              </a:rPr>
              <a:t>приводить примеры понятий, суждений, умозаключ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2916360" y="2708280"/>
            <a:ext cx="59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  <a:ea typeface="Arial"/>
              </a:rPr>
              <a:t>что такое ощущение, восприятие и предст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79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39528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Как человек воспринимает окружающий ми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95280" y="1268280"/>
            <a:ext cx="8305920" cy="703800"/>
          </a:xfrm>
          <a:prstGeom prst="rect">
            <a:avLst/>
          </a:prstGeom>
          <a:solidFill>
            <a:srgbClr val="a7d2df"/>
          </a:solidFill>
          <a:ln w="9360">
            <a:solidFill>
              <a:srgbClr val="275c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Из окружающего мира идёт приём сигналов (приём информации) об объектах через органы чув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395280" y="2133720"/>
            <a:ext cx="8412120" cy="825480"/>
            <a:chOff x="395280" y="2133720"/>
            <a:chExt cx="8412120" cy="82548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213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5"/>
            <p:cNvSpPr/>
            <p:nvPr/>
          </p:nvSpPr>
          <p:spPr>
            <a:xfrm>
              <a:off x="1187280" y="21337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с помощью глаз информация воспринимается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в форме зрительных образов</a:t>
              </a: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 (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0%</a:t>
              </a: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"/>
          <p:cNvGrpSpPr/>
          <p:nvPr/>
        </p:nvGrpSpPr>
        <p:grpSpPr>
          <a:xfrm>
            <a:off x="395280" y="2852640"/>
            <a:ext cx="8305920" cy="977760"/>
            <a:chOff x="395280" y="2852640"/>
            <a:chExt cx="8305920" cy="977760"/>
          </a:xfrm>
        </p:grpSpPr>
        <p:pic>
          <p:nvPicPr>
            <p:cNvPr id="88" name="Picture 7" descr=""/>
            <p:cNvPicPr/>
            <p:nvPr/>
          </p:nvPicPr>
          <p:blipFill>
            <a:blip r:embed="rId2"/>
            <a:stretch/>
          </p:blipFill>
          <p:spPr>
            <a:xfrm>
              <a:off x="395280" y="2852640"/>
              <a:ext cx="57960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8"/>
            <p:cNvSpPr/>
            <p:nvPr/>
          </p:nvSpPr>
          <p:spPr>
            <a:xfrm>
              <a:off x="1081080" y="30049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с помощью органов слуха воспринимаются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звуки – речь, музыка, шум и т.д.</a:t>
              </a: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 (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%</a:t>
              </a: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9"/>
          <p:cNvGrpSpPr/>
          <p:nvPr/>
        </p:nvGrpSpPr>
        <p:grpSpPr>
          <a:xfrm>
            <a:off x="395280" y="3789360"/>
            <a:ext cx="7086600" cy="901800"/>
            <a:chOff x="395280" y="3789360"/>
            <a:chExt cx="7086600" cy="901800"/>
          </a:xfrm>
        </p:grpSpPr>
        <p:pic>
          <p:nvPicPr>
            <p:cNvPr id="91" name="Picture 10" descr=""/>
            <p:cNvPicPr/>
            <p:nvPr/>
          </p:nvPicPr>
          <p:blipFill>
            <a:blip r:embed="rId3"/>
            <a:stretch/>
          </p:blipFill>
          <p:spPr>
            <a:xfrm>
              <a:off x="395280" y="3789360"/>
              <a:ext cx="6224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1"/>
            <p:cNvSpPr/>
            <p:nvPr/>
          </p:nvSpPr>
          <p:spPr>
            <a:xfrm>
              <a:off x="1081080" y="3865680"/>
              <a:ext cx="640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с помощью специальных рецепторов носа воспринимаются 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запах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2"/>
          <p:cNvGrpSpPr/>
          <p:nvPr/>
        </p:nvGrpSpPr>
        <p:grpSpPr>
          <a:xfrm>
            <a:off x="324000" y="4581360"/>
            <a:ext cx="7696080" cy="977760"/>
            <a:chOff x="324000" y="4581360"/>
            <a:chExt cx="7696080" cy="977760"/>
          </a:xfrm>
        </p:grpSpPr>
        <p:pic>
          <p:nvPicPr>
            <p:cNvPr id="94" name="Picture 13" descr=""/>
            <p:cNvPicPr/>
            <p:nvPr/>
          </p:nvPicPr>
          <p:blipFill>
            <a:blip r:embed="rId4"/>
            <a:stretch/>
          </p:blipFill>
          <p:spPr>
            <a:xfrm>
              <a:off x="324000" y="4581360"/>
              <a:ext cx="74304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4"/>
            <p:cNvSpPr/>
            <p:nvPr/>
          </p:nvSpPr>
          <p:spPr>
            <a:xfrm>
              <a:off x="1162080" y="473364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рецепторы языка позволяют различить 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сладкое, соленое, кислое и горьк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5"/>
          <p:cNvGrpSpPr/>
          <p:nvPr/>
        </p:nvGrpSpPr>
        <p:grpSpPr>
          <a:xfrm>
            <a:off x="250920" y="5300640"/>
            <a:ext cx="8229600" cy="1267200"/>
            <a:chOff x="250920" y="5300640"/>
            <a:chExt cx="8229600" cy="1267200"/>
          </a:xfrm>
        </p:grpSpPr>
        <p:pic>
          <p:nvPicPr>
            <p:cNvPr id="97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5300640"/>
              <a:ext cx="128592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7"/>
            <p:cNvSpPr/>
            <p:nvPr/>
          </p:nvSpPr>
          <p:spPr>
            <a:xfrm>
              <a:off x="1470240" y="5376600"/>
              <a:ext cx="7010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рецепторы кожи позволяют получить информацию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о температуре объектов и типе их поверхности (гладкая, шершавая и т.д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8"/>
          <p:cNvGrpSpPr/>
          <p:nvPr/>
        </p:nvGrpSpPr>
        <p:grpSpPr>
          <a:xfrm>
            <a:off x="8101080" y="4437000"/>
            <a:ext cx="760320" cy="1903320"/>
            <a:chOff x="8101080" y="4437000"/>
            <a:chExt cx="760320" cy="1903320"/>
          </a:xfrm>
        </p:grpSpPr>
        <p:sp>
          <p:nvSpPr>
            <p:cNvPr id="100" name="AutoShape 19"/>
            <p:cNvSpPr/>
            <p:nvPr/>
          </p:nvSpPr>
          <p:spPr>
            <a:xfrm>
              <a:off x="8101080" y="4437000"/>
              <a:ext cx="380160" cy="1903320"/>
            </a:xfrm>
            <a:custGeom>
              <a:avLst/>
              <a:gdLst>
                <a:gd name="textAreaLeft" fmla="*/ 0 w 380160"/>
                <a:gd name="textAreaRight" fmla="*/ 137160 w 380160"/>
                <a:gd name="textAreaTop" fmla="*/ 49320 h 1903320"/>
                <a:gd name="textAreaBottom" fmla="*/ 1854000 h 19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0"/>
            <p:cNvSpPr/>
            <p:nvPr/>
          </p:nvSpPr>
          <p:spPr>
            <a:xfrm>
              <a:off x="8405280" y="5198400"/>
              <a:ext cx="45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1"/>
          <p:cNvSpPr/>
          <p:nvPr/>
        </p:nvSpPr>
        <p:spPr>
          <a:xfrm>
            <a:off x="8077320" y="152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ур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206064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Comic Sans MS"/>
              </a:rPr>
              <a:t>«Проверь себя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5280" y="1268280"/>
          <a:ext cx="8458200" cy="3108600"/>
        </p:xfrm>
        <a:graphic>
          <a:graphicData uri="http://schemas.openxmlformats.org/drawingml/2006/table">
            <a:tbl>
              <a:tblPr/>
              <a:tblGrid>
                <a:gridCol w="1440000"/>
                <a:gridCol w="1647720"/>
                <a:gridCol w="1789200"/>
                <a:gridCol w="1881000"/>
                <a:gridCol w="170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Зр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Обоня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Осяз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Слу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Вк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р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еж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ерша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ом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д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т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ска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яг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тми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с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уск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с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к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ипл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л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ет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хл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лод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об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ст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ь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324000" y="333360"/>
            <a:ext cx="8208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Как происходит чувственное позн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395280" y="907920"/>
            <a:ext cx="8305920" cy="825480"/>
          </a:xfrm>
          <a:prstGeom prst="rect">
            <a:avLst/>
          </a:prstGeom>
          <a:solidFill>
            <a:srgbClr val="a7d2df"/>
          </a:solidFill>
          <a:ln w="9360">
            <a:solidFill>
              <a:srgbClr val="275c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Отдельные свойства объектов окружающего мира вызывают у челове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ощущения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3505320" y="2759040"/>
            <a:ext cx="685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116000" y="4221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сочный, кислый, слад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247680" y="4465800"/>
            <a:ext cx="743040" cy="636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182600" y="3673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арома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18960" y="3673440"/>
            <a:ext cx="622440" cy="533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039680" y="23050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зелёный, овальный, глад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247680" y="23781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324000" y="18446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33"/>
                </a:solidFill>
                <a:uFillTx/>
                <a:latin typeface="Times New Roman"/>
                <a:ea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 Михайловна</dc:creator>
  <dc:description/>
  <dc:language>en-US</dc:language>
  <cp:lastModifiedBy>Windows User</cp:lastModifiedBy>
  <dcterms:modified xsi:type="dcterms:W3CDTF">2020-04-04T01:25:21Z</dcterms:modified>
  <cp:revision>40</cp:revision>
  <dc:subject/>
  <dc:title>Слайд 1</dc:title>
</cp:coreProperties>
</file>