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505-2286-4553-825E-D8FCEA6B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974-52A6-4AB8-BCBB-EC520F52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74F-02B0-4F3A-B4ED-365D5DB4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90B-8D19-4DEB-B83E-30BFF332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55B-7847-4508-85B4-A2F20871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5E6D-9CCA-443E-A044-355ECE91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82D-91D2-4272-9556-AC4EFDC1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76D-8731-4AF9-A3AD-834A16A6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3907-81ED-427C-B7D5-61589E08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129-6E63-48CA-BD88-C2F9B255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3029-BC72-4F16-BB30-FFA6178D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AA1-0A3D-412B-9257-F9668DBC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4891-9066-46AD-9047-5BF66A6611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267920"/>
            <a:ext cx="718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«Труд человека кормит,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91800">
            <a:off x="475920" y="4220640"/>
            <a:ext cx="53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Arial"/>
              </a:rPr>
              <a:t>а лень — портит»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865200">
            <a:off x="2633760" y="5444640"/>
            <a:ext cx="56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наберешь кузово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5400">
            <a:off x="1701360" y="2707920"/>
            <a:ext cx="65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«Собирай по ягодке 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Собери половинк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3640" y="1209600"/>
            <a:ext cx="6807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«Труд человека корми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а лень — портит»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3399"/>
                </a:solidFill>
                <a:latin typeface="Arial"/>
              </a:rPr>
              <a:t>«Собирай по ягодке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99"/>
                </a:solidFill>
                <a:latin typeface="Arial"/>
              </a:rPr>
              <a:t>наберешь кузов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39640" y="508356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О чем все эти пословиц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708000" y="404280"/>
            <a:ext cx="51116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рис Викторович Шергин - русский писатель. Родился в 1896г, в г.Архангельске. Там же провел детство и юность. Отец будущего писателя был кораблестроителем. Маму свою Борис называл «хранительницей слова» - за то, что она рассказывала ему былины. Борис Викторович с детских лет хорошо рисовал. В дальнейшем, окончив художественное училище, многие свои книги оформлял сам. Умер писатель в 1973 году, похоронен в городе Архангельске, там же установлен ему памятник и названа библиотека его име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PC\Downloads\000000.jpg"/>
          <p:cNvPicPr/>
          <p:nvPr/>
        </p:nvPicPr>
        <p:blipFill>
          <a:blip r:embed="rId1"/>
          <a:stretch/>
        </p:blipFill>
        <p:spPr>
          <a:xfrm>
            <a:off x="0" y="692280"/>
            <a:ext cx="4125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781200" y="353880"/>
            <a:ext cx="8216640" cy="1608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8876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Академия</a:t>
            </a:r>
            <a:r>
              <a:rPr b="1" lang="en-US" sz="3200" spc="-1" strike="noStrike">
                <a:solidFill>
                  <a:srgbClr val="271d1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– высшее учре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Вылощил волчьим зубом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– натёр до                                                             бле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Паркетчик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 – мастер, который составляет из дощечек уз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2050920" y="4437000"/>
            <a:ext cx="29005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4T11:08:19Z</dcterms:created>
  <dc:creator>Пользователь Windows</dc:creator>
  <dc:description/>
  <dc:language>en-US</dc:language>
  <cp:lastModifiedBy>Пользователь Windows</cp:lastModifiedBy>
  <dcterms:modified xsi:type="dcterms:W3CDTF">2020-04-04T12:18:10Z</dcterms:modified>
  <cp:revision>3</cp:revision>
  <dc:subject/>
  <dc:title>Слайд 1</dc:title>
</cp:coreProperties>
</file>