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FE0-B84E-4689-9097-9A81D897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A24-ED0C-4C50-B4E7-B28717B7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F39-05A3-4F4B-84B2-B2DB3B11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6E6-F7F3-4366-BF78-383B25A8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D52-75B7-4E28-9691-1EC12492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07E-3397-47B8-842E-D613510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DD2-A02B-4071-92B5-694BBD0B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B2E-66F3-47DA-9F67-0CC53EC5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B69-9CDC-4DF1-B408-A343D1FC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AD9-FCCF-4DBE-8985-72A77AE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125-B3F3-4D82-9486-EB5BE21C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4B0-005F-4C7A-AAF5-01CAB14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F288-C591-47CC-ABFE-23C38A4D3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26792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«Труд человека кормит,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91800">
            <a:off x="475920" y="4220640"/>
            <a:ext cx="53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а лень — портит»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865200">
            <a:off x="2633760" y="5444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наберешь кузов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5400">
            <a:off x="1701360" y="2707920"/>
            <a:ext cx="65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«Собирай по ягодке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Собери половинк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3640" y="1209600"/>
            <a:ext cx="6807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«Труд человека корм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а лень — портит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3399"/>
                </a:solidFill>
                <a:latin typeface="Arial"/>
              </a:rPr>
              <a:t>«Собирай по ягодк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Arial"/>
              </a:rPr>
              <a:t>наберешь кузов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39640" y="50835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О чем все эти пословиц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08000" y="404280"/>
            <a:ext cx="5111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Викторович Шергин - русский писатель. Родился в 1896г, в г.Архангельске. Там же провел детство и юность. Отец будущего писателя был кораблестроителем. Маму свою Борис называл «хранительницей слова» - за то, что она рассказывала ему былины. Борис Викторович с детских лет хорошо рисовал. В дальнейшем, окончив художественное училище, многие свои книги оформлял сам. Умер писатель в 1973 году, похоронен в городе Архангельске, там же установлен ему памятник и названа библиотека его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PC\Downloads\000000.jpg"/>
          <p:cNvPicPr/>
          <p:nvPr/>
        </p:nvPicPr>
        <p:blipFill>
          <a:blip r:embed="rId1"/>
          <a:stretch/>
        </p:blipFill>
        <p:spPr>
          <a:xfrm>
            <a:off x="0" y="692280"/>
            <a:ext cx="41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8216640" cy="160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8876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r>
              <a:rPr b="1" lang="en-US" sz="3200" spc="-1" strike="noStrike">
                <a:solidFill>
                  <a:srgbClr val="271d1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– высшее учре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Вылощил волчьим зубом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– натёр до                                                             бле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аркетчик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– мастер, который составляет из дощечек уз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29005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1:08:19Z</dcterms:created>
  <dc:creator>Пользователь Windows</dc:creator>
  <dc:description/>
  <dc:language>en-US</dc:language>
  <cp:lastModifiedBy>Пользователь Windows</cp:lastModifiedBy>
  <dcterms:modified xsi:type="dcterms:W3CDTF">2020-04-04T12:18:10Z</dcterms:modified>
  <cp:revision>3</cp:revision>
  <dc:subject/>
  <dc:title>Слайд 1</dc:title>
</cp:coreProperties>
</file>