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0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2D01-DA77-4C32-9AC6-25C478B5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481-6057-4BBD-ABB4-DAA7DB96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26E-BA2A-483B-8C9D-7B102F87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96B4-B882-44DA-8F1B-D0CB8EC6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8C6A-2CF4-4D51-8383-AFCE7489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FFC5-F7C2-46E0-A568-D37F2EF7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D7AB-C209-4D8F-AD47-2460A3F1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51E-54AE-4585-8012-8D609DB5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D334-FA30-4F73-AEA7-4D66F8C0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C0F1-6AE9-420B-8456-8A46DD4B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4F1F-FCF3-446A-93F0-881A7CA9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295-DDE0-40FD-BCC4-1CC828C0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678C-39D1-4A04-92CC-BB75605229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ealth.sarbc.ru/UserFiles/Image/mama/24307179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714680" y="0"/>
            <a:ext cx="6426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stem_leaf.png"/>
          <p:cNvPicPr/>
          <p:nvPr/>
        </p:nvPicPr>
        <p:blipFill>
          <a:blip r:embed="rId2"/>
          <a:stretch/>
        </p:blipFill>
        <p:spPr>
          <a:xfrm>
            <a:off x="5999040" y="2073240"/>
            <a:ext cx="2413080" cy="4552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0" descr="daisy.png"/>
          <p:cNvPicPr/>
          <p:nvPr/>
        </p:nvPicPr>
        <p:blipFill>
          <a:blip r:embed="rId3"/>
          <a:srcRect l="0" t="0" r="0" b="3701"/>
          <a:stretch/>
        </p:blipFill>
        <p:spPr>
          <a:xfrm>
            <a:off x="5786280" y="2000160"/>
            <a:ext cx="2986200" cy="462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680" y="1125360"/>
            <a:ext cx="7772400" cy="165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Учимся произносить </a:t>
            </a: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звук 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«Ш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Учитель-логопе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Задорожная Т.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Group 2"/>
          <p:cNvGrpSpPr/>
          <p:nvPr/>
        </p:nvGrpSpPr>
        <p:grpSpPr>
          <a:xfrm>
            <a:off x="6858000" y="3214800"/>
            <a:ext cx="747720" cy="745920"/>
            <a:chOff x="6858000" y="3214800"/>
            <a:chExt cx="747720" cy="745920"/>
          </a:xfrm>
        </p:grpSpPr>
        <p:sp>
          <p:nvSpPr>
            <p:cNvPr id="47" name="Oval 3"/>
            <p:cNvSpPr/>
            <p:nvPr/>
          </p:nvSpPr>
          <p:spPr>
            <a:xfrm>
              <a:off x="6858000" y="3214800"/>
              <a:ext cx="747720" cy="74592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4"/>
            <p:cNvSpPr/>
            <p:nvPr/>
          </p:nvSpPr>
          <p:spPr>
            <a:xfrm>
              <a:off x="6905520" y="3262680"/>
              <a:ext cx="651600" cy="650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1" descr="ladybug.png"/>
          <p:cNvPicPr/>
          <p:nvPr/>
        </p:nvPicPr>
        <p:blipFill>
          <a:blip r:embed="rId4"/>
          <a:stretch/>
        </p:blipFill>
        <p:spPr>
          <a:xfrm>
            <a:off x="7524720" y="2492280"/>
            <a:ext cx="1015920" cy="94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stem_leaf_2.png"/>
          <p:cNvPicPr/>
          <p:nvPr/>
        </p:nvPicPr>
        <p:blipFill>
          <a:blip r:embed="rId5"/>
          <a:stretch/>
        </p:blipFill>
        <p:spPr>
          <a:xfrm>
            <a:off x="212760" y="3786120"/>
            <a:ext cx="1427040" cy="2859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daisy_1.png"/>
          <p:cNvPicPr/>
          <p:nvPr/>
        </p:nvPicPr>
        <p:blipFill>
          <a:blip r:embed="rId6"/>
          <a:stretch/>
        </p:blipFill>
        <p:spPr>
          <a:xfrm>
            <a:off x="214200" y="3929040"/>
            <a:ext cx="1613160" cy="269388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6"/>
          <p:cNvGrpSpPr/>
          <p:nvPr/>
        </p:nvGrpSpPr>
        <p:grpSpPr>
          <a:xfrm>
            <a:off x="928800" y="4500720"/>
            <a:ext cx="457200" cy="457200"/>
            <a:chOff x="928800" y="4500720"/>
            <a:chExt cx="457200" cy="457200"/>
          </a:xfrm>
        </p:grpSpPr>
        <p:sp>
          <p:nvSpPr>
            <p:cNvPr id="53" name="Oval 7"/>
            <p:cNvSpPr/>
            <p:nvPr/>
          </p:nvSpPr>
          <p:spPr>
            <a:xfrm>
              <a:off x="928800" y="4500720"/>
              <a:ext cx="457200" cy="45720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>
              <a:off x="977760" y="4549680"/>
              <a:ext cx="358920" cy="35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Picture 1" descr="ladybug.png"/>
          <p:cNvPicPr/>
          <p:nvPr/>
        </p:nvPicPr>
        <p:blipFill>
          <a:blip r:embed="rId7"/>
          <a:stretch/>
        </p:blipFill>
        <p:spPr>
          <a:xfrm rot="9757200">
            <a:off x="207720" y="351000"/>
            <a:ext cx="698400" cy="60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Вкусное варенье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ыбнуться, открыть рот и языком в форме «чашечки» облизать верхнюю губу. Движения  направлены сверху вниз. Можно продолжить движение и убрать язык в рот, не разрушая «чашечки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будто варенье лежит на губе 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ижу его «чашечкой» в ротик себ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артикуляционная гимнастика (вкусное варенье)"/>
          <p:cNvPicPr/>
          <p:nvPr/>
        </p:nvPicPr>
        <p:blipFill>
          <a:blip r:embed="rId1"/>
          <a:stretch/>
        </p:blipFill>
        <p:spPr>
          <a:xfrm>
            <a:off x="4572000" y="3068640"/>
            <a:ext cx="3313080" cy="324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SWScan00008"/>
          <p:cNvPicPr/>
          <p:nvPr/>
        </p:nvPicPr>
        <p:blipFill>
          <a:blip r:embed="rId2"/>
          <a:stretch/>
        </p:blipFill>
        <p:spPr>
          <a:xfrm>
            <a:off x="826920" y="2997360"/>
            <a:ext cx="3168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3348000" y="3357720"/>
            <a:ext cx="5327640" cy="31701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395280" y="902160"/>
            <a:ext cx="83534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Ступеньк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Чередование «Чашечка» на верхней губ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Чашечка» на верхних зубах – «Чашечка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верху за зуб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ыбнуться, открыть рот, установить язык в форме чашечки на верхней губе, затем перевести «чашечку» на верхние зубы, а затем за верхние зубы. Удерживать в каж­дом положении 3—5 секун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верхнюю губ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верхние зуб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 зубки скачок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 рту языч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Не разбей «чашечку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ать языку форму чашечки и двигать его: выдвигать вперёд и убирать обратно в рот. Удерживать язык снаружи и внутри по 3-5 секунд, не разрушая «чашечк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ироко открыт мой ро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дит «чашка» взад-вперё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47640" y="3213000"/>
            <a:ext cx="2435400" cy="3143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2448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аляр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ыбнуться, открыть рот. Широким кончиком языка погладить нёбо от зубов к горлу. Нижняя челюсть не должна двигать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работаем с утр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асить потолок пор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юсть ниже опуст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зык к нёбу подни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оди вперёд-назад 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ш маляр работе ра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сть «вперед»- «назад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артикуляционная гимнастика (маляр)"/>
          <p:cNvPicPr/>
          <p:nvPr/>
        </p:nvPicPr>
        <p:blipFill>
          <a:blip r:embed="rId1"/>
          <a:stretch/>
        </p:blipFill>
        <p:spPr>
          <a:xfrm>
            <a:off x="4211640" y="2133720"/>
            <a:ext cx="3745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91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Лошадка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ыбнуться, широко открыть рот пощелкать кончиком языка наверху. Ускоряем темп. Следить за тем, чтобы нижняя челюсть не двигалас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т широко открыва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нёбу язык прижима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ыгает вниз язычо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раздаётся щелч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дим, едим на лошадк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дороге ровной, гладко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ок, цок, ц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артикуляционная гимнастика (лошадка)"/>
          <p:cNvPicPr/>
          <p:nvPr/>
        </p:nvPicPr>
        <p:blipFill>
          <a:blip r:embed="rId1"/>
          <a:stretch/>
        </p:blipFill>
        <p:spPr>
          <a:xfrm>
            <a:off x="4788000" y="2205000"/>
            <a:ext cx="38163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Грибок»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лыбнуться, присосать язык к небу, чтобы подъязычная связка натянулась («ножка гриба»). Удерживать в таком положении язык в течение 5-10 минут. Если  так сделать не удается, то вернитесь к упражнению «лошадк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ироко открою ро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то щёлкну я вот-во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сосу язык на нёб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юсть вниз — и вся учёб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артикуляционная гимнастика (грибок)"/>
          <p:cNvPicPr/>
          <p:nvPr/>
        </p:nvPicPr>
        <p:blipFill>
          <a:blip r:embed="rId1"/>
          <a:stretch/>
        </p:blipFill>
        <p:spPr>
          <a:xfrm>
            <a:off x="4716360" y="2421000"/>
            <a:ext cx="3372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Гармошка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ть это упражнение можно после того, как удается удержать язык в положении «грибок» . В положении «грибок» открывать и закрывать рот (как растягиваются меха гармошки)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сосу язык на нёбо,                  На гармошке я играю,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теперь смотрите в оба.              Рот пошире открываю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дит челюсть вверх и вниз -     К небу язычок прижм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 нее такой круиз.                           Ниже челюсть отве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артикуляционная гимнастика (грибок)"/>
          <p:cNvPicPr/>
          <p:nvPr/>
        </p:nvPicPr>
        <p:blipFill>
          <a:blip r:embed="rId1"/>
          <a:stretch/>
        </p:blipFill>
        <p:spPr>
          <a:xfrm>
            <a:off x="395280" y="3573360"/>
            <a:ext cx="2735280" cy="2808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2987640" y="3645000"/>
            <a:ext cx="3384720" cy="244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FB75270"/>
          <p:cNvPicPr/>
          <p:nvPr/>
        </p:nvPicPr>
        <p:blipFill>
          <a:blip r:embed="rId3"/>
          <a:stretch/>
        </p:blipFill>
        <p:spPr>
          <a:xfrm>
            <a:off x="6443640" y="4076640"/>
            <a:ext cx="244944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остановка звука «Ш» по подражани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бенок поднимает язык в «чашечку». Губы при этом вытянуты вперед, рот приоткрыт. Логопед предлагает подуть на язычок. Получается звук /Ш/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данный способ не помогает, прибегаем к механической постановке звука /Ш/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5_1247742416"/>
          <p:cNvPicPr/>
          <p:nvPr/>
        </p:nvPicPr>
        <p:blipFill>
          <a:blip r:embed="rId1"/>
          <a:stretch/>
        </p:blipFill>
        <p:spPr>
          <a:xfrm>
            <a:off x="4572000" y="2492280"/>
            <a:ext cx="216072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шумят листья на деревьях?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инает дуть ветер и колышет верхушки деревьев, а они качаются и шумят: ш-ш-ш-ш. Встаньте и поднимите руки вверх, руки - это веточки деревьев. Качайте руками из стороны в сторону сначала медленно (дует легкий ветерок) и тихо говорите ш-ш-ш-ш-ш, потом сильнее качайте руками (подул сильный ветер) и громче говорите  ш-ш-ш-ш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шипит змея? - ш-ш-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sound-sch-02"/>
          <p:cNvPicPr/>
          <p:nvPr/>
        </p:nvPicPr>
        <p:blipFill>
          <a:blip r:embed="rId1"/>
          <a:stretch/>
        </p:blipFill>
        <p:spPr>
          <a:xfrm>
            <a:off x="5003640" y="2421000"/>
            <a:ext cx="34452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6" descr="бабка1.gif"/>
          <p:cNvPicPr/>
          <p:nvPr/>
        </p:nvPicPr>
        <p:blipFill>
          <a:blip r:embed="rId1"/>
          <a:stretch/>
        </p:blipFill>
        <p:spPr>
          <a:xfrm>
            <a:off x="571680" y="571680"/>
            <a:ext cx="2247840" cy="17856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5"/>
          <p:cNvSpPr txBox="1"/>
          <p:nvPr/>
        </p:nvSpPr>
        <p:spPr>
          <a:xfrm>
            <a:off x="755640" y="2565360"/>
            <a:ext cx="799164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6" name="Picture 7" descr="iCAN9VSW0"/>
          <p:cNvPicPr/>
          <p:nvPr/>
        </p:nvPicPr>
        <p:blipFill>
          <a:blip r:embed="rId2"/>
          <a:stretch/>
        </p:blipFill>
        <p:spPr>
          <a:xfrm>
            <a:off x="6372360" y="4149720"/>
            <a:ext cx="23032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1880" y="785880"/>
            <a:ext cx="5486400" cy="35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Артикуляционный уклад зву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080" y="2143080"/>
            <a:ext cx="663732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чик языка поднят к передней части нёба (у альвеол), но не прижат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ковые края языка прилегают к верхним коренным зуба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убы округлены и выдвинуты вперед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убы сближе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6" descr="бабка1.gif"/>
          <p:cNvPicPr/>
          <p:nvPr/>
        </p:nvPicPr>
        <p:blipFill>
          <a:blip r:embed="rId1"/>
          <a:stretch/>
        </p:blipFill>
        <p:spPr>
          <a:xfrm>
            <a:off x="571680" y="571680"/>
            <a:ext cx="2247840" cy="17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уемая литератур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гомолова А.И. Логопедическое пособие для занятий с детьми. – ТОО «Издательство «Библиополис». СПб., 1994.208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пенчук О.И., Воробьева Т.А. Исправляем произношение: Комплексная методика коррекции артикуляционных расстройств. – СПб.: Издательский Дом «Литера», 2009.-96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Comic Sans MS"/>
              </a:rPr>
              <a:t>Подготовительные</a:t>
            </a:r>
            <a:r>
              <a:rPr b="0" lang="ru-RU" sz="39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900" spc="-1" strike="noStrike">
                <a:solidFill>
                  <a:srgbClr val="ff0000"/>
                </a:solidFill>
                <a:latin typeface="Comic Sans MS"/>
              </a:rPr>
              <a:t>упражнения: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Упражнения для губ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Лягушка-Хобот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яну я как лягушка,                  Подражаю я слон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и губы прямо к ушкам.           Губы хоботом тя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Бублик». Зубы сомкнуты. Губы округлены и чуть вытянуты вперед. Верхние и нижние резцы вид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Зам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артикуляционная гимнастика (улыбка)"/>
          <p:cNvPicPr/>
          <p:nvPr/>
        </p:nvPicPr>
        <p:blipFill>
          <a:blip r:embed="rId1"/>
          <a:stretch/>
        </p:blipFill>
        <p:spPr>
          <a:xfrm>
            <a:off x="971640" y="2781360"/>
            <a:ext cx="2160360" cy="216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артикуляционная гимнастика трубочка"/>
          <p:cNvPicPr/>
          <p:nvPr/>
        </p:nvPicPr>
        <p:blipFill>
          <a:blip r:embed="rId2"/>
          <a:stretch/>
        </p:blipFill>
        <p:spPr>
          <a:xfrm>
            <a:off x="5219640" y="2781360"/>
            <a:ext cx="22208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Упражнения для развития дых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руглить губы и, вдохнув, равномерно, с силой, выдыхать воздух. Контроль упражнения ладонью руки – ощущается тёплая стру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Картинка 1 из 318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3068640"/>
            <a:ext cx="1915920" cy="201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i?id=147245290-28-72"/>
          <p:cNvPicPr/>
          <p:nvPr/>
        </p:nvPicPr>
        <p:blipFill>
          <a:blip r:embed="rId3"/>
          <a:stretch/>
        </p:blipFill>
        <p:spPr>
          <a:xfrm>
            <a:off x="5219640" y="3068640"/>
            <a:ext cx="2665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Упражнения для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казать непослушный язычок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много приоткрыть рот, спокойно положить язык на нижнюю губу и, пошлёпывая его губами, произносить звуки: пя-пя-пя. Удерживать язык в спокойном положении, при открытом рте под счет от 1 до 5-10 или под стиш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опки в ладош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артикуляционная гимнастика (непослушный язычок)"/>
          <p:cNvPicPr/>
          <p:nvPr/>
        </p:nvPicPr>
        <p:blipFill>
          <a:blip r:embed="rId1"/>
          <a:stretch/>
        </p:blipFill>
        <p:spPr>
          <a:xfrm>
            <a:off x="3059280" y="3284640"/>
            <a:ext cx="29383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Сделать язык широким»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ыбнуться, приоткрыть рот, положить широкий передний край языка на нижнюю губу. Удерживать его в таком положении под счет от 1 до 5-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ерёк улыбки ле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ыхает языч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донь положить тыльной сторо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артикуляционная гимнастика (лопаточка)"/>
          <p:cNvPicPr/>
          <p:nvPr/>
        </p:nvPicPr>
        <p:blipFill>
          <a:blip r:embed="rId1"/>
          <a:stretch/>
        </p:blipFill>
        <p:spPr>
          <a:xfrm>
            <a:off x="3851280" y="2205000"/>
            <a:ext cx="3871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5414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Чистим верхние зубы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с внутренней стороны)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ыбнуться, открыть рот и широким языком «почистить» верхние зубы с внут­ренней стороны, делая движения из стороны в сторо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убы верхние — смотр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щу «чашкой» изнутр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ищу зуб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ищу зубы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внутри.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болели,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темнели,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желте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б он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Греем ладош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артикуляционная гимнастика (чистим верхние зубы)"/>
          <p:cNvPicPr/>
          <p:nvPr/>
        </p:nvPicPr>
        <p:blipFill>
          <a:blip r:embed="rId1"/>
          <a:stretch/>
        </p:blipFill>
        <p:spPr>
          <a:xfrm>
            <a:off x="324000" y="2924280"/>
            <a:ext cx="3095640" cy="3065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5580000" y="2997360"/>
            <a:ext cx="321480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Фокус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ить на самый кончик носа маленький кусочек ватки. Язык в форме чашечки плотно примыкает к верхним губам. Нужно сдуть ватку с кончика но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3683160" cy="3949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артикуляционная гимнастика (чашечка)"/>
          <p:cNvPicPr/>
          <p:nvPr/>
        </p:nvPicPr>
        <p:blipFill>
          <a:blip r:embed="rId2"/>
          <a:stretch/>
        </p:blipFill>
        <p:spPr>
          <a:xfrm>
            <a:off x="468360" y="2133720"/>
            <a:ext cx="388764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Чашечка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ыбнуться, открыть рот и установить язык наверху в форме чашки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лыбаюсь, рот откры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м язык уже стои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зубкам подняты края 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т и «чашечка» мо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пражнение с пальчиками «Лукошк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артикуляционная гимнастика (чашечка)"/>
          <p:cNvPicPr/>
          <p:nvPr/>
        </p:nvPicPr>
        <p:blipFill>
          <a:blip r:embed="rId1"/>
          <a:stretch/>
        </p:blipFill>
        <p:spPr>
          <a:xfrm>
            <a:off x="4356000" y="1916280"/>
            <a:ext cx="381636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20-04-04T04:12:18Z</dcterms:modified>
  <cp:revision>13</cp:revision>
  <dc:subject/>
  <dc:title>Постановка звука «Ш»</dc:title>
</cp:coreProperties>
</file>