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F5A-5A96-4082-8E31-30E020D2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FAE-9E95-4608-97D5-257C6358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1F4-56BF-4065-96F5-AE3178A8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07A1-C5BA-4D0F-8814-881BCFE1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6EE-6763-4C0D-98C5-BD44EE2C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D31-3A81-4328-8E7E-3A44CE6D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204-4684-4428-9F1B-4C9E8EA5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22D-8E56-41E7-BC49-B724C9D2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D78-14F6-49AB-93AC-F128C102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748-A373-4934-A7EC-B5D022E3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432-3827-47B4-9786-075AC276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45D-E881-4099-9B12-15EC26D4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912A-4F7B-44A1-9E51-69C9D1F2F2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ealth.sarbc.ru/UserFiles/Image/mama/24307179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14680" y="0"/>
            <a:ext cx="642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stem_leaf.png"/>
          <p:cNvPicPr/>
          <p:nvPr/>
        </p:nvPicPr>
        <p:blipFill>
          <a:blip r:embed="rId2"/>
          <a:stretch/>
        </p:blipFill>
        <p:spPr>
          <a:xfrm>
            <a:off x="5999040" y="2073240"/>
            <a:ext cx="2413080" cy="4552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0" descr="daisy.png"/>
          <p:cNvPicPr/>
          <p:nvPr/>
        </p:nvPicPr>
        <p:blipFill>
          <a:blip r:embed="rId3"/>
          <a:srcRect l="0" t="0" r="0" b="3701"/>
          <a:stretch/>
        </p:blipFill>
        <p:spPr>
          <a:xfrm>
            <a:off x="5786280" y="2000160"/>
            <a:ext cx="2986200" cy="462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1125360"/>
            <a:ext cx="7772400" cy="165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Учимся произносить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звук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«Ш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Задорожная Т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2"/>
          <p:cNvGrpSpPr/>
          <p:nvPr/>
        </p:nvGrpSpPr>
        <p:grpSpPr>
          <a:xfrm>
            <a:off x="6858000" y="3214800"/>
            <a:ext cx="747720" cy="745920"/>
            <a:chOff x="6858000" y="3214800"/>
            <a:chExt cx="747720" cy="745920"/>
          </a:xfrm>
        </p:grpSpPr>
        <p:sp>
          <p:nvSpPr>
            <p:cNvPr id="47" name="Oval 3"/>
            <p:cNvSpPr/>
            <p:nvPr/>
          </p:nvSpPr>
          <p:spPr>
            <a:xfrm>
              <a:off x="6858000" y="321480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4"/>
            <p:cNvSpPr/>
            <p:nvPr/>
          </p:nvSpPr>
          <p:spPr>
            <a:xfrm>
              <a:off x="6905520" y="326268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" descr="ladybug.png"/>
          <p:cNvPicPr/>
          <p:nvPr/>
        </p:nvPicPr>
        <p:blipFill>
          <a:blip r:embed="rId4"/>
          <a:stretch/>
        </p:blipFill>
        <p:spPr>
          <a:xfrm>
            <a:off x="7524720" y="2492280"/>
            <a:ext cx="1015920" cy="9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stem_leaf_2.png"/>
          <p:cNvPicPr/>
          <p:nvPr/>
        </p:nvPicPr>
        <p:blipFill>
          <a:blip r:embed="rId5"/>
          <a:stretch/>
        </p:blipFill>
        <p:spPr>
          <a:xfrm>
            <a:off x="212760" y="3786120"/>
            <a:ext cx="1427040" cy="285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53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1" descr="ladybug.png"/>
          <p:cNvPicPr/>
          <p:nvPr/>
        </p:nvPicPr>
        <p:blipFill>
          <a:blip r:embed="rId7"/>
          <a:stretch/>
        </p:blipFill>
        <p:spPr>
          <a:xfrm rot="9757200">
            <a:off x="207720" y="351000"/>
            <a:ext cx="698400" cy="60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Вкусное варенье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открыть рот и языком в форме «чашечки» облизать верхнюю губу. Движения  направлены сверху вниз. Можно продолжить движение и убрать язык в рот, не разрушая «чашечки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будто варенье лежит на губе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ижу его «чашечкой» в ротик с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артикуляционная гимнастика (вкусное варенье)"/>
          <p:cNvPicPr/>
          <p:nvPr/>
        </p:nvPicPr>
        <p:blipFill>
          <a:blip r:embed="rId1"/>
          <a:stretch/>
        </p:blipFill>
        <p:spPr>
          <a:xfrm>
            <a:off x="4572000" y="3068640"/>
            <a:ext cx="331308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SWScan00008"/>
          <p:cNvPicPr/>
          <p:nvPr/>
        </p:nvPicPr>
        <p:blipFill>
          <a:blip r:embed="rId2"/>
          <a:stretch/>
        </p:blipFill>
        <p:spPr>
          <a:xfrm>
            <a:off x="826920" y="2997360"/>
            <a:ext cx="3168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5327640" cy="3170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902160"/>
            <a:ext cx="8353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Ступеньк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Чередование «Чашечка» на верхней губ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Чашечка» на верхних зубах – «Чашечка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верху за зуб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открыть рот, установить язык в форме чашечки на верхней губе, затем перевести «чашечку» на верхние зубы, а затем за верхние зубы. Удерживать в каж­дом положении 3—5 секу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верхнюю губ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верхние зуб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зубки скачок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рту язы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е разбей «чашечку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ь языку форму чашечки и двигать его: выдвигать вперёд и убирать обратно в рот. Удерживать язык снаружи и внутри по 3-5 секунд, не разрушая «чашечк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ироко открыт мой р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дит «чашка» взад-вперё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2435400" cy="314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аляр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открыть рот. Широким кончиком языка погладить нёбо от зубов к горлу. Нижняя челюсть не должна двиг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работаем с утр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сить потолок пор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юсть ниже опу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 к нёбу подн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оди вперёд-назад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 маляр работе ра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сть «вперед»- «наза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артикуляционная гимнастика (маляр)"/>
          <p:cNvPicPr/>
          <p:nvPr/>
        </p:nvPicPr>
        <p:blipFill>
          <a:blip r:embed="rId1"/>
          <a:stretch/>
        </p:blipFill>
        <p:spPr>
          <a:xfrm>
            <a:off x="4211640" y="213372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Лошадка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широко открыть рот пощелкать кончиком языка наверху. Ускоряем темп. Следить за тем, чтобы нижняя челюсть не двигалас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т широко открыва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нёбу язык прижима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ыгает вниз язычо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раздаётся щелч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дим, едим на лошад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дороге ровной, гладко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ок, цок, ц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артикуляционная гимнастика (лошадка)"/>
          <p:cNvPicPr/>
          <p:nvPr/>
        </p:nvPicPr>
        <p:blipFill>
          <a:blip r:embed="rId1"/>
          <a:stretch/>
        </p:blipFill>
        <p:spPr>
          <a:xfrm>
            <a:off x="4788000" y="2205000"/>
            <a:ext cx="3816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Грибок»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ыбнуться, присосать язык к небу, чтобы подъязычная связка натянулась («ножка гриба»). Удерживать в таком положении язык в течение 5-10 минут. Если  так сделать не удается, то вернитесь к упражнению «лошад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ироко открою р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то щёлкну я вот-во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сосу язык на нёб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юсть вниз — и вся учё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артикуляционная гимнастика (грибок)"/>
          <p:cNvPicPr/>
          <p:nvPr/>
        </p:nvPicPr>
        <p:blipFill>
          <a:blip r:embed="rId1"/>
          <a:stretch/>
        </p:blipFill>
        <p:spPr>
          <a:xfrm>
            <a:off x="4716360" y="2421000"/>
            <a:ext cx="3372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Гармошка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ть это упражнение можно после того, как удается удержать язык в положении «грибок» . В положении «грибок» открывать и закрывать рот (как растягиваются меха гармошки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сосу язык на нёбо,                  На гармошке я играю,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теперь смотрите в оба.              Рот пошире открыва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дит челюсть вверх и вниз -     К небу язычок прижм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нее такой круиз.                           Ниже челюсть отве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артикуляционная гимнастика (грибок)"/>
          <p:cNvPicPr/>
          <p:nvPr/>
        </p:nvPicPr>
        <p:blipFill>
          <a:blip r:embed="rId1"/>
          <a:stretch/>
        </p:blipFill>
        <p:spPr>
          <a:xfrm>
            <a:off x="395280" y="3573360"/>
            <a:ext cx="2735280" cy="280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987640" y="3645000"/>
            <a:ext cx="3384720" cy="244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FB75270"/>
          <p:cNvPicPr/>
          <p:nvPr/>
        </p:nvPicPr>
        <p:blipFill>
          <a:blip r:embed="rId3"/>
          <a:stretch/>
        </p:blipFill>
        <p:spPr>
          <a:xfrm>
            <a:off x="6443640" y="4076640"/>
            <a:ext cx="24494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остановка звука «Ш» по подража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енок поднимает язык в «чашечку». Губы при этом вытянуты вперед, рот приоткрыт. Логопед предлагает подуть на язычок. Получается звук /Ш/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данный способ не помогает, прибегаем к механической постановке звука /Ш/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5_1247742416"/>
          <p:cNvPicPr/>
          <p:nvPr/>
        </p:nvPicPr>
        <p:blipFill>
          <a:blip r:embed="rId1"/>
          <a:stretch/>
        </p:blipFill>
        <p:spPr>
          <a:xfrm>
            <a:off x="4572000" y="2492280"/>
            <a:ext cx="21607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шумят листья на деревьях?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ет дуть ветер и колышет верхушки деревьев, а они качаются и шумят: ш-ш-ш-ш. Встаньте и поднимите руки вверх, руки - это веточки деревьев. Качайте руками из стороны в сторону сначала медленно (дует легкий ветерок) и тихо говорите ш-ш-ш-ш-ш, потом сильнее качайте руками (подул сильный ветер) и громче говорите  ш-ш-ш-ш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шипит змея? - ш-ш-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sound-sch-02"/>
          <p:cNvPicPr/>
          <p:nvPr/>
        </p:nvPicPr>
        <p:blipFill>
          <a:blip r:embed="rId1"/>
          <a:stretch/>
        </p:blipFill>
        <p:spPr>
          <a:xfrm>
            <a:off x="5003640" y="2421000"/>
            <a:ext cx="3445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6" descr="бабка1.gif"/>
          <p:cNvPicPr/>
          <p:nvPr/>
        </p:nvPicPr>
        <p:blipFill>
          <a:blip r:embed="rId1"/>
          <a:stretch/>
        </p:blipFill>
        <p:spPr>
          <a:xfrm>
            <a:off x="571680" y="571680"/>
            <a:ext cx="2247840" cy="1785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755640" y="2565360"/>
            <a:ext cx="799164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Picture 7" descr="iCAN9VSW0"/>
          <p:cNvPicPr/>
          <p:nvPr/>
        </p:nvPicPr>
        <p:blipFill>
          <a:blip r:embed="rId2"/>
          <a:stretch/>
        </p:blipFill>
        <p:spPr>
          <a:xfrm>
            <a:off x="6372360" y="414972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1880" y="785880"/>
            <a:ext cx="548640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Артикуляционный уклад зву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080" y="2143080"/>
            <a:ext cx="663732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чик языка поднят к передней части нёба (у альвеол), но не прижа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ковые края языка прилегают к верхним коренным зуба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убы округлены и выдвинуты впере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убы сближе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бабка1.gif"/>
          <p:cNvPicPr/>
          <p:nvPr/>
        </p:nvPicPr>
        <p:blipFill>
          <a:blip r:embed="rId1"/>
          <a:stretch/>
        </p:blipFill>
        <p:spPr>
          <a:xfrm>
            <a:off x="571680" y="571680"/>
            <a:ext cx="224784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омолова А.И. Логопедическое пособие для занятий с детьми. – ТОО «Издательство «Библиополис». СПб., 1994.208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енчук О.И., Воробьева Т.А. Исправляем произношение: Комплексная методика коррекции артикуляционных расстройств. – СПб.: Издательский Дом «Литера», 2009.-96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mic Sans MS"/>
              </a:rPr>
              <a:t>Подготовительные</a:t>
            </a:r>
            <a:r>
              <a:rPr b="0" lang="ru-RU" sz="39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900" spc="-1" strike="noStrike">
                <a:solidFill>
                  <a:srgbClr val="ff0000"/>
                </a:solidFill>
                <a:latin typeface="Comic Sans MS"/>
              </a:rPr>
              <a:t>упражнения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Упражнения для губ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Лягушка-Хобо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яну я как лягушка,                  Подражаю я слон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и губы прямо к ушкам.           Губы хоботом тя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Бублик». Зубы сомкнуты. Губы округлены и чуть вытянуты вперед. Верхние и нижние резцы вид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м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артикуляционная гимнастика (улыбка)"/>
          <p:cNvPicPr/>
          <p:nvPr/>
        </p:nvPicPr>
        <p:blipFill>
          <a:blip r:embed="rId1"/>
          <a:stretch/>
        </p:blipFill>
        <p:spPr>
          <a:xfrm>
            <a:off x="971640" y="278136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артикуляционная гимнастика трубочка"/>
          <p:cNvPicPr/>
          <p:nvPr/>
        </p:nvPicPr>
        <p:blipFill>
          <a:blip r:embed="rId2"/>
          <a:stretch/>
        </p:blipFill>
        <p:spPr>
          <a:xfrm>
            <a:off x="5219640" y="2781360"/>
            <a:ext cx="2220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Упражнения для развития дых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глить губы и, вдохнув, равномерно, с силой, выдыхать воздух. Контроль упражнения ладонью руки – ощущается тёплая стру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Картинка 1 из 318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3068640"/>
            <a:ext cx="191592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i?id=147245290-28-72"/>
          <p:cNvPicPr/>
          <p:nvPr/>
        </p:nvPicPr>
        <p:blipFill>
          <a:blip r:embed="rId3"/>
          <a:stretch/>
        </p:blipFill>
        <p:spPr>
          <a:xfrm>
            <a:off x="5219640" y="3068640"/>
            <a:ext cx="2665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Упражнения для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казать непослушный язычо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ного приоткрыть рот, спокойно положить язык на нижнюю губу и, пошлёпывая его губами, произносить звуки: пя-пя-пя. Удерживать язык в спокойном положении, при открытом рте под счет от 1 до 5-10 или под стиш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пки в ладош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артикуляционная гимнастика (непослушный язычок)"/>
          <p:cNvPicPr/>
          <p:nvPr/>
        </p:nvPicPr>
        <p:blipFill>
          <a:blip r:embed="rId1"/>
          <a:stretch/>
        </p:blipFill>
        <p:spPr>
          <a:xfrm>
            <a:off x="3059280" y="3284640"/>
            <a:ext cx="2938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Сделать язык широким»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приоткрыть рот, положить широкий передний край языка на нижнюю губу. Удерживать его в таком положении под счет от 1 до 5-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ерёк улыбки ле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ает языч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донь положить тыльной сторо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артикуляционная гимнастика (лопаточка)"/>
          <p:cNvPicPr/>
          <p:nvPr/>
        </p:nvPicPr>
        <p:blipFill>
          <a:blip r:embed="rId1"/>
          <a:stretch/>
        </p:blipFill>
        <p:spPr>
          <a:xfrm>
            <a:off x="3851280" y="2205000"/>
            <a:ext cx="3871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5414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Чистим верхние зубы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 внутренней стороны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открыть рот и широким языком «почистить» верхние зубы с внут­ренней стороны, делая движения из стороны в сторо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убы верхние — смотр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щу «чашкой» изнутр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щу зуб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щу зубы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нутри.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болели,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темнели,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желт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о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Греем ладош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артикуляционная гимнастика (чистим верхние зубы)"/>
          <p:cNvPicPr/>
          <p:nvPr/>
        </p:nvPicPr>
        <p:blipFill>
          <a:blip r:embed="rId1"/>
          <a:stretch/>
        </p:blipFill>
        <p:spPr>
          <a:xfrm>
            <a:off x="324000" y="2924280"/>
            <a:ext cx="3095640" cy="306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5580000" y="2997360"/>
            <a:ext cx="321480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окус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ь на самый кончик носа маленький кусочек ватки. Язык в форме чашечки плотно примыкает к верхним губам. Нужно сдуть ватку с кончика но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683160" cy="3949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артикуляционная гимнастика (чашечка)"/>
          <p:cNvPicPr/>
          <p:nvPr/>
        </p:nvPicPr>
        <p:blipFill>
          <a:blip r:embed="rId2"/>
          <a:stretch/>
        </p:blipFill>
        <p:spPr>
          <a:xfrm>
            <a:off x="468360" y="2133720"/>
            <a:ext cx="388764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Чашечка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нуться, открыть рот и установить язык наверху в форме чашк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лыбаюсь, рот откры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м язык уже стои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зубкам подняты края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т и «чашечка» м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ражнение с пальчиками «Лукош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артикуляционная гимнастика (чашечка)"/>
          <p:cNvPicPr/>
          <p:nvPr/>
        </p:nvPicPr>
        <p:blipFill>
          <a:blip r:embed="rId1"/>
          <a:stretch/>
        </p:blipFill>
        <p:spPr>
          <a:xfrm>
            <a:off x="4356000" y="1916280"/>
            <a:ext cx="381636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20-04-04T04:12:18Z</dcterms:modified>
  <cp:revision>13</cp:revision>
  <dc:subject/>
  <dc:title>Постановка звука «Ш»</dc:title>
</cp:coreProperties>
</file>