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1BF-A49D-4C76-A126-866C78EA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111-36F5-480B-856B-1129AC82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D36-428D-4DF8-80EF-CABBA617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8D1-57F7-4503-90A9-BAC7F5D7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661-BEEA-43F9-8FB3-D5F4E9DC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790-2F21-42B8-9DC6-D377D728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B47-A72F-4F63-92D8-FF788E50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A38-D3BD-40F5-8937-E012CDF4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823-72E8-48C7-89CA-ACFC84EB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976-4B0F-4044-BFD5-F6B3717F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663-D15D-40D9-A1D5-289D5A1F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627-79E7-48F5-BDD7-77B9BB2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CD8B-32BE-42FE-8EA6-3344A970A83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71680" y="272520"/>
            <a:ext cx="36147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урока: Озеро Байкал – жемчужина Сиби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lake-baikal-l40f19"/>
          <p:cNvPicPr/>
          <p:nvPr/>
        </p:nvPicPr>
        <p:blipFill>
          <a:blip r:embed="rId1"/>
          <a:srcRect l="0" t="0" r="0" b="8635"/>
          <a:stretch/>
        </p:blipFill>
        <p:spPr>
          <a:xfrm>
            <a:off x="395280" y="189000"/>
            <a:ext cx="4533840" cy="625320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берегах гнездится 200 видов пт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286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68440" y="1461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cc33"/>
                </a:solidFill>
                <a:latin typeface="Calibri"/>
                <a:ea typeface="Arial"/>
              </a:rPr>
              <a:t>Эндемики растительного мира Байк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11240" y="1606680"/>
            <a:ext cx="3671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Желтый мак</a:t>
            </a:r>
            <a:r>
              <a:rPr b="1" lang="ru-RU" sz="1800" spc="-1" strike="noStrike">
                <a:solidFill>
                  <a:srgbClr val="33cc33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Незабуд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Лапчат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 </a:t>
            </a: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Грецкий оре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cc33"/>
                </a:solidFill>
                <a:latin typeface="Times New Roman"/>
                <a:ea typeface="Arial"/>
              </a:rPr>
              <a:t>Крупка и д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9" descr="мак"/>
          <p:cNvPicPr/>
          <p:nvPr/>
        </p:nvPicPr>
        <p:blipFill>
          <a:blip r:embed="rId1"/>
          <a:stretch/>
        </p:blipFill>
        <p:spPr>
          <a:xfrm>
            <a:off x="5521320" y="1073160"/>
            <a:ext cx="3459240" cy="2436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незабудка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159000" y="1606680"/>
            <a:ext cx="3340080" cy="250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лапчатка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749920" y="3892680"/>
            <a:ext cx="3281400" cy="243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2" descr="орех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463920" y="4197240"/>
            <a:ext cx="211608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крупка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1240" y="389268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ХРАНА ПРИРОДЫ ОЗЕРА БАЙК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Запретить рубку ле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Запретить молевой сплав ле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Построить очистительные сооруж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Создание и поддержка заповедни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Повышение экологической культуры насе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bnature3"/>
          <p:cNvPicPr/>
          <p:nvPr/>
        </p:nvPicPr>
        <p:blipFill>
          <a:blip r:embed="rId1"/>
          <a:srcRect l="11338" t="0" r="0" b="13385"/>
          <a:stretch/>
        </p:blipFill>
        <p:spPr>
          <a:xfrm>
            <a:off x="285840" y="1500120"/>
            <a:ext cx="43574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566640" y="214200"/>
            <a:ext cx="7664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</a:t>
            </a:r>
            <a:r>
              <a:rPr b="1" lang="ru-RU" sz="4800" spc="-1" strike="noStrike">
                <a:solidFill>
                  <a:srgbClr val="953735"/>
                </a:solidFill>
                <a:latin typeface="Calibri"/>
                <a:ea typeface="Arial"/>
              </a:rPr>
              <a:t>Охрана Байка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85880" y="1214280"/>
            <a:ext cx="77072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 побережье Байкала  находитс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три заповедника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: Баргузин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Байкало-Ленский, Байкаль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два национальных парка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ибайкальский, Забайкаль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шесть заказников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: Фролихин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Кабанский, Прибайкальский, Энхэлук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тепнодворецкий, Верхнеанга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Озеро Байкал занесено в список Всемирного наследия ЮНЕС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хозяева нашей природы, и она для нас кладовая солнца с великими сокровищами жизни. Мало того ,чтобы сокровища эти сохранять – их надо открывать и показыва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ыбы нужна чистая вода – будем охранять водоемы. В лесах, степях, горах разные ценные животные – будем охранять наши леса, степи, го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ыбе – вода, птице – воздух, зверю –лес, степь, горы. А человеку нужна Родина. И охранять природу – значит охранять Родину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. Пришв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/З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ить презентацию об одном из эндемиков оз.Байка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Эпиграф к уроку: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Байкал – уникальное явление нашей планеты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чудо природы во всех отношениях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.С.Берг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8072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.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Азиатской части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 юге Восточной Сиби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горах Южной Сиби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51 -55 сш  121 -127 в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лина более 600, наибольшая ширина 80 к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00720" y="272520"/>
            <a:ext cx="4186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айкал — не только крупнейшее пресноводное</a:t>
            </a:r>
            <a:r>
              <a:rPr b="0" lang="ru-RU" sz="27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зеро России, но и самое глубокое озеро нашей планеты. Его наибольшая глубина 1637 метров. Предельная глубина Танганьики — 1435 метров, Иссык-Куля — 702. По свидетельству лимнолога Л.Россолимо на Земле всего восемь озер имеют глубину более 500 метров и около 30 — более 300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310"/>
          <p:cNvPicPr/>
          <p:nvPr/>
        </p:nvPicPr>
        <p:blipFill>
          <a:blip r:embed="rId1"/>
          <a:srcRect l="12632" t="12808" r="32770" b="0"/>
          <a:stretch/>
        </p:blipFill>
        <p:spPr>
          <a:xfrm>
            <a:off x="108000" y="189000"/>
            <a:ext cx="4176720" cy="6408720"/>
          </a:xfrm>
          <a:prstGeom prst="rect">
            <a:avLst/>
          </a:prstGeom>
          <a:ln w="76320">
            <a:solidFill>
              <a:srgbClr val="eeece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ода Байкала</a:t>
            </a: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04840" y="857160"/>
            <a:ext cx="7416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Байкал – фабрика кристально чистой воды. Прозрачность воды - 40 м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необыкн"/>
          <p:cNvPicPr/>
          <p:nvPr/>
        </p:nvPicPr>
        <p:blipFill>
          <a:blip r:embed="rId1"/>
          <a:stretch/>
        </p:blipFill>
        <p:spPr>
          <a:xfrm>
            <a:off x="642960" y="1928880"/>
            <a:ext cx="7929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3280" y="272520"/>
            <a:ext cx="4043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м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ренный поя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ко-континент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лето+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има-14;-17;-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тры- сарма, баргузин, култук,  верховик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18909"/>
          <p:cNvPicPr/>
          <p:nvPr/>
        </p:nvPicPr>
        <p:blipFill>
          <a:blip r:embed="rId1"/>
          <a:stretch/>
        </p:blipFill>
        <p:spPr>
          <a:xfrm>
            <a:off x="179280" y="260280"/>
            <a:ext cx="4321440" cy="6264360"/>
          </a:xfrm>
          <a:prstGeom prst="rect">
            <a:avLst/>
          </a:prstGeom>
          <a:ln w="76320">
            <a:solidFill>
              <a:srgbClr val="eeece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2728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  <a:ea typeface="Arial"/>
              </a:rPr>
              <a:t>Эндемики животного мира Байк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581120"/>
            <a:ext cx="4114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Arial"/>
              </a:rPr>
              <a:t>байкальская нер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Arial"/>
              </a:rPr>
              <a:t>широколобка-песча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Arial"/>
              </a:rPr>
              <a:t>большая  голом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Arial"/>
              </a:rPr>
              <a:t>байкальский ом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Arial"/>
              </a:rPr>
              <a:t>байкальский осетр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нерпа"/>
          <p:cNvPicPr/>
          <p:nvPr/>
        </p:nvPicPr>
        <p:blipFill>
          <a:blip r:embed="rId1"/>
          <a:srcRect l="3033" t="3033" r="6057" b="6057"/>
          <a:stretch/>
        </p:blipFill>
        <p:spPr>
          <a:xfrm>
            <a:off x="6248520" y="112392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головянка"/>
          <p:cNvPicPr/>
          <p:nvPr/>
        </p:nvPicPr>
        <p:blipFill>
          <a:blip r:embed="rId2"/>
          <a:stretch/>
        </p:blipFill>
        <p:spPr>
          <a:xfrm>
            <a:off x="3124080" y="4019400"/>
            <a:ext cx="3143520" cy="207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омуль"/>
          <p:cNvPicPr/>
          <p:nvPr/>
        </p:nvPicPr>
        <p:blipFill>
          <a:blip r:embed="rId3"/>
          <a:stretch/>
        </p:blipFill>
        <p:spPr>
          <a:xfrm>
            <a:off x="228600" y="4400640"/>
            <a:ext cx="279396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осетр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334200" y="4476600"/>
            <a:ext cx="2809800" cy="210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широколобка"/>
          <p:cNvPicPr/>
          <p:nvPr/>
        </p:nvPicPr>
        <p:blipFill>
          <a:blip r:embed="rId5"/>
          <a:stretch/>
        </p:blipFill>
        <p:spPr>
          <a:xfrm>
            <a:off x="3571920" y="1857240"/>
            <a:ext cx="2971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228600" y="493560"/>
            <a:ext cx="3008160" cy="50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Голомянка — это прозрачная ры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ез чешуи и плавательного пузыря. Почти четверть тела голомянки — голова с огромной пастью и зубами, которые заполняют её и растут, начинаясь с подборо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одержимое 4"/>
          <p:cNvSpPr/>
          <p:nvPr/>
        </p:nvSpPr>
        <p:spPr>
          <a:xfrm>
            <a:off x="3346560" y="49356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Текст 5"/>
          <p:cNvSpPr/>
          <p:nvPr/>
        </p:nvSpPr>
        <p:spPr>
          <a:xfrm>
            <a:off x="228600" y="165564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4" descr="голомянка2.jpg"/>
          <p:cNvPicPr/>
          <p:nvPr/>
        </p:nvPicPr>
        <p:blipFill>
          <a:blip r:embed="rId1"/>
          <a:stretch/>
        </p:blipFill>
        <p:spPr>
          <a:xfrm>
            <a:off x="2840040" y="865080"/>
            <a:ext cx="6078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4"/>
          <p:cNvSpPr/>
          <p:nvPr/>
        </p:nvSpPr>
        <p:spPr>
          <a:xfrm>
            <a:off x="542880" y="531720"/>
            <a:ext cx="30085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одержимое 5"/>
          <p:cNvSpPr/>
          <p:nvPr/>
        </p:nvSpPr>
        <p:spPr>
          <a:xfrm>
            <a:off x="5086440" y="531720"/>
            <a:ext cx="368604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айкальская  нерпа  – единственный в мире вид тюленя, который живёт в пресной воде. Обитает в озере Байкал. Детёнышей нерпа рождает на берегу, в снежном логове. Большая часть нерп рождается в середине марта. Детёныши имеют мех белого цвета, что позволяет им в первые недели жизни быть незаметными на сне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Текст 6"/>
          <p:cNvSpPr/>
          <p:nvPr/>
        </p:nvSpPr>
        <p:spPr>
          <a:xfrm>
            <a:off x="542880" y="1693800"/>
            <a:ext cx="300852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нерпенок"/>
          <p:cNvPicPr/>
          <p:nvPr/>
        </p:nvPicPr>
        <p:blipFill>
          <a:blip r:embed="rId1"/>
          <a:stretch/>
        </p:blipFill>
        <p:spPr>
          <a:xfrm>
            <a:off x="371520" y="473040"/>
            <a:ext cx="46432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5:43:10Z</dcterms:created>
  <dc:creator>Воробьёва Ольга Влад</dc:creator>
  <dc:description/>
  <dc:language>en-US</dc:language>
  <cp:lastModifiedBy>Алёна Гурова</cp:lastModifiedBy>
  <dcterms:modified xsi:type="dcterms:W3CDTF">2020-04-04T13:53:01Z</dcterms:modified>
  <cp:revision>65</cp:revision>
  <dc:subject/>
  <dc:title>Слайд 1</dc:title>
</cp:coreProperties>
</file>