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B5A3-A0C2-4738-A244-56CD1B149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96AC-5641-435D-B083-54A8B1A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9F42-1959-464F-8DC5-D84137A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C3A5-045E-4D24-8978-188AB1996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1BB-CDE2-4CA0-A02A-21C4B1A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9A2C-E65C-49D5-A233-C2E43404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E2F4-6AE7-4AEE-995F-4C1E385D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D101-A4AF-40A5-B71B-EDF0DD6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9A77-765C-46C1-8C23-7D96D923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18FD-B821-423E-AD3F-3151204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AEE3-2267-4545-ACAA-42941B8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0CF4-37BC-4CF2-8D6D-666D508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0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21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AA95B-E01F-4191-A777-4D62CEADADF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592360" y="647640"/>
            <a:ext cx="511164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орожная безопасность для детей млад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176720" y="3421080"/>
            <a:ext cx="446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: Шапкина Светлана Юр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Новоураль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27520" y="2303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50880" y="1658880"/>
            <a:ext cx="3471840" cy="3308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0640" y="384120"/>
            <a:ext cx="3951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08360" y="2430360"/>
            <a:ext cx="3888000" cy="291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60640" y="384120"/>
            <a:ext cx="3951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енсор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03280" y="1655640"/>
            <a:ext cx="27003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87640" y="863640"/>
            <a:ext cx="4365720" cy="2879640"/>
          </a:xfrm>
          <a:prstGeom prst="cloudCallout">
            <a:avLst>
              <a:gd name="adj1" fmla="val -86324"/>
              <a:gd name="adj2" fmla="val 20125"/>
            </a:avLst>
          </a:prstGeom>
          <a:noFill/>
          <a:ln cap="sq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319640" y="1440000"/>
            <a:ext cx="377964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облюдайте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ДД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6000" y="1546200"/>
            <a:ext cx="4689360" cy="414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47640" y="1884240"/>
            <a:ext cx="80647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09520" indent="-204840">
              <a:lnSpc>
                <a:spcPct val="115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формировать навыки безопасного поведения на улиц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-204840">
              <a:lnSpc>
                <a:spcPct val="115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закрепление знаний детей о светофоре через продуктивную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024360" y="792000"/>
            <a:ext cx="3527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1520" y="4608360"/>
            <a:ext cx="1158840" cy="116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800360" y="3465360"/>
            <a:ext cx="68580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48360" y="3465360"/>
            <a:ext cx="19717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31640" y="1440000"/>
            <a:ext cx="76406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Образов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знакомство с дорожной разметкой пешеходного перехода – «зебра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дать знания о сигналах светоф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должать работу по закреплению умения действовать согласно сигналам светофо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продолжать вызывать интерес к аппликации как к творчеств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активизировать в речи детей слова по теме (пешеходный переход, светофор, тротуар, дорога, пешеход, машины, красный, жёлтый, зелёны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развитие мелкой мотор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развитие познавательных интере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706400" y="4716360"/>
            <a:ext cx="68263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0484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оспитывать осознанное отношение к правилам безопасного поведения на дорог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воспитывать интерес к аппликации ка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творчеств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600360" y="720720"/>
            <a:ext cx="2808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36720" y="993600"/>
            <a:ext cx="8243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Дорожные зна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303640" y="2305080"/>
            <a:ext cx="6337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и помогают регулировать и организовывать движение машин, велосипедистов и пешеход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441520"/>
            <a:ext cx="9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42880" y="436680"/>
            <a:ext cx="1655640" cy="6032160"/>
            <a:chOff x="542880" y="436680"/>
            <a:chExt cx="1655640" cy="6032160"/>
          </a:xfrm>
        </p:grpSpPr>
        <p:sp>
          <p:nvSpPr>
            <p:cNvPr id="66" name=""/>
            <p:cNvSpPr/>
            <p:nvPr/>
          </p:nvSpPr>
          <p:spPr>
            <a:xfrm>
              <a:off x="542880" y="436680"/>
              <a:ext cx="1655640" cy="414684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4146840"/>
                <a:gd name="textAreaBottom" fmla="*/ 4066200 h 4146840"/>
              </a:gdLst>
              <a:ahLst/>
              <a:rect l="textAreaLeft" t="textAreaTop" r="textAreaRight" b="textAreaBottom"/>
              <a:pathLst>
                <a:path w="21600" h="54094">
                  <a:moveTo>
                    <a:pt x="3600" y="0"/>
                  </a:moveTo>
                  <a:arcTo wR="3600" hR="3600" stAng="16200000" swAng="-5400000"/>
                  <a:lnTo>
                    <a:pt x="0" y="50494"/>
                  </a:lnTo>
                  <a:arcTo wR="3600" hR="3600" stAng="10800000" swAng="-5400000"/>
                  <a:lnTo>
                    <a:pt x="18000" y="540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8400" y="4594680"/>
              <a:ext cx="266400" cy="18583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236240" y="5576760"/>
              <a:ext cx="266400" cy="15174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90560" y="622440"/>
            <a:ext cx="1152720" cy="115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92000" y="1917720"/>
            <a:ext cx="1152720" cy="1152360"/>
          </a:xfrm>
          <a:prstGeom prst="ellipse">
            <a:avLst/>
          </a:prstGeom>
          <a:solidFill>
            <a:srgbClr val="f9f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790560" y="3240000"/>
            <a:ext cx="1152720" cy="1152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008000"/>
            <a:ext cx="1150920" cy="43200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2233440" y="2376360"/>
            <a:ext cx="1151280" cy="432000"/>
          </a:xfrm>
          <a:custGeom>
            <a:avLst/>
            <a:gdLst>
              <a:gd name="textAreaLeft" fmla="*/ 179640 w 1151280"/>
              <a:gd name="textAreaRight" fmla="*/ 1007640 w 11512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233440" y="3621240"/>
            <a:ext cx="1151280" cy="431640"/>
          </a:xfrm>
          <a:custGeom>
            <a:avLst/>
            <a:gdLst>
              <a:gd name="textAreaLeft" fmla="*/ 179640 w 1151280"/>
              <a:gd name="textAreaRight" fmla="*/ 1007640 w 1151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cap="sq"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527280" y="576360"/>
            <a:ext cx="457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прещает любое движение транспортных средств и пеше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672000" y="2060640"/>
            <a:ext cx="43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Предупреждает пешеходов и водителей о смене сигна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743280" y="3456000"/>
            <a:ext cx="42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Разрешает движение транспортных средств и пешех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4000" y="647640"/>
            <a:ext cx="4319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звитие ре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743280" y="3672000"/>
            <a:ext cx="378468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5760" y="368280"/>
            <a:ext cx="2711160" cy="316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227640" y="457200"/>
            <a:ext cx="2533680" cy="3502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60360" y="4049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32000" y="365436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68720" y="501480"/>
            <a:ext cx="27288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Макет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63640" y="1184400"/>
            <a:ext cx="3101760" cy="23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824360" y="1224000"/>
            <a:ext cx="2900520" cy="217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96000" y="936720"/>
            <a:ext cx="2068560" cy="28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0360" y="3051000"/>
            <a:ext cx="237492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6480" y="720720"/>
            <a:ext cx="3089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313240" y="1728720"/>
            <a:ext cx="132084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879640" y="1413000"/>
            <a:ext cx="1289160" cy="2733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629160" y="4070520"/>
            <a:ext cx="1685880" cy="233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60640" y="384120"/>
            <a:ext cx="3316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Макет маш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27640" y="132084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662120" y="1471680"/>
            <a:ext cx="2946240" cy="3927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7:39:05Z</dcterms:created>
  <dc:creator>User</dc:creator>
  <dc:description/>
  <dc:language>en-US</dc:language>
  <cp:lastModifiedBy/>
  <dcterms:modified xsi:type="dcterms:W3CDTF">2020-04-02T09:28:49Z</dcterms:modified>
  <cp:revision>30</cp:revision>
  <dc:subject/>
  <dc:title>Слайд 1</dc:title>
</cp:coreProperties>
</file>