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Pause_01.wav" ContentType="audio/x-wav"/>
  <Override PartName="/ppt/media/image9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EDD-DD3E-44D8-8AE5-F482E5CF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E6E-7866-42E9-B69F-55BF0071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F03-0837-48FD-853B-65578250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DE5-785E-4F2E-A3C9-D768D262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6BF1A-04A5-42AD-8716-1CB0A4A4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6ED93-2DCC-4043-AB55-D095D907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64010-6C1C-4393-AF5F-D782FCF6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2703F-5DB6-424D-BC01-9E27F4F0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2C84D-16DE-4959-B2F3-0F50D701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9EEB4-5519-4340-958E-8D3006E7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D6469-38E9-48CF-804B-E3535FAD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87C-00DB-485E-8C58-E268D117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6CFB8-76AF-4F5A-8F87-0E74E9A4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A2CF4-E9CB-44F8-86A8-31BF6F45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3CE8F-6E2D-4D4E-A2D7-0DEAF973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40045-73B2-4869-B254-7CD4E9ED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6136A-B90B-46F1-A8D1-4AA7DAEB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CB5-FA9D-40C0-AF81-AA802E0A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9AF-508F-4D89-A7BC-9EDEB7BC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846-9F5C-4D4A-AF74-83A054FE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6E0-B3FD-4109-8FFB-7B11DB5D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7AE-1DA9-4CE7-B79B-2C62F5D2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FAD2-ED02-4FC8-B3D3-5D92C17A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949B-339C-464E-B5B4-9037EC37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409E-78B2-428E-80DA-8333AD8CD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08D2-C777-4865-9338-9A3371B555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ause_01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ause_01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Pause_01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Pause_01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ause_01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ause_01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ause_01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Pause_01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ause_01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ause_0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ause_01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ause_01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ause_01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ause_01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ause_01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ause_01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ause_01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ause_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3789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Движения вод</a:t>
            </a:r>
            <a:br>
              <a:rPr sz="8000"/>
            </a:b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 Мирового океана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ибо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0000023a"/>
          <p:cNvPicPr/>
          <p:nvPr/>
        </p:nvPicPr>
        <p:blipFill>
          <a:blip r:embed="rId1"/>
          <a:stretch/>
        </p:blipFill>
        <p:spPr>
          <a:xfrm>
            <a:off x="539640" y="1054080"/>
            <a:ext cx="7993080" cy="580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000001d9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унам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5918400" cy="44388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835280" y="155736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826920" y="14130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</a:rPr>
              <a:t>В переводе с японского означает «волна в бухте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7308720" y="4941720"/>
            <a:ext cx="18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емлетряс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0" y="3860640"/>
            <a:ext cx="14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ота волны у берега до 40 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268360" y="6381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ина волны 100-200 к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риливы и отлив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rcRect l="13200" t="7055" r="12949" b="26866"/>
          <a:stretch/>
        </p:blipFill>
        <p:spPr>
          <a:xfrm>
            <a:off x="787320" y="1125360"/>
            <a:ext cx="7240680" cy="4805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611280" y="6021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пределённое время суток уровень воды в Мировом океане повышается, а затем понижается. Океан как бы «дышит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250920" y="285840"/>
            <a:ext cx="8642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очитайте стихотворение и ответьте на вопро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В кипящей пене валун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Волна, блистая, заходила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Её уж тянет, тянет с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Всходящей за морем Лу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Какова главная причина возникновения приливов и отливов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Какое значение имею приливы и отливы? /прочитайте дополнительную информацию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250920" y="93960"/>
            <a:ext cx="86421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В приливах заключено большое количество энергии: примерно в три раза больше, чем во всех реках планеты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. </a:t>
            </a:r>
            <a:r>
              <a:rPr b="0" i="1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В нашей стране даёт ток приливная электростанция (ПЭС), которая построена в одном из заливов Кольского полуострова. Залив этот перегорожен плотиной. Во время прилива уровень воды в заливе устремляется в море и по пути вращает турбины приливной электростанци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Самый высокий прилив был отмечен в заливе Фанди, возле Северной Америк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Задание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 Сравните высоту приливов на берегу Средиземного и Охотского морей. Сделайте вывод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кеанические теч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rcRect l="15458" t="4964" r="16469" b="28164"/>
          <a:stretch/>
        </p:blipFill>
        <p:spPr>
          <a:xfrm>
            <a:off x="826920" y="1154160"/>
            <a:ext cx="7490160" cy="561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250920" y="65556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Определение ГП моря на кар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Найдите море на карте и запишите его наз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Определите, на каком материке, находится и в какой его части, (если море внутренне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Определите, в какой части океана находится, (если море окраинно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К какому океану относи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Определите, между какими параллелями и меридианами  находя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Определите примерную протяженность моря с севера на ю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Какой частью омывает берега, каких материков, остров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Какими проливами соединено с океанами и мор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250920" y="67680"/>
            <a:ext cx="8642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репл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тавьте недостающие слова в текс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ы Мирового океана находятся в постоянном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нение – это волны. Главная причина волн -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бательные движения водной поверхности -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ой образования цунами являются - …, …, 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ой образования приливно-отливных волн является - 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Что вам понравилось на уроке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свою работу на урок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179280" y="1071000"/>
            <a:ext cx="871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учить движение воды в океане; выяснить причины возникновения этих движ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ировать понятие о волнах; рассмотреть части волны: гребень, подошва, длина, высота; дать понятие «цунами»; выяснить причину их возникновения; рассмотреть приливы и отливы, и их значение в жизни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79280" y="0"/>
            <a:ext cx="896472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/фронтально устно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 называется солёностью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им значком обозначается солёност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 означает солёность 18 ‰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ему равна солёность морской воды, если в 1 л этой воды содержится 1 г различных веществ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зовите причины, влияющие на соленость  океанической воды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Красное море самое солёное на Земл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какой температуре замерзает океаническая вод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ое море имеет большую солёность: Азовское или Баренцев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акой области поверхность океана имеет самую высокую температуру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акой области поверхность океана имеет минимальную температур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250920" y="519480"/>
            <a:ext cx="864216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Подготовительный эта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о звукам природы на кассете, определите какое явление природы записан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едставьте, что вы стоите на берегу моря, что вы увидите, если вдруг поднимется ветер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Случалось ли вам наблюдать волны на поверхности моря (озера, вдхр, реки)? Как они возникают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проведение эксперимента, на обнаружение волн/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Что вы читали или видели в кино о шторме на море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324000" y="24120"/>
            <a:ext cx="8569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Segoe UI Symbol"/>
              </a:rPr>
              <a:t>Понятие о волнах, причины их возникнов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Отгадайте загадку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Идёт, идёт, а до берега дойдет, тут же и пропадёт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Что называется волной? Запишите определение в слов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Segoe UI Symbol"/>
              </a:rPr>
              <a:t>ВОЛ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– колебательное движение верхнего слоя водной массы водоё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- Почему возникают волны? /вспомните в начале урока эксперимент и ответьте на вопрос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Segoe UI Symbol"/>
              </a:rPr>
              <a:t>Главная причина возникновения волн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– ветер, который приводит к образованию ветровых вол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Волны в океан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rcRect l="13535" t="7465" r="17201" b="28164"/>
          <a:stretch/>
        </p:blipFill>
        <p:spPr>
          <a:xfrm>
            <a:off x="1692360" y="2421000"/>
            <a:ext cx="6127560" cy="4232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250920" y="836640"/>
            <a:ext cx="87138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та волны – расстояние по вертикали от самой низкой её точки до её греб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ина волны – расстояние между соседними гребн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орость волны – расстояние проходимое гребнем волны за единицу време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ысота волны может достигать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2 метров и боле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06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69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инные пологие волны называют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зыб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061"/>
          <p:cNvPicPr/>
          <p:nvPr/>
        </p:nvPicPr>
        <p:blipFill>
          <a:blip r:embed="rId1"/>
          <a:stretch/>
        </p:blipFill>
        <p:spPr>
          <a:xfrm>
            <a:off x="684360" y="981000"/>
            <a:ext cx="7632720" cy="571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539640" y="53388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ahoma"/>
                <a:ea typeface="Times New Roman"/>
              </a:rPr>
              <a:t>Веками длится этот бой: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ahoma"/>
                <a:ea typeface="Times New Roman"/>
              </a:rPr>
              <a:t>Стоят упрямо берега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ahoma"/>
                <a:ea typeface="Times New Roman"/>
              </a:rPr>
              <a:t>Но разрушает их прибой Нептуна ветряный слуга.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0:50:50Z</dcterms:created>
  <dc:creator>см</dc:creator>
  <dc:description/>
  <dc:language>en-US</dc:language>
  <cp:lastModifiedBy>Марина</cp:lastModifiedBy>
  <dcterms:modified xsi:type="dcterms:W3CDTF">2015-01-25T17:35:32Z</dcterms:modified>
  <cp:revision>16</cp:revision>
  <dc:subject/>
  <dc:title>Свойства вод  Мирового океана</dc:title>
</cp:coreProperties>
</file>