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wmf" ContentType="image/x-wmf"/>
  <Override PartName="/ppt/media/image19.wmf" ContentType="image/x-wmf"/>
  <Override PartName="/ppt/media/image9.jpeg" ContentType="image/jpeg"/>
  <Override PartName="/ppt/media/image18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532-A1DC-41E4-9A3D-AE0DC630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FB7-9AD3-4B0C-AD49-AD8B3312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66D-CF57-4F49-85BF-F8315C6F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CC1-DF24-4259-B6FB-5AD4FEB9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862-5021-4FC9-9F20-583DF679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6CA-5DBA-426C-B38F-0F420180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6BE-519D-4BA8-BBBB-2E11530D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811-4F5B-44CD-B87D-DD44E4D7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E03-8972-4731-9BAF-8D740A07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1A9-0B23-42B7-A8C9-37A6A2C3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FE3-3945-4390-B281-DC886222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0CB-78B3-4291-B669-B0678527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B0AF-4B15-4B0E-A48F-E91E4A4D67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6" descr="ладонь.png"/>
          <p:cNvPicPr/>
          <p:nvPr/>
        </p:nvPicPr>
        <p:blipFill>
          <a:blip r:embed="rId4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7487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2007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c8008a"/>
                </a:solidFill>
                <a:latin typeface="Comic Sans MS"/>
              </a:rPr>
              <a:t>Дыхательная               гимнаст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284720" y="3071880"/>
            <a:ext cx="4859280" cy="25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Воспитатель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группы комбинированной  направленности МАДОУ ДСКВ «Сказ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Просекова Татьяна Геннад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Безымянный"/>
          <p:cNvPicPr/>
          <p:nvPr/>
        </p:nvPicPr>
        <p:blipFill>
          <a:blip r:embed="rId1"/>
          <a:stretch/>
        </p:blipFill>
        <p:spPr>
          <a:xfrm>
            <a:off x="254160" y="2857680"/>
            <a:ext cx="4032000" cy="3240000"/>
          </a:xfrm>
          <a:prstGeom prst="rect">
            <a:avLst/>
          </a:prstGeom>
          <a:ln w="9360">
            <a:solidFill>
              <a:srgbClr val="a2007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НАСОС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акачаем мы вод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Чтобы поливать цв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стать прямо, ноги вмест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руки опущены. Вдох, зат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наклон туловища в сторону—выдох, ру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кользят вдоль туловища, при эт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громко произносить «с-с-с-с-с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вторить 6—8 наклонов в кажд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торо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Безымянный"/>
          <p:cNvPicPr/>
          <p:nvPr/>
        </p:nvPicPr>
        <p:blipFill>
          <a:blip r:embed="rId1"/>
          <a:stretch/>
        </p:blipFill>
        <p:spPr>
          <a:xfrm>
            <a:off x="5940360" y="18900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РЕГУЛИРОВЩ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Верный путь он нам покаж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Повороты все ука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тоя, ноги расставлены на шири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леч, одна рука поднята вверх, друг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отведена в сторону. Вдох носо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затем поменять положение рук и 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ремя удлиненного выдох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роизносить «р-р-р-р-р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вторить 5—6 раз</a:t>
            </a: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MC900198606[1]"/>
          <p:cNvPicPr/>
          <p:nvPr/>
        </p:nvPicPr>
        <p:blipFill>
          <a:blip r:embed="rId1"/>
          <a:stretch/>
        </p:blipFill>
        <p:spPr>
          <a:xfrm>
            <a:off x="0" y="1989000"/>
            <a:ext cx="19080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ЛЕТЯТ МЯЧ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Мой веселый звонкий мя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Ты куда помчался вскач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Стоя, руки с мячом подняты ввер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Бросить мяч от груди впер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роизносить, выдыхая, длите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«у-х-х-х-х». Повторить 5—6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MC900232067[1]"/>
          <p:cNvPicPr/>
          <p:nvPr/>
        </p:nvPicPr>
        <p:blipFill>
          <a:blip r:embed="rId1"/>
          <a:stretch/>
        </p:blipFill>
        <p:spPr>
          <a:xfrm>
            <a:off x="0" y="2349360"/>
            <a:ext cx="176364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ВЫРАСТИ БОЛЬШО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518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Вырасти хочу скор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Добро делать дл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стать прямо, ноги вместе, подн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руки вверх, хорошо потяну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дняться на носки-вдох, опуст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руки вниз, опуститься на всю ступн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ыдох. Выдыхая, произносить «у-х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х-х-х». Повторить 4—5 ра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216f3e0a7040ad7b6c07b9d157470eb1"/>
          <p:cNvPicPr/>
          <p:nvPr/>
        </p:nvPicPr>
        <p:blipFill>
          <a:blip r:embed="rId1"/>
          <a:stretch/>
        </p:blipFill>
        <p:spPr>
          <a:xfrm>
            <a:off x="7093080" y="836640"/>
            <a:ext cx="180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                </a:t>
            </a: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«ЛЫЖНИК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24000" y="981000"/>
            <a:ext cx="6912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а лыжах я катаюс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Здоровым быть стараю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Имитация ходьбы на лыж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 течение 1,5—2 мину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На выдохе произнос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«м-м-м-м-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MC900295999[1]"/>
          <p:cNvPicPr/>
          <p:nvPr/>
        </p:nvPicPr>
        <p:blipFill>
          <a:blip r:embed="rId1"/>
          <a:stretch/>
        </p:blipFill>
        <p:spPr>
          <a:xfrm>
            <a:off x="0" y="1916280"/>
            <a:ext cx="3708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МАЯТНИК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74278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 Black"/>
              </a:rPr>
              <a:t>Влево - право, влево - впра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 Black"/>
              </a:rPr>
              <a:t>И опять начнём сначала.</a:t>
            </a:r>
            <a:r>
              <a:rPr b="1" lang="ru-RU" sz="2400" spc="-1" strike="noStrike">
                <a:solidFill>
                  <a:srgbClr val="a2007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тоя, ноги расставлены на ширину плеч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алку держать за спиной на уровне нижн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углов лопаток. Наклонять туловищ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тороны. При наклоне—выдох, произноси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«т-у-у-у-х-х». Повторить 3—4 наклона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каждую сторо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MC900290343[1]"/>
          <p:cNvPicPr/>
          <p:nvPr/>
        </p:nvPicPr>
        <p:blipFill>
          <a:blip r:embed="rId1"/>
          <a:stretch/>
        </p:blipFill>
        <p:spPr>
          <a:xfrm>
            <a:off x="6804000" y="907920"/>
            <a:ext cx="216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«ГУСИ ЛЕТЯ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7640" y="981000"/>
            <a:ext cx="5759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Гуси высоко летя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а детей они глядя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Медленная ходьба в течение 1—2 минут. Поднимать руки в стороны — вдох, руки вниз—выдох, произносить «г-у-у-у-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Безымянный"/>
          <p:cNvPicPr/>
          <p:nvPr/>
        </p:nvPicPr>
        <p:blipFill>
          <a:blip r:embed="rId1"/>
          <a:stretch/>
        </p:blipFill>
        <p:spPr>
          <a:xfrm>
            <a:off x="108000" y="1484280"/>
            <a:ext cx="208764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guiiiuytg"/>
          <p:cNvPicPr/>
          <p:nvPr/>
        </p:nvPicPr>
        <p:blipFill>
          <a:blip r:embed="rId2"/>
          <a:stretch/>
        </p:blipFill>
        <p:spPr>
          <a:xfrm>
            <a:off x="5435640" y="4005360"/>
            <a:ext cx="3554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СЕМАФОР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Семафор – самый глав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а доро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е бывает с ним трево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идя, ноги сдвинуты вмес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днимать руки в стороны—вдох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медленно опускать вниз—длитель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ыдох, произносить «с-с-с-с-с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вторить 3—4 ра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1257104031419366067milovanderlinden_y_semaphore"/>
          <p:cNvPicPr/>
          <p:nvPr/>
        </p:nvPicPr>
        <p:blipFill>
          <a:blip r:embed="rId1"/>
          <a:stretch/>
        </p:blipFill>
        <p:spPr>
          <a:xfrm>
            <a:off x="6012000" y="260280"/>
            <a:ext cx="302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ШАГОМ МАРШ 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62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Я шагаю, я шага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И шаги свои счит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тоя, гимнастическая палка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руках. Ходьба, высоко подним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колени. На 2 шага—вдох, на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8 шагов — выдох. Выдыха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роизносить «ти-ш-ш-ш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вторять в течение 1,5 мину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MC900240457[1]"/>
          <p:cNvPicPr/>
          <p:nvPr/>
        </p:nvPicPr>
        <p:blipFill>
          <a:blip r:embed="rId1"/>
          <a:stretch/>
        </p:blipFill>
        <p:spPr>
          <a:xfrm>
            <a:off x="6300720" y="907920"/>
            <a:ext cx="24480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8008a"/>
                </a:solidFill>
                <a:latin typeface="Comic Sans MS"/>
              </a:rPr>
              <a:t>Эти упражнения ребенок должен выполнять утром и в середине дня. В летнее время дыхательную гимнастику лучше проводить на воздухе во время прогулки.</a:t>
            </a: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Comic Sans MS"/>
              </a:rPr>
              <a:t>УДАЧИ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Правильное дыхание очень важно для развития речи, оно влияет на звукопроизношение, артикуляцию и развитие голоса. Дыхательные упражнения помогают выработать диафрагмальное дыхание, а также продолжительность, силу и правильное распределение выдоха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Рекомендации по проведению дыхательной гимна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Перед проведением дыхательной гимнастики необходимо вытереть пыль в помещении и проветрить 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Дыхательную гимнастику не рекомендуется проводить после плотного ужина или обед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Упражнения рекомендуется выполнять в свободной одежде, которая не стесняет дв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Необходимо следить за тем, чтобы во время выполнения упражнений не напрягались мышцы рук, шеи, гру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ЧАСИК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7740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Часики вперёд ид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За собою нас вед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Стоя, ноги слег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расставить, руки опустить. Размахивая прямыми руками вперед и назад, произносить «тик-так». Повторить 10—12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Безымянный"/>
          <p:cNvPicPr/>
          <p:nvPr/>
        </p:nvPicPr>
        <p:blipFill>
          <a:blip r:embed="rId1"/>
          <a:stretch/>
        </p:blipFill>
        <p:spPr>
          <a:xfrm>
            <a:off x="6300720" y="404640"/>
            <a:ext cx="2662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ТРУБАЧ»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Я трублю, трублю, труб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Очень музыку люб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Сидя, кисти рук сжа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 трубочку, подняты ввер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Медленно выдыхая, гром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роизносить «п-ф-ф-ф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овторить 4—5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Безымянный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ЕТУХ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40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Крыльями взмахнул пет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Всех нас разбудил он вд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стать прямо, ноги врозь, р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опустить. Поднять руки в сторо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а затем хлопать ими по бедр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ыдыхая, произносить «ку-ка-ре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ку». Повторить 5—6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Безымянный"/>
          <p:cNvPicPr/>
          <p:nvPr/>
        </p:nvPicPr>
        <p:blipFill>
          <a:blip r:embed="rId1"/>
          <a:stretch/>
        </p:blipFill>
        <p:spPr>
          <a:xfrm>
            <a:off x="6732720" y="189000"/>
            <a:ext cx="2303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КАША КИПИ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Мы на завтраке сиди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Кашу пшенную  ед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Сидя, одна рука лежит на живот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другая—на груди. Втягивая живо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дох, выпячивая живот — выдо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ыдыхая, громко произносить «ф-ф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ф-ф-ф». Повторить 3—4 р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MC900423463[1]"/>
          <p:cNvPicPr/>
          <p:nvPr/>
        </p:nvPicPr>
        <p:blipFill>
          <a:blip r:embed="rId1"/>
          <a:stretch/>
        </p:blipFill>
        <p:spPr>
          <a:xfrm>
            <a:off x="6012000" y="189000"/>
            <a:ext cx="2808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АРОВОЗ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Солнышко свети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облака плыву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паровозик едет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«чух-чух-чух-чух-чу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Ходить по комнате, дел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опеременные движения руками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риговаривая «чух-чух-чу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овторять в течение 20—30 секун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582889_w640_h640_57310bc63174"/>
          <p:cNvPicPr/>
          <p:nvPr/>
        </p:nvPicPr>
        <p:blipFill>
          <a:blip r:embed="rId1"/>
          <a:stretch/>
        </p:blipFill>
        <p:spPr>
          <a:xfrm>
            <a:off x="5364000" y="189000"/>
            <a:ext cx="3600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НА ТУРНИК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а турнике я подтян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И вот теперь собой горжу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тоя, ноги вместе, гимнастическ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алку держать в обеих руках пер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обой. Поднять палку ввер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дняться на носки—вдох, пал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опустить назад на лопатки—дли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ыдох. Выдыхая, произносить «ф-ф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ф-ф-ф». Повторить 3—4 ра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Безымянный"/>
          <p:cNvPicPr/>
          <p:nvPr/>
        </p:nvPicPr>
        <p:blipFill>
          <a:blip r:embed="rId1"/>
          <a:stretch/>
        </p:blipFill>
        <p:spPr>
          <a:xfrm>
            <a:off x="6624720" y="189000"/>
            <a:ext cx="24112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1</cp:lastModifiedBy>
  <dcterms:modified xsi:type="dcterms:W3CDTF">2020-04-04T14:39:29Z</dcterms:modified>
  <cp:revision>10</cp:revision>
  <dc:subject/>
  <dc:title>Слайд 1</dc:title>
</cp:coreProperties>
</file>