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7.wmf" ContentType="image/x-wmf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E6BF-C572-4E8F-AD87-B7F8FFD87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781B-79A8-4596-8157-A51D62C97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EFEF-04F4-4148-8DAC-DFC526EFD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0862-E33D-4248-9EED-7A3ADD640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E823-2F6B-433D-9BE9-E9A56363C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A7AE-C9B8-48F2-A773-1A2C7DEAB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18A8-108D-468A-A00F-A4370012B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4831-0656-4D6A-BFF9-EC54E765A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4E15-8E68-4460-8EFF-3BCBA7D52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59E0-A2BA-410A-A842-5E1862F4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CBA5-A272-4BF5-AB99-E4A91260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44ED-48CD-41E9-BF74-3CBA3E98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ecb2"/>
            </a:gs>
            <a:gs pos="50000">
              <a:srgbClr val="c5f1c5"/>
            </a:gs>
            <a:gs pos="100000">
              <a:srgbClr val="b2ec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F7BFB-163F-4FCB-896B-BF3EA55DDF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nfidels.eu/Dictators/Images/GeorgyMalenkov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7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310440"/>
          </a:xfrm>
          <a:prstGeom prst="rect">
            <a:avLst/>
          </a:prstGeom>
          <a:ln w="0">
            <a:noFill/>
          </a:ln>
        </p:spPr>
      </p:pic>
      <p:sp>
        <p:nvSpPr>
          <p:cNvPr id="42" name="WordArt 10"/>
          <p:cNvSpPr txBox="1"/>
          <p:nvPr/>
        </p:nvSpPr>
        <p:spPr>
          <a:xfrm>
            <a:off x="611280" y="765000"/>
            <a:ext cx="8137440" cy="460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Экономика </a:t>
            </a:r>
            <a:endParaRPr b="1" lang="en-US" sz="28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ССР</a:t>
            </a:r>
            <a:endParaRPr b="1" lang="en-US" sz="28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в 1953-1964 гг.</a:t>
            </a:r>
            <a:endParaRPr b="1" lang="en-US" sz="28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3.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Развитие промышленности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78920" y="4365720"/>
            <a:ext cx="87138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Особое внимание уделялось научно-техническому прогрессу, но заметных благодаря ему успехов удалось достичь только в военной промышленности и смежных областях.                                                                                В 1957 г. в СССР осуществлен запуск первого спутника Земли. В конце 50-х гг. СССР отправлял              в космос соба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1332000" y="4005360"/>
            <a:ext cx="2735280" cy="36828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ервый спутни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img7"/>
          <p:cNvPicPr/>
          <p:nvPr/>
        </p:nvPicPr>
        <p:blipFill>
          <a:blip r:embed="rId1"/>
          <a:stretch/>
        </p:blipFill>
        <p:spPr>
          <a:xfrm>
            <a:off x="179280" y="692280"/>
            <a:ext cx="4392720" cy="3295440"/>
          </a:xfrm>
          <a:prstGeom prst="rect">
            <a:avLst/>
          </a:prstGeom>
          <a:ln w="22320">
            <a:solidFill>
              <a:srgbClr val="003300"/>
            </a:solidFill>
            <a:miter/>
          </a:ln>
        </p:spPr>
      </p:pic>
      <p:pic>
        <p:nvPicPr>
          <p:cNvPr id="82" name="Picture 8" descr="21610000"/>
          <p:cNvPicPr/>
          <p:nvPr/>
        </p:nvPicPr>
        <p:blipFill>
          <a:blip r:embed="rId2"/>
          <a:stretch/>
        </p:blipFill>
        <p:spPr>
          <a:xfrm>
            <a:off x="4572000" y="692280"/>
            <a:ext cx="4379760" cy="3297240"/>
          </a:xfrm>
          <a:prstGeom prst="rect">
            <a:avLst/>
          </a:prstGeom>
          <a:ln w="22320">
            <a:solidFill>
              <a:srgbClr val="003300"/>
            </a:solidFill>
            <a:miter/>
          </a:ln>
        </p:spPr>
      </p:pic>
      <p:sp>
        <p:nvSpPr>
          <p:cNvPr id="83" name="Text Box 9"/>
          <p:cNvSpPr/>
          <p:nvPr/>
        </p:nvSpPr>
        <p:spPr>
          <a:xfrm>
            <a:off x="5364000" y="4005360"/>
            <a:ext cx="3097440" cy="36828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обака-космонавт Лайк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3.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Развитие промышленности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78920" y="5084280"/>
            <a:ext cx="871380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12 апреля 1961 г. – состоялся первый в истории человечества полет человека в космос -                     ПОЛЕТ                                                                              ЮРИЯ  АЛЕКСЕЕВИЧА ГАГАР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468360" y="3933720"/>
            <a:ext cx="3525840" cy="36828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Ю.А.Гагарин и С.П.Короле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4932360" y="3933720"/>
            <a:ext cx="3816360" cy="64260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Ю.А.Гагарин и Н.С.Хрущев            на трибуне мавзоле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af28a85a546aa0390db3d31fee2c6db4"/>
          <p:cNvPicPr/>
          <p:nvPr/>
        </p:nvPicPr>
        <p:blipFill>
          <a:blip r:embed="rId1"/>
          <a:stretch/>
        </p:blipFill>
        <p:spPr>
          <a:xfrm>
            <a:off x="108000" y="620640"/>
            <a:ext cx="4356000" cy="3283200"/>
          </a:xfrm>
          <a:prstGeom prst="rect">
            <a:avLst/>
          </a:prstGeom>
          <a:ln w="22320">
            <a:solidFill>
              <a:srgbClr val="003300"/>
            </a:solidFill>
            <a:miter/>
          </a:ln>
        </p:spPr>
      </p:pic>
      <p:pic>
        <p:nvPicPr>
          <p:cNvPr id="89" name="Picture 9" descr="73390800_3386193_017469"/>
          <p:cNvPicPr/>
          <p:nvPr/>
        </p:nvPicPr>
        <p:blipFill>
          <a:blip r:embed="rId2"/>
          <a:stretch/>
        </p:blipFill>
        <p:spPr>
          <a:xfrm>
            <a:off x="4500720" y="620640"/>
            <a:ext cx="4456080" cy="3281400"/>
          </a:xfrm>
          <a:prstGeom prst="rect">
            <a:avLst/>
          </a:prstGeom>
          <a:ln w="2232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3.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Развитие промышленности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Object 8"/>
          <p:cNvGraphicFramePr/>
          <p:nvPr/>
        </p:nvGraphicFramePr>
        <p:xfrm>
          <a:off x="250920" y="692280"/>
          <a:ext cx="8642160" cy="36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692280"/>
                    <a:ext cx="8642160" cy="3673440"/>
                  </a:xfrm>
                  <a:prstGeom prst="rect">
                    <a:avLst/>
                  </a:prstGeom>
                  <a:ln w="22320">
                    <a:solidFill>
                      <a:srgbClr val="00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78920" y="4436640"/>
            <a:ext cx="87138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руководстве экономикой произошли изменения – вместо упраздненных отраслевых министерств создавались территориальные советы народного хозяйства (совнархозы), число чиновников значительно возросло. Однако темпы экономического развития с каждым годом продолжали стремительно пад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4.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Социальная политик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78920" y="3716280"/>
            <a:ext cx="871380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 середине 50-х гг. была разработана комплексная система мер направленных на повышение уровня жизни населения. Регулярно повышались оклады в промышленности, росли доходы колхозников, размер пенсий для рабочих и служащих увеличивался в два раза, пенсионный возраст снижался, были отменены все виды платы за обучение, с 48 до 46 часов сокращалась рабочая нед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7164360" y="1484280"/>
            <a:ext cx="1220760" cy="64260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лакат 60-х гг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3"/>
          <p:cNvPicPr/>
          <p:nvPr/>
        </p:nvPicPr>
        <p:blipFill>
          <a:blip r:embed="rId1"/>
          <a:stretch/>
        </p:blipFill>
        <p:spPr>
          <a:xfrm>
            <a:off x="2484360" y="620640"/>
            <a:ext cx="4672080" cy="2995560"/>
          </a:xfrm>
          <a:prstGeom prst="rect">
            <a:avLst/>
          </a:prstGeom>
          <a:ln w="2232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4.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Социальная политик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78920" y="5373720"/>
            <a:ext cx="87138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Начала решаться жилищная проблема – в 1955-1964 гг. городской жилищный  фонд увеличился на 80%,               54 млн. человек бесплатно улучшили свои жилищные усло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300720" y="2708280"/>
            <a:ext cx="1725840" cy="36828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«Хрущевки»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hr"/>
          <p:cNvPicPr/>
          <p:nvPr/>
        </p:nvPicPr>
        <p:blipFill>
          <a:blip r:embed="rId1"/>
          <a:stretch/>
        </p:blipFill>
        <p:spPr>
          <a:xfrm>
            <a:off x="179280" y="620640"/>
            <a:ext cx="6048360" cy="4560840"/>
          </a:xfrm>
          <a:prstGeom prst="rect">
            <a:avLst/>
          </a:prstGeom>
          <a:ln w="22320">
            <a:solidFill>
              <a:srgbClr val="003300"/>
            </a:solidFill>
            <a:miter/>
          </a:ln>
        </p:spPr>
      </p:pic>
      <p:sp>
        <p:nvSpPr>
          <p:cNvPr id="102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3" descr=""/>
          <p:cNvPicPr/>
          <p:nvPr/>
        </p:nvPicPr>
        <p:blipFill>
          <a:blip r:embed="rId2"/>
          <a:stretch/>
        </p:blipFill>
        <p:spPr>
          <a:xfrm>
            <a:off x="6300720" y="620640"/>
            <a:ext cx="2735280" cy="1908360"/>
          </a:xfrm>
          <a:prstGeom prst="rect">
            <a:avLst/>
          </a:prstGeom>
          <a:ln w="2232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4.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Социальная политик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78920" y="5013000"/>
            <a:ext cx="87138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Укрепилась материальная база науки, образования, здравоохранения, культуры.                                                        Радиовещание охватило всю страну.                                            С 1953 г. по 1958 г. число телевизоров у населения увеличилось с 200 тыс. до 3 млн.шту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403280" y="3860640"/>
            <a:ext cx="1871640" cy="64260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Телевизор начала 60-х гг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Картинка 29 из 2055"/>
          <p:cNvPicPr/>
          <p:nvPr/>
        </p:nvPicPr>
        <p:blipFill>
          <a:blip r:embed="rId1"/>
          <a:stretch/>
        </p:blipFill>
        <p:spPr>
          <a:xfrm>
            <a:off x="179280" y="620640"/>
            <a:ext cx="4356360" cy="3221280"/>
          </a:xfrm>
          <a:prstGeom prst="rect">
            <a:avLst/>
          </a:prstGeom>
          <a:ln w="22320">
            <a:solidFill>
              <a:srgbClr val="003300"/>
            </a:solidFill>
            <a:miter/>
          </a:ln>
        </p:spPr>
      </p:pic>
      <p:pic>
        <p:nvPicPr>
          <p:cNvPr id="111" name="Picture 10" descr="924993_220_165_source"/>
          <p:cNvPicPr/>
          <p:nvPr/>
        </p:nvPicPr>
        <p:blipFill>
          <a:blip r:embed="rId2"/>
          <a:stretch/>
        </p:blipFill>
        <p:spPr>
          <a:xfrm>
            <a:off x="4500720" y="836640"/>
            <a:ext cx="4537080" cy="3403440"/>
          </a:xfrm>
          <a:prstGeom prst="rect">
            <a:avLst/>
          </a:prstGeom>
          <a:ln w="22320">
            <a:solidFill>
              <a:srgbClr val="003300"/>
            </a:solidFill>
            <a:miter/>
          </a:ln>
        </p:spPr>
      </p:pic>
      <p:sp>
        <p:nvSpPr>
          <p:cNvPr id="112" name="Text Box 11"/>
          <p:cNvSpPr/>
          <p:nvPr/>
        </p:nvSpPr>
        <p:spPr>
          <a:xfrm>
            <a:off x="4859280" y="4292640"/>
            <a:ext cx="3960720" cy="64260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Шуховская башня –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радио и телевещание ССС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179280" y="0"/>
            <a:ext cx="878544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Выводы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7632720" y="1844640"/>
            <a:ext cx="1332000" cy="91692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лакат начала  1960-х гг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78920" y="4581360"/>
            <a:ext cx="87138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В 1953-1964 гг. в руководстве страной все отчетливее становилось понимание необходимости реформирования экономики с использованием методов экономического стимулиров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0_10e621_8a202d21_XL"/>
          <p:cNvPicPr/>
          <p:nvPr/>
        </p:nvPicPr>
        <p:blipFill>
          <a:blip r:embed="rId1"/>
          <a:stretch/>
        </p:blipFill>
        <p:spPr>
          <a:xfrm>
            <a:off x="1403280" y="692280"/>
            <a:ext cx="6265800" cy="3767040"/>
          </a:xfrm>
          <a:prstGeom prst="rect">
            <a:avLst/>
          </a:prstGeom>
          <a:ln w="2232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86840" y="333360"/>
            <a:ext cx="8705880" cy="27352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Полные блоки презент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по Истории и Обществознан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Вы можете найти на сай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ttp://presentation-history.ru/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187200" y="3284640"/>
            <a:ext cx="8705880" cy="30970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На сайте также размещены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оурочные планы по истории и обществознанию с 5 по 11 классы, тестовые задания по истории и обществознанию,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веты на ВСЕ тестовые задания к ЕГЭ и ОГЭ по обществознанию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    и истории открытого банка заданий ФИПИ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, карты по Всеобщей истории  и истории России, материалы для дополнительных занятий и многое другое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179280" y="0"/>
            <a:ext cx="8785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Домашнее задание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7093080" y="4365720"/>
            <a:ext cx="1728720" cy="64260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Н.С.Хрущев и кукуруз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50560" y="692280"/>
            <a:ext cx="87138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1. Изучить параграф 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2. Ответить на вопросы на стр. 271 (устн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99a69e110b3b"/>
          <p:cNvPicPr/>
          <p:nvPr/>
        </p:nvPicPr>
        <p:blipFill>
          <a:blip r:embed="rId1"/>
          <a:stretch/>
        </p:blipFill>
        <p:spPr>
          <a:xfrm>
            <a:off x="2435400" y="1844640"/>
            <a:ext cx="4611600" cy="4897440"/>
          </a:xfrm>
          <a:prstGeom prst="rect">
            <a:avLst/>
          </a:prstGeom>
          <a:ln w="2232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569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Экономический курс Маленк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Сельскохозяйственная политика Хрущ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3. Развитие промышле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4.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Социальная поли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9"/>
          <p:cNvSpPr/>
          <p:nvPr/>
        </p:nvSpPr>
        <p:spPr>
          <a:xfrm>
            <a:off x="395280" y="0"/>
            <a:ext cx="86407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План урок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5" descr="sanatoriy-02"/>
          <p:cNvPicPr/>
          <p:nvPr/>
        </p:nvPicPr>
        <p:blipFill>
          <a:blip r:embed="rId1"/>
          <a:stretch/>
        </p:blipFill>
        <p:spPr>
          <a:xfrm>
            <a:off x="6127920" y="3141720"/>
            <a:ext cx="2833560" cy="3543120"/>
          </a:xfrm>
          <a:prstGeom prst="rect">
            <a:avLst/>
          </a:prstGeom>
          <a:ln w="22320">
            <a:solidFill>
              <a:srgbClr val="003300"/>
            </a:solidFill>
            <a:miter/>
          </a:ln>
        </p:spPr>
      </p:pic>
      <p:sp>
        <p:nvSpPr>
          <p:cNvPr id="46" name="Text Box 26"/>
          <p:cNvSpPr/>
          <p:nvPr/>
        </p:nvSpPr>
        <p:spPr>
          <a:xfrm>
            <a:off x="4716360" y="5877000"/>
            <a:ext cx="1366920" cy="64260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лакат 1950-х гг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5"/>
          <p:cNvSpPr/>
          <p:nvPr/>
        </p:nvSpPr>
        <p:spPr>
          <a:xfrm>
            <a:off x="324000" y="44280"/>
            <a:ext cx="871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1.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Экономический курс Маленков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-360" y="3357720"/>
            <a:ext cx="91090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осле смерти Сталина возникли дискуссии по поводу изменения экономического курса. В августе 1953 г. Г.М.Маленков предложил перенести упор в развитии            с тяжелой промышленности на легкую и пищевую,                   а также сельское хозяйство, в котором считал первоочередным повышение урожайности и усиление личной заинтересованности колхозников.                                      На ХХ съезде КПСС Н.С.Хрущев подверг позицию Маленкова резкой критике, он был смещен с поста,                 а начавшиеся реформы остановле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1" descr="Картинка 9 из 7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692280"/>
            <a:ext cx="1971720" cy="2592360"/>
          </a:xfrm>
          <a:prstGeom prst="rect">
            <a:avLst/>
          </a:prstGeom>
          <a:ln w="22320">
            <a:solidFill>
              <a:srgbClr val="003300"/>
            </a:solidFill>
            <a:miter/>
          </a:ln>
        </p:spPr>
      </p:pic>
      <p:sp>
        <p:nvSpPr>
          <p:cNvPr id="50" name="Text Box 12"/>
          <p:cNvSpPr/>
          <p:nvPr/>
        </p:nvSpPr>
        <p:spPr>
          <a:xfrm>
            <a:off x="2418120" y="1557360"/>
            <a:ext cx="1750320" cy="36828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Г.М.Маленко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4" descr="167"/>
          <p:cNvPicPr/>
          <p:nvPr/>
        </p:nvPicPr>
        <p:blipFill>
          <a:blip r:embed="rId3"/>
          <a:stretch/>
        </p:blipFill>
        <p:spPr>
          <a:xfrm>
            <a:off x="5940360" y="682560"/>
            <a:ext cx="2952720" cy="256860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sp>
        <p:nvSpPr>
          <p:cNvPr id="52" name="Text Box 15"/>
          <p:cNvSpPr/>
          <p:nvPr/>
        </p:nvSpPr>
        <p:spPr>
          <a:xfrm>
            <a:off x="4167720" y="2205000"/>
            <a:ext cx="1683360" cy="91692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Н.С.Хрущев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на ХХ съезд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ПСС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0" y="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Сельскохозяйственная политика Хрущев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79280" y="4365720"/>
            <a:ext cx="885672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Хрущев предлагал обеспечить подъем сельского хозяйства путем повышения закупочных цен на колхозную продукцию и быстрому расширению посевных площадей. В 1954 г. началось освоение целины. В Казахстан и Западную Сибирь были направлены 30 тыс. партработников и более 120 тыс. специалистов сельского хозяйства. За пять лет было освоено 42 млн.га целинных и залежных по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7164360" y="1413000"/>
            <a:ext cx="1871640" cy="64260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лакат 50-х гг. 20 век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1" descr="Картинка 19 из 1468"/>
          <p:cNvPicPr/>
          <p:nvPr/>
        </p:nvPicPr>
        <p:blipFill>
          <a:blip r:embed="rId1"/>
          <a:stretch/>
        </p:blipFill>
        <p:spPr>
          <a:xfrm>
            <a:off x="2050920" y="620640"/>
            <a:ext cx="5077080" cy="3581640"/>
          </a:xfrm>
          <a:prstGeom prst="rect">
            <a:avLst/>
          </a:prstGeom>
          <a:ln w="2232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0" y="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Сельскохозяйственная политика Хрущев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79280" y="4365720"/>
            <a:ext cx="885672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о инициативе Н.С.Хрущева начал внедряться принцип планирования снизу, впервые были введены пенсии для колхозников, им стали выдавать паспорта. За 1953-1958 гг. прирост продукции сельского хозяйства составил 34% по сравнению                 с предыдущим пятилетием. Но в дальнейшем                   рост значительно замедлил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547640" y="3500280"/>
            <a:ext cx="2808360" cy="64260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Н.С.Хруще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на целинных землях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5"/>
          <p:cNvPicPr/>
          <p:nvPr/>
        </p:nvPicPr>
        <p:blipFill>
          <a:blip r:embed="rId1"/>
          <a:stretch/>
        </p:blipFill>
        <p:spPr>
          <a:xfrm>
            <a:off x="611280" y="620640"/>
            <a:ext cx="4608360" cy="2862360"/>
          </a:xfrm>
          <a:prstGeom prst="rect">
            <a:avLst/>
          </a:prstGeom>
          <a:ln w="22320">
            <a:solidFill>
              <a:srgbClr val="003300"/>
            </a:solidFill>
            <a:miter/>
          </a:ln>
        </p:spPr>
      </p:pic>
      <p:pic>
        <p:nvPicPr>
          <p:cNvPr id="61" name="Picture 7" descr="Картинка 64 из 1468"/>
          <p:cNvPicPr/>
          <p:nvPr/>
        </p:nvPicPr>
        <p:blipFill>
          <a:blip r:embed="rId2"/>
          <a:stretch/>
        </p:blipFill>
        <p:spPr>
          <a:xfrm>
            <a:off x="5508720" y="620640"/>
            <a:ext cx="3114720" cy="3600360"/>
          </a:xfrm>
          <a:prstGeom prst="rect">
            <a:avLst/>
          </a:prstGeom>
          <a:ln w="2232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0" y="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Сельскохозяйственная политика Хрущев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78920" y="4365720"/>
            <a:ext cx="87138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 1959 г. началась реорганизация МТС – их имущество продавалось колхозам, часть работников уехала               в города.  Началось очередное наступление                       на собственность крестьян, колхозам и совхозам было рекомендовано скупить скот у крестьян.                             Это привело к обострению продовольственной пробл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7164360" y="1125360"/>
            <a:ext cx="1655640" cy="91692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Хлебная автоколонн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на целин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Картинка 35 из 1468"/>
          <p:cNvPicPr/>
          <p:nvPr/>
        </p:nvPicPr>
        <p:blipFill>
          <a:blip r:embed="rId1"/>
          <a:stretch/>
        </p:blipFill>
        <p:spPr>
          <a:xfrm>
            <a:off x="2195640" y="620640"/>
            <a:ext cx="4968720" cy="3627360"/>
          </a:xfrm>
          <a:prstGeom prst="rect">
            <a:avLst/>
          </a:prstGeom>
          <a:ln w="2232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0" y="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Сельскохозяйственная политика Хрущев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78920" y="4076280"/>
            <a:ext cx="871380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С 1955 по 1962 г. по личной инициативе Н.Хрущева                  в стране проходила «кукурузная эпопея».                     Посевы кукурузы были увеличены более чем вдвое, а посевные площади пшеницы и ржи сократились. Эти действия привели к общему падению объема сбора зерновых.  В 1962-1963 гг. произошел кризис              в освоении целинных земель, связанный                              с климатическими условиями и ошибками                              в освоении, приведшими к эрозии поч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11_detail_3cc6049fee0d53c6d9a1db610ecfaac9r"/>
          <p:cNvPicPr/>
          <p:nvPr/>
        </p:nvPicPr>
        <p:blipFill>
          <a:blip r:embed="rId1"/>
          <a:stretch/>
        </p:blipFill>
        <p:spPr>
          <a:xfrm>
            <a:off x="4572000" y="620640"/>
            <a:ext cx="4321080" cy="2878200"/>
          </a:xfrm>
          <a:prstGeom prst="rect">
            <a:avLst/>
          </a:prstGeom>
          <a:ln w="22320">
            <a:solidFill>
              <a:srgbClr val="003300"/>
            </a:solidFill>
            <a:miter/>
          </a:ln>
        </p:spPr>
      </p:pic>
      <p:pic>
        <p:nvPicPr>
          <p:cNvPr id="69" name="Picture 7" descr="KWeHA2XE1HM"/>
          <p:cNvPicPr/>
          <p:nvPr/>
        </p:nvPicPr>
        <p:blipFill>
          <a:blip r:embed="rId2"/>
          <a:stretch/>
        </p:blipFill>
        <p:spPr>
          <a:xfrm>
            <a:off x="179280" y="1041480"/>
            <a:ext cx="4392720" cy="2781360"/>
          </a:xfrm>
          <a:prstGeom prst="rect">
            <a:avLst/>
          </a:prstGeom>
          <a:ln w="2232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0" y="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Сельскохозяйственная политика Хрущев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78920" y="4365720"/>
            <a:ext cx="87138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родовольственный кризис привел к началу массовых закупок зерна за рубежом.                                                                 В июне 1962 г. были «временно» повышены на 30% цены на мясо и на 25 % на масло, что привело                       к массовому недовольству населения.                                                               Семилетний план (1959-1965 гг.) развития                               по сельскому хозяйству был провал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Картинка 16 из 1431"/>
          <p:cNvPicPr/>
          <p:nvPr/>
        </p:nvPicPr>
        <p:blipFill>
          <a:blip r:embed="rId1"/>
          <a:stretch/>
        </p:blipFill>
        <p:spPr>
          <a:xfrm>
            <a:off x="1692360" y="620640"/>
            <a:ext cx="5219640" cy="3684600"/>
          </a:xfrm>
          <a:prstGeom prst="rect">
            <a:avLst/>
          </a:prstGeom>
          <a:ln w="22320">
            <a:solidFill>
              <a:srgbClr val="003300"/>
            </a:solidFill>
            <a:miter/>
          </a:ln>
        </p:spPr>
      </p:pic>
      <p:sp>
        <p:nvSpPr>
          <p:cNvPr id="73" name="Text Box 7"/>
          <p:cNvSpPr/>
          <p:nvPr/>
        </p:nvSpPr>
        <p:spPr>
          <a:xfrm>
            <a:off x="6948360" y="1700280"/>
            <a:ext cx="2014560" cy="131076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Н.С.Хрущев посещает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магазин                                         в Сан-Франциско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3.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Развитие промышленности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78920" y="3213000"/>
            <a:ext cx="87138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Отказ от плана Маленкова привел к тому, что тяжелая промышленность продолжала развиваться опережающими темпами (в начале 60-х гг. доля производства средств производства составляла уже 75% от общего объема промышленной продукции). Быстрыми темпами развивались машиностроение, промышленность стройматериалов, химия, металлообработка, нефтехимия, электроэнергетика (рост в 5 раз за 1950-1955 гг.), развитие предприятий группы «Б» значительно отставало.                                                   В целом прирост промышленного производства составлял 10% в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6732720" y="1700280"/>
            <a:ext cx="2014560" cy="64260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Автомобиль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«Москвич 402»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201104180918_1_7"/>
          <p:cNvPicPr/>
          <p:nvPr/>
        </p:nvPicPr>
        <p:blipFill>
          <a:blip r:embed="rId1"/>
          <a:stretch/>
        </p:blipFill>
        <p:spPr>
          <a:xfrm>
            <a:off x="3132000" y="692280"/>
            <a:ext cx="3600720" cy="2479680"/>
          </a:xfrm>
          <a:prstGeom prst="rect">
            <a:avLst/>
          </a:prstGeom>
          <a:ln w="2232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17:26:30Z</dcterms:created>
  <dc:creator>Нафор Маточ</dc:creator>
  <dc:description/>
  <dc:language>en-US</dc:language>
  <cp:lastModifiedBy>Администратор</cp:lastModifiedBy>
  <dcterms:modified xsi:type="dcterms:W3CDTF">2020-04-04T18:55:21Z</dcterms:modified>
  <cp:revision>204</cp:revision>
  <dc:subject/>
  <dc:title>Экономика СССР в 1953-1964 гг</dc:title>
</cp:coreProperties>
</file>