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6AE-BFD0-4944-82E8-C628E164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DCC-F151-4B29-B3A7-772D2A7B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708-4FAC-44B5-A0F2-8686D9CC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296-C539-405E-951B-92B7E6F7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691-A835-4FF4-8CF1-13A816E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D35-A0E8-49D5-8D59-31F6984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57C-4E22-4039-8AE1-D1F81927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0AF-8987-433A-A88D-58924754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27A-87A7-4C61-A6AD-CDFE2A95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8E1-1245-4A9B-AEBC-494101F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DA1-3729-4CC5-9468-05D7CCE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47A-2893-49A1-A271-BAB22B8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BCD-14E4-4CD4-B87F-1520E8C7F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20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ГБОУ Школа № 21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1052280"/>
            <a:ext cx="4316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Подвижная  игра «Времена года» по сказке С. Я. Маршака «Двенадцать месяц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5013360"/>
            <a:ext cx="8785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овили воспитате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Ариткулова Д.В., Петросян Н.Э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Самарина Е.В., Соколова Ю.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3538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-115920" y="-603360"/>
            <a:ext cx="8802720" cy="287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400" y="1916280"/>
            <a:ext cx="8805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ь детей с цикличностью наступления времен года, учить  различать и называть их, называть основные признаки каждого времени года, развивать речь, память, мышление, двигательную активность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196640"/>
            <a:ext cx="349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Круг, разделенный на 4 цвета со стрелкой, и карточки 4 цветов по количеству детей (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, зеленый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</a:t>
            </a:r>
            <a:r>
              <a:rPr b="1" lang="ru-RU" sz="32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1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897440" cy="50734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-291960" y="-158760"/>
            <a:ext cx="577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457200" y="-304920"/>
            <a:ext cx="8229600" cy="20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6840" y="1197000"/>
            <a:ext cx="7715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етям раздаются карточки разных цветов (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има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есна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лето,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-</a:t>
            </a: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сень). Дети стоят врассыпную. Воспитатель крутит стрелку на круге и произносит загадки, описательное предложение, рассказ или признаки любого времени года. Те дети, у которых оказалась карточка,  цвет которой подходит под описание времени года, бегут к воспитателю и строят круг. Остальные дети садятся. Можно предложить детям вспомнить месяцы, отличительные признаки этого времени года, что делают животные, птицы, насекомые, растения. Затем игра начинается заново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99440" cy="7077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5" descr=""/>
          <p:cNvPicPr/>
          <p:nvPr/>
        </p:nvPicPr>
        <p:blipFill>
          <a:blip r:embed="rId2"/>
          <a:stretch/>
        </p:blipFill>
        <p:spPr>
          <a:xfrm>
            <a:off x="0" y="7920"/>
            <a:ext cx="486900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4" descr=""/>
          <p:cNvPicPr/>
          <p:nvPr/>
        </p:nvPicPr>
        <p:blipFill>
          <a:blip r:embed="rId3"/>
          <a:stretch/>
        </p:blipFill>
        <p:spPr>
          <a:xfrm>
            <a:off x="4859280" y="7920"/>
            <a:ext cx="4310280" cy="3925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tretch/>
        </p:blipFill>
        <p:spPr>
          <a:xfrm>
            <a:off x="2050920" y="3933720"/>
            <a:ext cx="5545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7:29:10Z</dcterms:created>
  <dc:creator>Кудряшка</dc:creator>
  <dc:description/>
  <dc:language>en-US</dc:language>
  <cp:lastModifiedBy>Кудряшка</cp:lastModifiedBy>
  <dcterms:modified xsi:type="dcterms:W3CDTF">2019-05-31T19:36:1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60000000000010290110207f7000400038000</vt:lpwstr>
  </property>
</Properties>
</file>