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1116-F898-46CD-AEAD-1831EFFA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4B2-FF21-4E7A-AAE0-52AB53A4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CC3-1D5E-47C3-80B2-48F65EB1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8631-359E-4E69-8A71-B5981F7B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2AF3-093D-4EC1-B5C8-B9E92E46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F853-1DCF-418A-BD11-4E270467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57F8-0CF1-4D1D-A952-60530FB6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C3F7-6D88-41EE-A698-8F70371D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55C1-DB8B-4B37-9B3A-61B99D48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445E-9073-4FCC-BF47-28E76A89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5B5B-766C-45CA-86D6-CE19EC28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6329-51C4-464B-8BB7-A0613943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DC55-6131-479B-84CB-8AAFC825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8120-E072-4A80-A8C6-0C50A5F5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8239-7CD2-4BBF-9C9E-19ADD84B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A561-ECD0-4CF5-9FBB-FF640712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3243-1120-4BAD-BDD8-997D5DB4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D0EC8-FFDD-4376-9FBC-9D296DE0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CEAC4-826B-4FA9-A15C-B9EF58F1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A119A-B3A9-4188-99DB-E77D0B53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C9695-4AD3-448D-8F8F-4D6F8FCE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EA9C0-7BAA-4DBA-9214-2EC73D57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1B4-3903-40F1-BE98-A305B2D2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9A17D-2976-4229-8FE7-13C4864C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40D83-0E81-42C7-B3FF-592F1CE9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0EB9D-BBC6-48D8-BCE8-E06442FA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0FAF9-C037-433B-8D56-313A26CE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21290-63CB-4D35-B698-7EE00F14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CE7CF-A8D7-4D38-8CFA-5B862136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220BB-F693-4715-B5CD-682C1CBE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C1077-E71C-4645-B294-65562106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A59BC-5B26-4DF1-96CC-1996D7D3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910D9-7FA3-4587-AE23-2E485BE2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B969-A824-4B34-9775-61D65C83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9BA67-84A2-4081-A4DC-C16BE666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211A7-FA9A-4AD8-B55D-1DB8B083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BC254-1C8E-4CA4-B9B9-37D1ED45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68F7C-FE68-40C5-BD9C-7F7F8629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B1B23-2F15-4176-A864-DBE7151C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B74A9-F692-403C-A24F-29E863D4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A7DB5-AD25-4EF8-AADA-8DD23087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25A8E-CAFE-419B-82B4-E7B0813C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04262-AF79-4115-8A99-4A824D24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ABD-9FAE-41C6-8402-BF8AC1EC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C22B-F50C-43D2-8A50-45D4112A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597D-A748-4C0B-A332-8D495B46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73AC-CA44-42D0-8375-FEC8889A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C94-1592-4675-9040-C08C5539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98B3-BAD3-4658-BAB0-5FA849F91CD9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F08C-13C5-42F0-AF70-9145A7423748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7BB3-BCA3-43FD-8708-76000D31938D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2CD4-6AC1-4D80-9821-0242D1DFE8A2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ctt-adm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3f7819"/>
                </a:solidFill>
                <a:latin typeface="Trebuchet MS"/>
              </a:rPr>
              <a:t>Аппликация из ткани</a:t>
            </a:r>
            <a:br>
              <a:rPr sz="3600"/>
            </a:br>
            <a:r>
              <a:rPr b="1" i="1" lang="ru-RU" sz="3600" spc="-1" strike="noStrike">
                <a:solidFill>
                  <a:srgbClr val="3f7819"/>
                </a:solidFill>
                <a:latin typeface="Trebuchet MS"/>
              </a:rPr>
              <a:t> Виды и свойства тканей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11280" y="170028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500" spc="-1" strike="noStrike">
                <a:solidFill>
                  <a:srgbClr val="404040"/>
                </a:solidFill>
                <a:latin typeface="Trebuchet MS"/>
              </a:rPr>
              <a:t>      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100" spc="-1" strike="noStrike">
                <a:solidFill>
                  <a:srgbClr val="3f7819"/>
                </a:solidFill>
                <a:latin typeface="Trebuchet MS"/>
              </a:rPr>
              <a:t>     </a:t>
            </a:r>
            <a:r>
              <a:rPr b="0" i="1" lang="ru-RU" sz="3100" spc="-1" strike="noStrike">
                <a:solidFill>
                  <a:srgbClr val="3f7819"/>
                </a:solidFill>
                <a:latin typeface="Trebuchet MS"/>
              </a:rPr>
              <a:t>Изделие «</a:t>
            </a:r>
            <a:r>
              <a:rPr b="1" lang="ru-RU" sz="3100" spc="-1" strike="noStrike">
                <a:solidFill>
                  <a:srgbClr val="3f7819"/>
                </a:solidFill>
                <a:latin typeface="Trebuchet MS"/>
              </a:rPr>
              <a:t>Игрушка Лошадка</a:t>
            </a:r>
            <a:r>
              <a:rPr b="0" i="1" lang="ru-RU" sz="3100" spc="-1" strike="noStrike">
                <a:solidFill>
                  <a:srgbClr val="3f7819"/>
                </a:solidFill>
                <a:latin typeface="Trebuchet MS"/>
              </a:rPr>
              <a:t>»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3f7819"/>
                </a:solidFill>
                <a:latin typeface="Trebuchet MS"/>
              </a:rPr>
              <a:t>                                           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Часть 1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                             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Теоретическая часть     </a:t>
            </a:r>
            <a:r>
              <a:rPr b="0" i="1" lang="ru-RU" sz="1700" spc="-1" strike="noStrike">
                <a:solidFill>
                  <a:srgbClr val="3f7819"/>
                </a:solidFill>
                <a:latin typeface="Trebuchet MS"/>
              </a:rPr>
              <a:t>                         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                      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200" spc="-1" strike="noStrike">
                <a:solidFill>
                  <a:srgbClr val="3f7819"/>
                </a:solidFill>
                <a:latin typeface="Trebuchet MS"/>
              </a:rPr>
              <a:t>                                                                      </a:t>
            </a: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резентацию подготовила 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                  </a:t>
            </a: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Васкелайнен Любовь Ивановна,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                  </a:t>
            </a: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едагог дополнительного образования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                  </a:t>
            </a: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Объединение  «Начальное техническое моделирование»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                  </a:t>
            </a:r>
            <a:r>
              <a:rPr b="0" lang="ru-RU" sz="12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ГБУ ДО ЦТТ Адмиралтейского района Санкт-Петербурга</a:t>
            </a: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i="1" lang="ru-RU" sz="1200" spc="-1" strike="noStrike">
                <a:solidFill>
                  <a:srgbClr val="3f7819"/>
                </a:solidFill>
                <a:latin typeface="Trebuchet MS"/>
              </a:rPr>
              <a:t>                           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200" spc="-1" strike="noStrike">
                <a:solidFill>
                  <a:srgbClr val="3f7819"/>
                </a:solidFill>
                <a:latin typeface="Trebuchet MS"/>
              </a:rPr>
              <a:t>                                                         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200" spc="-1" strike="noStrike">
                <a:solidFill>
                  <a:srgbClr val="3f7819"/>
                </a:solidFill>
                <a:latin typeface="Trebuchet MS"/>
              </a:rPr>
              <a:t>                                                                      </a:t>
            </a:r>
            <a:r>
              <a:rPr b="0" i="1" lang="ru-RU" sz="1200" spc="-1" strike="noStrike">
                <a:solidFill>
                  <a:srgbClr val="3f7819"/>
                </a:solidFill>
                <a:latin typeface="Trebuchet MS"/>
              </a:rPr>
              <a:t>2015          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5" name="Picture 2" descr="E:\Users\Любовь\Desktop\виды тканецй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Лён и хлопок</a:t>
            </a:r>
            <a:br>
              <a:rPr sz="14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7" name="Содержимое 3" descr="H:\Новая папка (3)\scan 2.jpg"/>
          <p:cNvPicPr/>
          <p:nvPr/>
        </p:nvPicPr>
        <p:blipFill>
          <a:blip r:embed="rId1"/>
          <a:stretch/>
        </p:blipFill>
        <p:spPr>
          <a:xfrm>
            <a:off x="179280" y="1557360"/>
            <a:ext cx="3097440" cy="41036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7" descr="H:\Новая папка (3)\scan 4.jpg"/>
          <p:cNvPicPr/>
          <p:nvPr/>
        </p:nvPicPr>
        <p:blipFill>
          <a:blip r:embed="rId2"/>
          <a:stretch/>
        </p:blipFill>
        <p:spPr>
          <a:xfrm>
            <a:off x="3419640" y="2276640"/>
            <a:ext cx="1944360" cy="2736720"/>
          </a:xfrm>
          <a:prstGeom prst="rect">
            <a:avLst/>
          </a:prstGeom>
          <a:ln w="0">
            <a:noFill/>
          </a:ln>
        </p:spPr>
      </p:pic>
      <p:pic>
        <p:nvPicPr>
          <p:cNvPr id="219" name="Содержимое 3" descr="H:\Новая папка (3)\scan 5.jpg"/>
          <p:cNvPicPr/>
          <p:nvPr/>
        </p:nvPicPr>
        <p:blipFill>
          <a:blip r:embed="rId3"/>
          <a:stretch/>
        </p:blipFill>
        <p:spPr>
          <a:xfrm>
            <a:off x="5364000" y="1700280"/>
            <a:ext cx="35690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Тутовый шелкопряд и овц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Содержимое 3" descr="H:\Новая папка (3)\scan 3.jpg"/>
          <p:cNvPicPr/>
          <p:nvPr/>
        </p:nvPicPr>
        <p:blipFill>
          <a:blip r:embed="rId1"/>
          <a:stretch/>
        </p:blipFill>
        <p:spPr>
          <a:xfrm>
            <a:off x="324000" y="1268280"/>
            <a:ext cx="3887640" cy="48974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3" descr="H:\Новая папка (3)\овца.jpg"/>
          <p:cNvPicPr/>
          <p:nvPr/>
        </p:nvPicPr>
        <p:blipFill>
          <a:blip r:embed="rId2"/>
          <a:stretch/>
        </p:blipFill>
        <p:spPr>
          <a:xfrm>
            <a:off x="4500720" y="1341360"/>
            <a:ext cx="4613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Свойства тканей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пособность ткани сохранять тепло, выделяемое телом челове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пособность ткани намокать, пропускать воду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пособность ткани воспринимать пыль, загрязнятьс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пособность ткани отталкивать пыль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пособность ткани увеличиваться или  уменьшаться в размера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3428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800" spc="-1" strike="noStrike">
                <a:solidFill>
                  <a:srgbClr val="3f7819"/>
                </a:solidFill>
                <a:latin typeface="Trebuchet MS"/>
              </a:rPr>
              <a:t>В переводе с латинского слова </a:t>
            </a:r>
            <a:r>
              <a:rPr b="0" lang="ru-RU" sz="2800" spc="-1" strike="noStrike" u="sng">
                <a:solidFill>
                  <a:srgbClr val="3f7819"/>
                </a:solidFill>
                <a:uFillTx/>
                <a:latin typeface="Trebuchet MS"/>
              </a:rPr>
              <a:t>аппликация</a:t>
            </a:r>
            <a:r>
              <a:rPr b="0" lang="ru-RU" sz="2800" spc="-1" strike="noStrike">
                <a:solidFill>
                  <a:srgbClr val="3f7819"/>
                </a:solidFill>
                <a:latin typeface="Trebuchet MS"/>
              </a:rPr>
              <a:t> означает “прикладывание”.- создание художественных изображений  нашиванием на ткань или наклеиванием на бумагу разноцветных кусочков какого-либо материал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1908000" y="0"/>
            <a:ext cx="48247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Физкульминутк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28280"/>
            <a:ext cx="3898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Цок-цок-цок-цок!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Я лошадка – серый бок!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Я копытцем постучу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Если хочешь - прокачу!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смотри, как я красива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Хороши и хвост, и грив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Цок-цок-цок-цок!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Я лошадка – серый бок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0" name="Picture 4" descr="G:\ло.jpg"/>
          <p:cNvPicPr/>
          <p:nvPr/>
        </p:nvPicPr>
        <p:blipFill>
          <a:blip r:embed="rId1"/>
          <a:stretch/>
        </p:blipFill>
        <p:spPr>
          <a:xfrm>
            <a:off x="4284720" y="1700280"/>
            <a:ext cx="44910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Отгадайте загадку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 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стрее ветра я скачу,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''Цок-цок,'' – копытами стучу,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 Я громко ''иго-го'' кричу,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 Садись на спину – прокачу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 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Лошад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Picture 4" descr="E:\Users\Любовь\Desktop\ЛОШД.jpg"/>
          <p:cNvPicPr/>
          <p:nvPr/>
        </p:nvPicPr>
        <p:blipFill>
          <a:blip r:embed="rId1"/>
          <a:stretch/>
        </p:blipFill>
        <p:spPr>
          <a:xfrm>
            <a:off x="4537080" y="3860640"/>
            <a:ext cx="3652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 человеком очень дружит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 ему надёжно служит,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 хозяйству помогает.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 сани он её впрягает,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 - с подковами копыта.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 ней большая сила скрыта.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Picture 5" descr="E:\Users\Любовь\Desktop\п.jpg"/>
          <p:cNvPicPr/>
          <p:nvPr/>
        </p:nvPicPr>
        <p:blipFill>
          <a:blip r:embed="rId1"/>
          <a:stretch/>
        </p:blipFill>
        <p:spPr>
          <a:xfrm>
            <a:off x="5219640" y="3860640"/>
            <a:ext cx="3456000" cy="2592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E:\Users\Любовь\Desktop\ппп.jpg"/>
          <p:cNvPicPr/>
          <p:nvPr/>
        </p:nvPicPr>
        <p:blipFill>
          <a:blip r:embed="rId2"/>
          <a:stretch/>
        </p:blipFill>
        <p:spPr>
          <a:xfrm>
            <a:off x="539640" y="4149720"/>
            <a:ext cx="3795840" cy="2519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E:\Users\Любовь\Desktop\ппппп.jpg"/>
          <p:cNvPicPr/>
          <p:nvPr/>
        </p:nvPicPr>
        <p:blipFill>
          <a:blip r:embed="rId3"/>
          <a:stretch/>
        </p:blipFill>
        <p:spPr>
          <a:xfrm>
            <a:off x="1332000" y="189000"/>
            <a:ext cx="2160360" cy="1349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E:\Users\Любовь\Desktop\лог.jpg"/>
          <p:cNvPicPr/>
          <p:nvPr/>
        </p:nvPicPr>
        <p:blipFill>
          <a:blip r:embed="rId4"/>
          <a:stretch/>
        </p:blipFill>
        <p:spPr>
          <a:xfrm>
            <a:off x="4822920" y="549360"/>
            <a:ext cx="4321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2:11:40Z</dcterms:created>
  <dc:creator>WIN7XP</dc:creator>
  <dc:description/>
  <dc:language>en-US</dc:language>
  <cp:lastModifiedBy>Любовь</cp:lastModifiedBy>
  <dcterms:modified xsi:type="dcterms:W3CDTF">2020-04-03T23:44:18Z</dcterms:modified>
  <cp:revision>97</cp:revision>
  <dc:subject/>
  <dc:title>Слайд 1</dc:title>
</cp:coreProperties>
</file>