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46B-565B-4F15-B105-953EE674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F58-3F81-4C54-8FEB-1F88BD51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4C3-D755-453F-A0B6-E7296624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DC9-83CC-4B5E-9ECE-BB11B2D0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C72B-7C52-4E2F-BFE5-ED07D176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CCC9-EDEE-491A-921C-F7E69DD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B360-75CE-4E4A-9818-0DF47089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8A9F-5DF9-44ED-A79F-506EC51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CC8-0A5D-4228-A173-59F238AC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DAA-10E0-444E-9671-85892FBD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CC7-2926-4479-8EF4-2FB4735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AA4-70B6-4524-BA95-A9C0E14D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2C4-9847-4E30-97B9-6FF1121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6534-EC17-448C-8248-B785963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107B-C7D8-4EF4-A040-DE6C9132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BDA-61AB-49ED-A5E2-7E458BB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30F8-487B-488C-907B-22042634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28DD-47FC-472A-B655-F7738D98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59F2-36A6-4034-80B2-AA5DB4C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32D6-AC57-400C-AFC5-240DEDF1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C5F0-82CB-4CA1-9638-6C6F8C1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C2A1-0B73-4616-978E-0DF684DA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F80-D13C-42C6-969D-4BCB79B1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4902-0270-425D-9802-B888D52F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30B4-1CC0-405F-97FC-9AF9AC4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2050-476D-4008-AA03-B95CF71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334C-60B8-42FA-BD8B-F104E48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B8C1-7C99-40F3-8599-51BAC194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CE74-8B82-4937-A951-6D78F792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693B-55AC-4571-9E7D-C4368B9D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CA87-C5EF-4841-84DB-5D965B56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FB97-4065-4EC1-83B0-93DFDC6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5517-965F-4D50-8C14-6FA406C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685-0EA6-4424-A233-884A16E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F589-30AB-4AC1-8816-92600CF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DE86-EDBB-45C5-91CA-802A62D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C939-C00F-4D12-8F4D-B974158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30A7-9DCB-4E79-BC93-E82FA03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CF76B-D68E-4283-8A0C-08D4BE8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E526-8D15-4FE9-8ADB-44DD4C2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E6B6-1160-485B-8AEC-FBAB5187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2280-A404-463C-9B2A-3AE04CAF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8F77-D685-441F-A058-4105213B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6BD-A6EA-4048-8997-C4772BA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A59-E027-4D4E-9106-1E48095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CCB-0159-4B98-856F-D625F66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C2F-1B25-477D-834E-DF11145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157-16A1-4991-9347-8F04194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445-00D1-4410-9DE0-9F2B0A39007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80E-C3C8-4D7A-BCC0-B9F562B69FB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F959-00F1-4AFA-A906-610F1EE2F7F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499-6D13-4343-9720-3F3BD3DD199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ctt-adm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3f7819"/>
                </a:solidFill>
                <a:latin typeface="Trebuchet MS"/>
              </a:rPr>
              <a:t>Аппликация из ткани</a:t>
            </a:r>
            <a:br>
              <a:rPr sz="3600"/>
            </a:br>
            <a:r>
              <a:rPr b="1" i="1" lang="ru-RU" sz="3600" spc="-1" strike="noStrike">
                <a:solidFill>
                  <a:srgbClr val="3f7819"/>
                </a:solidFill>
                <a:latin typeface="Trebuchet MS"/>
              </a:rPr>
              <a:t> Виды и свойства тканей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17002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     </a:t>
            </a: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Изделие «</a:t>
            </a:r>
            <a:r>
              <a:rPr b="1" lang="ru-RU" sz="3100" spc="-1" strike="noStrike">
                <a:solidFill>
                  <a:srgbClr val="3f7819"/>
                </a:solidFill>
                <a:latin typeface="Trebuchet MS"/>
              </a:rPr>
              <a:t>Игрушка Лошадка</a:t>
            </a:r>
            <a:r>
              <a:rPr b="0" i="1" lang="ru-RU" sz="3100" spc="-1" strike="noStrike">
                <a:solidFill>
                  <a:srgbClr val="3f7819"/>
                </a:solidFill>
                <a:latin typeface="Trebuchet MS"/>
              </a:rPr>
              <a:t>»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3f7819"/>
                </a:solidFill>
                <a:latin typeface="Trebuchet MS"/>
              </a:rPr>
              <a:t>                                         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Часть 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                        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Теоретическая часть     </a:t>
            </a:r>
            <a:r>
              <a:rPr b="0" i="1" lang="ru-RU" sz="1700" spc="-1" strike="noStrike">
                <a:solidFill>
                  <a:srgbClr val="3f7819"/>
                </a:solidFill>
                <a:latin typeface="Trebuchet MS"/>
              </a:rPr>
              <a:t>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резентацию подготовила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аскелайнен Любовь Ивановна,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едагог дополнительного образования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Объединение  «Начальное техническое моделирование»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</a:t>
            </a:r>
            <a:r>
              <a:rPr b="0" lang="ru-RU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ГБУ ДО ЦТТ Адмиралтейского района Санкт-Петербурга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                                                                      </a:t>
            </a:r>
            <a:r>
              <a:rPr b="0" i="1" lang="ru-RU" sz="1200" spc="-1" strike="noStrike">
                <a:solidFill>
                  <a:srgbClr val="3f7819"/>
                </a:solidFill>
                <a:latin typeface="Trebuchet MS"/>
              </a:rPr>
              <a:t>2015         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Игрушки лошад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4" descr="E:\Users\Любовь\Desktop\ЛОША.gif"/>
          <p:cNvPicPr/>
          <p:nvPr/>
        </p:nvPicPr>
        <p:blipFill>
          <a:blip r:embed="rId1"/>
          <a:stretch/>
        </p:blipFill>
        <p:spPr>
          <a:xfrm>
            <a:off x="611280" y="1557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E:\Users\Любовь\Desktop\ЛОШАДКА.jpg"/>
          <p:cNvPicPr/>
          <p:nvPr/>
        </p:nvPicPr>
        <p:blipFill>
          <a:blip r:embed="rId2"/>
          <a:stretch/>
        </p:blipFill>
        <p:spPr>
          <a:xfrm>
            <a:off x="6084720" y="1557360"/>
            <a:ext cx="2767320" cy="22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E:\Users\Любовь\Desktop\олош.jpg"/>
          <p:cNvPicPr/>
          <p:nvPr/>
        </p:nvPicPr>
        <p:blipFill>
          <a:blip r:embed="rId3"/>
          <a:stretch/>
        </p:blipFill>
        <p:spPr>
          <a:xfrm>
            <a:off x="6372360" y="414972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E:\Users\Любовь\Desktop\лошпр.jpg"/>
          <p:cNvPicPr/>
          <p:nvPr/>
        </p:nvPicPr>
        <p:blipFill>
          <a:blip r:embed="rId4"/>
          <a:stretch/>
        </p:blipFill>
        <p:spPr>
          <a:xfrm>
            <a:off x="611280" y="407664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Users\Любовь\Desktop\лощ.jpg"/>
          <p:cNvPicPr/>
          <p:nvPr/>
        </p:nvPicPr>
        <p:blipFill>
          <a:blip r:embed="rId5"/>
          <a:stretch/>
        </p:blipFill>
        <p:spPr>
          <a:xfrm>
            <a:off x="3203640" y="1557360"/>
            <a:ext cx="2676600" cy="273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E:\Users\Любовь\Desktop\олог.jpg"/>
          <p:cNvPicPr/>
          <p:nvPr/>
        </p:nvPicPr>
        <p:blipFill>
          <a:blip r:embed="rId6"/>
          <a:stretch/>
        </p:blipFill>
        <p:spPr>
          <a:xfrm>
            <a:off x="3564000" y="4653000"/>
            <a:ext cx="25034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ппликация  из  ткани «Игрушка  лошад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G:\DCIM\123_PANA\P1230547.JPG"/>
          <p:cNvPicPr/>
          <p:nvPr/>
        </p:nvPicPr>
        <p:blipFill>
          <a:blip r:embed="rId1"/>
          <a:stretch/>
        </p:blipFill>
        <p:spPr>
          <a:xfrm>
            <a:off x="1476360" y="1700280"/>
            <a:ext cx="67197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ля работы необходимо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G:\DCIM\123_PANA\P1230534.JPG"/>
          <p:cNvPicPr/>
          <p:nvPr/>
        </p:nvPicPr>
        <p:blipFill>
          <a:blip r:embed="rId1"/>
          <a:stretch/>
        </p:blipFill>
        <p:spPr>
          <a:xfrm>
            <a:off x="468360" y="1481040"/>
            <a:ext cx="80643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авила работы с ножницам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Для ножниц должно быть свое место на рабочем столе; 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2. Перед тем, как положить ножницы на место обязательно нужно их сомкнуть, а передавать следует отверстиями для пальцев вперед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3. Не держите ножницы острыми частями вверх, а также не используйте их при ослабленном центральном креплении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4. Лучше всего работать с хорошо заточенными ножницами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5. При работе внимательно следите за направлением резки. Не режьте на ходу;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6. Во время работы удерживайте ткань левой рукой так, чтобы пальцы были в стороне от лезвия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Алгоритм изготовле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>
              <a:lnSpc>
                <a:spcPct val="80000"/>
              </a:lnSpc>
              <a:spcBef>
                <a:spcPts val="1001"/>
              </a:spcBef>
              <a:spcAft>
                <a:spcPts val="2837"/>
              </a:spcAft>
              <a:buClr>
                <a:srgbClr val="90c226"/>
              </a:buClr>
              <a:buSzPct val="45000"/>
              <a:buFont typeface="Wingdings" charset="2"/>
              <a:buChar char=""/>
              <a:tabLst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По шаблону на ткани рисуем силуэ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1280">
              <a:lnSpc>
                <a:spcPct val="80000"/>
              </a:lnSpc>
              <a:spcBef>
                <a:spcPts val="1001"/>
              </a:spcBef>
              <a:spcAft>
                <a:spcPts val="2837"/>
              </a:spcAft>
              <a:buClr>
                <a:srgbClr val="90c226"/>
              </a:buClr>
              <a:buSzPct val="45000"/>
              <a:buFont typeface="Wingdings" charset="2"/>
              <a:buChar char=""/>
              <a:tabLst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Вырезаем силуэт по прорисованным линиям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1280">
              <a:lnSpc>
                <a:spcPct val="80000"/>
              </a:lnSpc>
              <a:spcBef>
                <a:spcPts val="1001"/>
              </a:spcBef>
              <a:spcAft>
                <a:spcPts val="2837"/>
              </a:spcAft>
              <a:buClr>
                <a:srgbClr val="90c226"/>
              </a:buClr>
              <a:buSzPct val="45000"/>
              <a:buFont typeface="Wingdings" charset="2"/>
              <a:buChar char=""/>
              <a:tabLst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Промазываем клеем деталь с обратной стороны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1280">
              <a:lnSpc>
                <a:spcPct val="80000"/>
              </a:lnSpc>
              <a:spcBef>
                <a:spcPts val="1001"/>
              </a:spcBef>
              <a:spcAft>
                <a:spcPts val="2837"/>
              </a:spcAft>
              <a:buClr>
                <a:srgbClr val="90c226"/>
              </a:buClr>
              <a:buSzPct val="45000"/>
              <a:buFont typeface="Wingdings" charset="2"/>
              <a:buChar char=""/>
              <a:tabLst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Приклеиваем к подготовленному фон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1280">
              <a:lnSpc>
                <a:spcPct val="80000"/>
              </a:lnSpc>
              <a:spcBef>
                <a:spcPts val="1001"/>
              </a:spcBef>
              <a:spcAft>
                <a:spcPts val="2837"/>
              </a:spcAft>
              <a:buClr>
                <a:srgbClr val="90c226"/>
              </a:buClr>
              <a:buSzPct val="45000"/>
              <a:buFont typeface="Wingdings" charset="2"/>
              <a:buChar char=""/>
              <a:tabLst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 </a:t>
            </a:r>
            <a:r>
              <a:rPr b="0" lang="ru-RU" sz="1900" spc="-1" strike="noStrike">
                <a:solidFill>
                  <a:srgbClr val="355973"/>
                </a:solidFill>
                <a:latin typeface="Tahoma"/>
                <a:ea typeface="Tahoma"/>
              </a:rPr>
              <a:t>Чтобы  закрепить  аппликацию,   кладём её под пресс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1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1280"/>
                <a:tab algn="l" pos="716040"/>
                <a:tab algn="l" pos="1434960"/>
                <a:tab algn="l" pos="2154240"/>
                <a:tab algn="l" pos="2873520"/>
                <a:tab algn="l" pos="3592440"/>
                <a:tab algn="l" pos="4311720"/>
                <a:tab algn="l" pos="5030640"/>
                <a:tab algn="l" pos="5749920"/>
                <a:tab algn="l" pos="6469200"/>
                <a:tab algn="l" pos="7188120"/>
                <a:tab algn="l" pos="7907400"/>
                <a:tab algn="l" pos="8626320"/>
                <a:tab algn="l" pos="9345600"/>
                <a:tab algn="l" pos="10064880"/>
                <a:tab algn="l" pos="107838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Физкульминут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Эй, лошадки, все за мной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Поспешим на водопой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Вот река, широка и глубока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Не достанешь до дна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А водица вкусна! Пейте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Хороша водица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Постучим копытцем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Эй, лошадки, все за мной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Поскакали домой, Гоп-гоп-гоп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3" descr="G:\л.jpg"/>
          <p:cNvPicPr/>
          <p:nvPr/>
        </p:nvPicPr>
        <p:blipFill>
          <a:blip r:embed="rId1"/>
          <a:stretch/>
        </p:blipFill>
        <p:spPr>
          <a:xfrm>
            <a:off x="4500720" y="1844640"/>
            <a:ext cx="4446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1:40Z</dcterms:created>
  <dc:creator>WIN7XP</dc:creator>
  <dc:description/>
  <dc:language>en-US</dc:language>
  <cp:lastModifiedBy>Любовь</cp:lastModifiedBy>
  <dcterms:modified xsi:type="dcterms:W3CDTF">2020-04-03T23:45:30Z</dcterms:modified>
  <cp:revision>97</cp:revision>
  <dc:subject/>
  <dc:title>Слайд 1</dc:title>
</cp:coreProperties>
</file>