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EF4-4111-452A-B4AD-9DE132AD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59A-FF21-4344-A185-FAA9396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69B-AF13-4502-A2D9-8BF8AEB9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3D4-C0B2-47CD-AFE7-EB1E8D26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1C0-8B14-4E47-AB4D-490CE61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276-8546-4D21-AEE4-938C100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C4D-E147-49C4-A2AE-25126D1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0EF-F1B3-4AFC-88EB-33188DF0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BA5-CEBF-4A53-B15B-939F84F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A79-8C47-460D-819A-1A8C957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206-71E9-45CC-B09E-ACC7300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FF3-E0CE-4C12-80F2-DDB22D2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A8C-3B90-4682-94DB-AC7D41082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076400" y="828720"/>
            <a:ext cx="578160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я числи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часть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28760" y="741240"/>
            <a:ext cx="8429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вы познакомитесь с основными признаками имени числительного как части речи, узнаете, чем отличаются порядковые и количественные числительные, а так же выучите правило написания мягкого знака в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признаки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стые, сложные и состав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ягкий знак на конце и в середине числи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42960" y="1643040"/>
          <a:ext cx="8072280" cy="407052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надца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ерв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            </a:t>
                      </a:r>
                      <a:r>
                        <a:rPr b="1" i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ятисотый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Рисунок 1" descr="j0356784"/>
          <p:cNvPicPr/>
          <p:nvPr/>
        </p:nvPicPr>
        <p:blipFill>
          <a:blip r:embed="rId1"/>
          <a:stretch/>
        </p:blipFill>
        <p:spPr>
          <a:xfrm>
            <a:off x="5643720" y="44290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j0283494"/>
          <p:cNvPicPr/>
          <p:nvPr/>
        </p:nvPicPr>
        <p:blipFill>
          <a:blip r:embed="rId2"/>
          <a:stretch/>
        </p:blipFill>
        <p:spPr>
          <a:xfrm>
            <a:off x="1643040" y="4357800"/>
            <a:ext cx="104760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1212840" y="426960"/>
            <a:ext cx="6645240" cy="925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714240" y="5788800"/>
            <a:ext cx="8072640" cy="825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слова этой части речи делятся на два разряда: количественные и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4232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14200" y="1571760"/>
          <a:ext cx="8715600" cy="4432320"/>
        </p:xfrm>
        <a:graphic>
          <a:graphicData uri="http://schemas.openxmlformats.org/drawingml/2006/table">
            <a:tbl>
              <a:tblPr/>
              <a:tblGrid>
                <a:gridCol w="939960"/>
                <a:gridCol w="1290600"/>
                <a:gridCol w="927000"/>
                <a:gridCol w="1332000"/>
                <a:gridCol w="1327320"/>
                <a:gridCol w="1184040"/>
                <a:gridCol w="1714680"/>
              </a:tblGrid>
              <a:tr h="804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енны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орядковые числ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ят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 пя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 пя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3"/>
          <p:cNvSpPr/>
          <p:nvPr/>
        </p:nvSpPr>
        <p:spPr>
          <a:xfrm>
            <a:off x="948600" y="621540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 изменяются только по падеж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928880" y="3643200"/>
            <a:ext cx="214200" cy="2145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928880" y="4857840"/>
            <a:ext cx="214200" cy="21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64540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57120" y="1714680"/>
          <a:ext cx="8358120" cy="2803320"/>
        </p:xfrm>
        <a:graphic>
          <a:graphicData uri="http://schemas.openxmlformats.org/drawingml/2006/table">
            <a:tbl>
              <a:tblPr/>
              <a:tblGrid>
                <a:gridCol w="1857600"/>
                <a:gridCol w="2857320"/>
                <a:gridCol w="3643200"/>
              </a:tblGrid>
              <a:tr h="60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а числитель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ьсо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ёхсоты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двадцать 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сти шестнадца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"/>
          <p:cNvSpPr/>
          <p:nvPr/>
        </p:nvSpPr>
        <p:spPr>
          <a:xfrm>
            <a:off x="214200" y="493236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30"/>
          <p:cNvPicPr/>
          <p:nvPr/>
        </p:nvPicPr>
        <p:blipFill>
          <a:blip r:embed="rId2"/>
          <a:stretch/>
        </p:blipFill>
        <p:spPr>
          <a:xfrm>
            <a:off x="6858000" y="4857840"/>
            <a:ext cx="1733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8570880" cy="157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57120" y="1857240"/>
          <a:ext cx="8429760" cy="3143520"/>
        </p:xfrm>
        <a:graphic>
          <a:graphicData uri="http://schemas.openxmlformats.org/drawingml/2006/table">
            <a:tbl>
              <a:tblPr/>
              <a:tblGrid>
                <a:gridCol w="2809800"/>
                <a:gridCol w="2810160"/>
                <a:gridCol w="2809800"/>
              </a:tblGrid>
              <a:tr h="1070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ягкий знак не пиш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а конц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середине числитель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 16, 17, 18, 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20 и 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ительном 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80 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0 до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214200" y="550188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помнить эти правила выполните упраж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85480" y="9997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начению числительные делятся на два  разряда: количественные и порядков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обенностям строения числительные бывают трех видов: простые, сложные и состав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ительных от5 до 20 и в числительном 30 на конце пишется мягкий знак. В числительных от 50 до 80 и от 500 до 900 в середине пишется мягки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12:48Z</dcterms:created>
  <dc:creator>Zver</dc:creator>
  <dc:description/>
  <dc:language>en-US</dc:language>
  <cp:lastModifiedBy>ДОМ</cp:lastModifiedBy>
  <dcterms:modified xsi:type="dcterms:W3CDTF">2020-04-03T13:46:26Z</dcterms:modified>
  <cp:revision>14</cp:revision>
  <dc:subject/>
  <dc:title>Слайд 1</dc:title>
</cp:coreProperties>
</file>