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295-D357-465F-B502-2F5C43BD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1C8-A4C2-4455-908B-A3B0079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37A-F464-45A7-998C-2A4606EA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F38-5A4D-42C5-B639-941007C6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640-84D5-4204-BDCC-840F3907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E51-DBB5-46B6-AEF5-2E0648E5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C3B-6A48-45F8-9632-64E6EAD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243-DE2E-47CB-91D2-D94CF63C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2BE-FDE0-432F-B548-4DAF62C9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F85-D678-4E25-9926-CCA2C63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EEA-1F40-4C4D-92BF-8418040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C40-8384-4858-B1F5-AE843B6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72A-24EA-4A57-8FBE-0B65C54B6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ynulya.www.nn.ru/users/foto/218656-2010-09-03-846496038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18656-2010-09-03-846496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6084720" y="4292640"/>
            <a:ext cx="3059280" cy="2565360"/>
            <a:chOff x="6084720" y="4292640"/>
            <a:chExt cx="3059280" cy="2565360"/>
          </a:xfrm>
        </p:grpSpPr>
        <p:pic>
          <p:nvPicPr>
            <p:cNvPr id="43" name="Picture 6" descr="218656-2010-09-03-846496038">
              <a:hlinkClick r:id="rId2" action="ppaction://hlinksldjump"/>
            </p:cNvPr>
            <p:cNvPicPr/>
            <p:nvPr/>
          </p:nvPicPr>
          <p:blipFill>
            <a:blip r:embed="rId3"/>
            <a:srcRect l="66547" t="62598" r="0" b="0"/>
            <a:stretch/>
          </p:blipFill>
          <p:spPr>
            <a:xfrm>
              <a:off x="6084720" y="4292640"/>
              <a:ext cx="305928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WordArt 7"/>
            <p:cNvSpPr txBox="1"/>
            <p:nvPr/>
          </p:nvSpPr>
          <p:spPr>
            <a:xfrm>
              <a:off x="7093080" y="5516640"/>
              <a:ext cx="158256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ЖМИ</a:t>
              </a:r>
              <a:endParaRPr b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5" name="WordArt 9"/>
          <p:cNvSpPr txBox="1"/>
          <p:nvPr/>
        </p:nvSpPr>
        <p:spPr>
          <a:xfrm>
            <a:off x="4894200" y="3933720"/>
            <a:ext cx="4249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    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4859280" y="2349360"/>
            <a:ext cx="38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ловарные слова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класс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4427640" y="1341360"/>
            <a:ext cx="45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Интерактивный тренажёр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5" name="WordArt 3"/>
          <p:cNvSpPr txBox="1"/>
          <p:nvPr/>
        </p:nvSpPr>
        <p:spPr>
          <a:xfrm>
            <a:off x="3348000" y="357336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ы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708360" y="4508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780000" y="3645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4" name="WordArt 3"/>
          <p:cNvSpPr txBox="1"/>
          <p:nvPr/>
        </p:nvSpPr>
        <p:spPr>
          <a:xfrm>
            <a:off x="3203640" y="3429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тр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067280" y="4221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414036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3" name="WordArt 3"/>
          <p:cNvSpPr txBox="1"/>
          <p:nvPr/>
        </p:nvSpPr>
        <p:spPr>
          <a:xfrm>
            <a:off x="2556000" y="3357720"/>
            <a:ext cx="5040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 рандаш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059280" y="4149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3059280" y="3429000"/>
            <a:ext cx="50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2" name="WordArt 3"/>
          <p:cNvSpPr txBox="1"/>
          <p:nvPr/>
        </p:nvSpPr>
        <p:spPr>
          <a:xfrm>
            <a:off x="3132000" y="3357720"/>
            <a:ext cx="41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я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85128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385128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1" name="WordArt 3"/>
          <p:cNvSpPr txBox="1"/>
          <p:nvPr/>
        </p:nvSpPr>
        <p:spPr>
          <a:xfrm>
            <a:off x="2987640" y="357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  льт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708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3708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0" name="WordArt 3"/>
          <p:cNvSpPr txBox="1"/>
          <p:nvPr/>
        </p:nvSpPr>
        <p:spPr>
          <a:xfrm>
            <a:off x="2771640" y="342900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   ниц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406728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414036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" name="WordArt 3"/>
          <p:cNvSpPr txBox="1"/>
          <p:nvPr/>
        </p:nvSpPr>
        <p:spPr>
          <a:xfrm>
            <a:off x="2843280" y="342900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о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92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356400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WordArt 3"/>
          <p:cNvSpPr txBox="1"/>
          <p:nvPr/>
        </p:nvSpPr>
        <p:spPr>
          <a:xfrm>
            <a:off x="3348000" y="357336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  ц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5003640" y="4437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507672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1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7" name="WordArt 3"/>
          <p:cNvSpPr txBox="1"/>
          <p:nvPr/>
        </p:nvSpPr>
        <p:spPr>
          <a:xfrm>
            <a:off x="3564000" y="357336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яг   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716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4716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3"/>
          <p:cNvSpPr/>
          <p:nvPr/>
        </p:nvSpPr>
        <p:spPr>
          <a:xfrm>
            <a:off x="395280" y="620640"/>
            <a:ext cx="7416720" cy="3313080"/>
          </a:xfrm>
          <a:prstGeom prst="cloudCallout">
            <a:avLst>
              <a:gd name="adj1" fmla="val 25879"/>
              <a:gd name="adj2" fmla="val 8032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332000" y="1268280"/>
            <a:ext cx="615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молодец! У тебя всё получи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ли ошибся где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опытаться  ещё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ми на моё изображение и, я увер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ебя больше не будет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m03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64360" y="3860640"/>
            <a:ext cx="2879640" cy="27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06203879_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716280"/>
            <a:ext cx="287496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/>
          <p:cNvSpPr/>
          <p:nvPr/>
        </p:nvSpPr>
        <p:spPr>
          <a:xfrm>
            <a:off x="395280" y="620640"/>
            <a:ext cx="7416720" cy="3313080"/>
          </a:xfrm>
          <a:prstGeom prst="cloudCallout">
            <a:avLst>
              <a:gd name="adj1" fmla="val 25879"/>
              <a:gd name="adj2" fmla="val 8032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42240" y="1197000"/>
            <a:ext cx="675972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равствуй, дорогой дру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ы хорошо знаешь правописание словарных сл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мы сейчас и провер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и на моё изображение и выбирай кноп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ужной буквой. Чтобы перейти на следующий слай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и на изображение Черепах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7"/>
          <p:cNvSpPr txBox="1"/>
          <p:nvPr/>
        </p:nvSpPr>
        <p:spPr>
          <a:xfrm>
            <a:off x="2195640" y="189000"/>
            <a:ext cx="511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чники Интернета: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1 слайда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ynulya.www.nn.ru/users/foto/218656-2010-09-03-846496038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3-18 слайд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obsh.ru/tw_files2/urls_1/110/d-109635/109635_html_47035238.jpg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ьвёнок на 19 слай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www.klass39.ru/tag/baby-tim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ьвёнок на 2 слай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psdmania.ru/psd-clipart/775-lvenok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20 слайда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gdekino.info/sites/default/files/styles/film_page_big/public/kadri/21.08.2012/155327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1306203879_1"/>
          <p:cNvPicPr/>
          <p:nvPr/>
        </p:nvPicPr>
        <p:blipFill>
          <a:blip r:embed="rId3"/>
          <a:stretch/>
        </p:blipFill>
        <p:spPr>
          <a:xfrm>
            <a:off x="6372360" y="4941720"/>
            <a:ext cx="172692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" name="WordArt 7"/>
          <p:cNvSpPr txBox="1"/>
          <p:nvPr/>
        </p:nvSpPr>
        <p:spPr>
          <a:xfrm>
            <a:off x="2771640" y="314172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робе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348000" y="42940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3419640" y="343044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AutoShape 24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5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6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7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1" name="WordArt 3"/>
          <p:cNvSpPr txBox="1"/>
          <p:nvPr/>
        </p:nvSpPr>
        <p:spPr>
          <a:xfrm>
            <a:off x="2771640" y="342900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ревн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56400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363528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" name="WordArt 3"/>
          <p:cNvSpPr txBox="1"/>
          <p:nvPr/>
        </p:nvSpPr>
        <p:spPr>
          <a:xfrm>
            <a:off x="2771640" y="335772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   ч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859280" y="4149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859280" y="335772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9" name="WordArt 3"/>
          <p:cNvSpPr txBox="1"/>
          <p:nvPr/>
        </p:nvSpPr>
        <p:spPr>
          <a:xfrm>
            <a:off x="3348000" y="3500280"/>
            <a:ext cx="352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вар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1964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3419640" y="350028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8" name="WordArt 3"/>
          <p:cNvSpPr txBox="1"/>
          <p:nvPr/>
        </p:nvSpPr>
        <p:spPr>
          <a:xfrm>
            <a:off x="2556000" y="3284640"/>
            <a:ext cx="49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журны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20364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3203640" y="350028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7" name="WordArt 3"/>
          <p:cNvSpPr txBox="1"/>
          <p:nvPr/>
        </p:nvSpPr>
        <p:spPr>
          <a:xfrm>
            <a:off x="2916360" y="321300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скв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406728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6" name="WordArt 3"/>
          <p:cNvSpPr txBox="1"/>
          <p:nvPr/>
        </p:nvSpPr>
        <p:spPr>
          <a:xfrm>
            <a:off x="2843280" y="357336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 ши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708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708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0:10:57Z</dcterms:created>
  <dc:creator>Елена</dc:creator>
  <dc:description/>
  <dc:language>en-US</dc:language>
  <cp:lastModifiedBy>IGOR</cp:lastModifiedBy>
  <dcterms:modified xsi:type="dcterms:W3CDTF">2018-03-19T15:53:43Z</dcterms:modified>
  <cp:revision>8</cp:revision>
  <dc:subject/>
  <dc:title>Слайд 1</dc:title>
</cp:coreProperties>
</file>