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8BF6-16BD-4C1B-9E43-3FA88096C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9D00-A8A6-4512-A02D-47EE56B1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DB7F-6855-48FE-A006-030E524B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66F3-7198-4270-B752-F4D0A69B4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6CBF-C87C-47F6-867F-F2779E1E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552E-0B32-452E-AB4E-B20F9CB8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53D4-CD46-41B7-AD8D-D65C61A9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F41A-B578-448B-946C-127B325B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3D8B-CC9D-420E-B36A-2D9C85F6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01C2-483A-41C1-A4CB-07F9FF88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4AEC-3CA5-4B6E-B2F1-CD03E87F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B7F6-2E19-4BAA-BEB4-7AA0B9F0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baff"/>
            </a:gs>
            <a:gs pos="50000">
              <a:srgbClr val="afd7ff"/>
            </a:gs>
            <a:gs pos="100000">
              <a:srgbClr val="75b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82FF-2920-40E0-96A8-2F9C486520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3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ea-proza.ucoz.ru/Ris-10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nfidels.eu/Dictators/Images/GeorgyMalenkov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169972_9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10"/>
          <p:cNvSpPr txBox="1"/>
          <p:nvPr/>
        </p:nvSpPr>
        <p:spPr>
          <a:xfrm>
            <a:off x="468360" y="1268280"/>
            <a:ext cx="8424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зменения </a:t>
            </a:r>
            <a:endParaRPr b="1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 политической </a:t>
            </a:r>
            <a:endParaRPr b="1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истеме</a:t>
            </a:r>
            <a:endParaRPr b="1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0" descr="Картинка 10 из 2315"/>
          <p:cNvPicPr/>
          <p:nvPr/>
        </p:nvPicPr>
        <p:blipFill>
          <a:blip r:embed="rId1"/>
          <a:stretch/>
        </p:blipFill>
        <p:spPr>
          <a:xfrm>
            <a:off x="395280" y="620640"/>
            <a:ext cx="2352600" cy="31687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86" name="Rectangle 2"/>
          <p:cNvSpPr/>
          <p:nvPr/>
        </p:nvSpPr>
        <p:spPr>
          <a:xfrm>
            <a:off x="250920" y="44280"/>
            <a:ext cx="878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Борьба за власть после смерти Сталин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920" y="4365720"/>
            <a:ext cx="86421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1957 г. был отправлен на пенсию министр обороны маршал Г.Жуков, возраставшего влияния которого опасался Хрущев. В марте 1958 г. был снят с поста Н.Булганин, а его место занял Н.Хрущев, сохранивший за собой и пост первого секретаря             ЦК КП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6925680" y="3789360"/>
            <a:ext cx="150948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.Булгани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924360" y="3789360"/>
            <a:ext cx="15843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.Хруще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755640" y="3789360"/>
            <a:ext cx="15843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Г.Жук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1" descr="Булганин Н"/>
          <p:cNvPicPr/>
          <p:nvPr/>
        </p:nvPicPr>
        <p:blipFill>
          <a:blip r:embed="rId2"/>
          <a:stretch/>
        </p:blipFill>
        <p:spPr>
          <a:xfrm>
            <a:off x="6516720" y="620640"/>
            <a:ext cx="2225520" cy="31687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92" name="Picture 12" descr="Рисунок6"/>
          <p:cNvPicPr/>
          <p:nvPr/>
        </p:nvPicPr>
        <p:blipFill>
          <a:blip r:embed="rId3"/>
          <a:stretch/>
        </p:blipFill>
        <p:spPr>
          <a:xfrm>
            <a:off x="3564000" y="620640"/>
            <a:ext cx="2309760" cy="31687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93" name="Text Box 13"/>
          <p:cNvSpPr/>
          <p:nvPr/>
        </p:nvSpPr>
        <p:spPr>
          <a:xfrm>
            <a:off x="395280" y="2565360"/>
            <a:ext cx="8353440" cy="1557000"/>
          </a:xfrm>
          <a:prstGeom prst="rect">
            <a:avLst/>
          </a:prstGeom>
          <a:solidFill>
            <a:srgbClr val="f3ffff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.С.Хрущев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е только одержал победу в борьбе за власть,                   но и сосредоточил в своих руках все рычаги партийной и государственной вла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395280" y="44280"/>
            <a:ext cx="8353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2.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XX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 съезд КПСС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7308720" y="1773360"/>
            <a:ext cx="1587600" cy="91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 сталинских лагерях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78920" y="4149360"/>
            <a:ext cx="8713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1953 г. начался процесс реабилитации незаконно осужденных. К 1956 г. были реабилитированы жертвы «ленинградского дела» и еврейского антифашистского комитета, прекращено «дело врачей», реабилитированы арестованные после войны военачальники, начат пересмотр политических обвинений 30-х гг., на свободу вышли десятки тысяч челов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cf13"/>
          <p:cNvPicPr/>
          <p:nvPr/>
        </p:nvPicPr>
        <p:blipFill>
          <a:blip r:embed="rId1"/>
          <a:stretch/>
        </p:blipFill>
        <p:spPr>
          <a:xfrm>
            <a:off x="1835280" y="636480"/>
            <a:ext cx="5473440" cy="33559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395280" y="44280"/>
            <a:ext cx="864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2.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XX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 съезд КПСС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Рисунок5"/>
          <p:cNvPicPr/>
          <p:nvPr/>
        </p:nvPicPr>
        <p:blipFill>
          <a:blip r:embed="rId1"/>
          <a:stretch/>
        </p:blipFill>
        <p:spPr>
          <a:xfrm>
            <a:off x="1908000" y="620640"/>
            <a:ext cx="5256360" cy="30798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3640" y="3789000"/>
            <a:ext cx="856908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феврале 1956 г. состоялся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X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съезд КПСС. Первый секретарь ЦК КПСС Н.Хрущев выступил            на закрытом заседании съезда с докладом о культе личности Сталина. В докладе приводились многочисленные примеры беззаконий сталинского режима, но они связывались с деятельностью отдельных людей, а не системы.                                             Из доклада следовало, что искоренив эти недостатки, страна откроет себе путь к коммуниз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7172640" y="1268280"/>
            <a:ext cx="1783800" cy="1191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ыступление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.С.Хрущев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а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XX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ъезде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арти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395280" y="44280"/>
            <a:ext cx="8353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2.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XX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 съезд КПСС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611280" y="5445000"/>
            <a:ext cx="2952720" cy="91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Рабочие 1 ГПЗ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бсуждают решения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XX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ъезда парти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708360" y="691920"/>
            <a:ext cx="5184720" cy="63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ъезд специальным постановлением осудил культ личности Сталина,                  но в нем отмечалось,                       что несмотря на все принесенное зло, культ личности не увел страну              от правильного пути развития               к коммунизму. Доклад снимал ответственность за происходившие беззакония со сталинских сподвижников, находившихся на ключевых постах в государстве.                     Во всем обвинялись сам Сталин, а также Берия и Ежов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Рисунок4"/>
          <p:cNvPicPr/>
          <p:nvPr/>
        </p:nvPicPr>
        <p:blipFill>
          <a:blip r:embed="rId1"/>
          <a:stretch/>
        </p:blipFill>
        <p:spPr>
          <a:xfrm>
            <a:off x="179280" y="836640"/>
            <a:ext cx="3627720" cy="46083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395280" y="44280"/>
            <a:ext cx="835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3. Реабилитац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08000" y="3429000"/>
            <a:ext cx="194292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.Тухачевски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708360" y="691920"/>
            <a:ext cx="5184720" cy="63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стране начался процесс реабилитации жертв политических репрессий.           В 1956-1961 гг. было реабилитировано почти               700 тыс.человек.                      Посмертно были реабилитированы военачальники И.Якир, В.Блюхер, М.Тухачевский, С.Косиор, В.Чубарь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о политические противники Сталина – Троцкий, Зиновьев, Каменев, Бухарин, Пятаков, Рыков – реабилитированы           не бы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Михаил Николаевич Тухачевский"/>
          <p:cNvPicPr/>
          <p:nvPr/>
        </p:nvPicPr>
        <p:blipFill>
          <a:blip r:embed="rId1"/>
          <a:stretch/>
        </p:blipFill>
        <p:spPr>
          <a:xfrm>
            <a:off x="108000" y="836640"/>
            <a:ext cx="1927080" cy="25923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110" name="Picture 7" descr="Василий Блюхер.jpg"/>
          <p:cNvPicPr/>
          <p:nvPr/>
        </p:nvPicPr>
        <p:blipFill>
          <a:blip r:embed="rId2"/>
          <a:stretch/>
        </p:blipFill>
        <p:spPr>
          <a:xfrm>
            <a:off x="2050920" y="836640"/>
            <a:ext cx="1789200" cy="25923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111" name="Text Box 8"/>
          <p:cNvSpPr/>
          <p:nvPr/>
        </p:nvSpPr>
        <p:spPr>
          <a:xfrm>
            <a:off x="2050920" y="3429000"/>
            <a:ext cx="18003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.Блюхе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Рисунок6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108000" y="3860640"/>
            <a:ext cx="1957320" cy="25927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113" name="Picture 10" descr="Рисунок5"/>
          <p:cNvPicPr/>
          <p:nvPr/>
        </p:nvPicPr>
        <p:blipFill>
          <a:blip r:embed="rId4"/>
          <a:stretch/>
        </p:blipFill>
        <p:spPr>
          <a:xfrm>
            <a:off x="2050920" y="3860640"/>
            <a:ext cx="1789200" cy="25927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114" name="Text Box 11"/>
          <p:cNvSpPr/>
          <p:nvPr/>
        </p:nvSpPr>
        <p:spPr>
          <a:xfrm>
            <a:off x="2050920" y="6481800"/>
            <a:ext cx="18003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Г.Зиновье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108000" y="6481800"/>
            <a:ext cx="194292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Л.Камене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395280" y="44280"/>
            <a:ext cx="835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3. Реабилитац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78920" y="3715920"/>
            <a:ext cx="87138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Была реорганизована система лагерей, ставших «исправительно-трудовыми колониями», органы госбезопасности. Были отменены понятия «враг народа», до 16 лет повышен возраст наступления уголовной ответственности, запрещено применять угрозы и насилие в ходе следствия, введено обязательное присутствие обвиняемого на суде           и адвокатская защи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6948360" y="1557360"/>
            <a:ext cx="1800360" cy="91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бед в одном из лагерей Дальлаг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4" descr=""/>
          <p:cNvPicPr/>
          <p:nvPr/>
        </p:nvPicPr>
        <p:blipFill>
          <a:blip r:embed="rId1"/>
          <a:stretch/>
        </p:blipFill>
        <p:spPr>
          <a:xfrm>
            <a:off x="2340000" y="620640"/>
            <a:ext cx="4535640" cy="31212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7" descr="doc-306288-ph-gallery-306289-middle"/>
          <p:cNvPicPr/>
          <p:nvPr/>
        </p:nvPicPr>
        <p:blipFill>
          <a:blip r:embed="rId1"/>
          <a:stretch/>
        </p:blipFill>
        <p:spPr>
          <a:xfrm>
            <a:off x="1187280" y="1052640"/>
            <a:ext cx="7129800" cy="355428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9280" y="5013000"/>
            <a:ext cx="8640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осле ХХ съезда КПСС были расширены права союзных республик, в январе 1957 г. восстановили национальную государственность балкарского, калмыцкого, карачаевского, чеченского                                   и ингушского народ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0" y="26028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Реорганизация государственных органов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артийных и общественных организаци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276720" y="4581360"/>
            <a:ext cx="295092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еверный Кавказ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79280" y="5373720"/>
            <a:ext cx="8640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1959 г. ХХ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съезд КПСС сделал вывод о полной               и окончательной победе социализма в СССР                      и объявил о начале развернутого строительства коммуниз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26028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Реорганизация государственных органов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артийных и общественных организаци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050920" y="4797360"/>
            <a:ext cx="511200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ыступление Н.Хрущева на съезде КПС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KOG_117566_00002_1_t218_100128"/>
          <p:cNvPicPr/>
          <p:nvPr/>
        </p:nvPicPr>
        <p:blipFill>
          <a:blip r:embed="rId1"/>
          <a:stretch/>
        </p:blipFill>
        <p:spPr>
          <a:xfrm>
            <a:off x="1187280" y="1052640"/>
            <a:ext cx="6624720" cy="37242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8000" y="5084640"/>
            <a:ext cx="8640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1961 г. ХХ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съезд КПСС принял новую программу партии, в которой давалось теоретическое обоснование и намечались конкретные шаги построения коммунизма в СССР к 1980 г.                             Для этого было необходимо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0" y="26028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Реорганизация государственных органов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артийных и общественных организаци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Рисунок3"/>
          <p:cNvPicPr/>
          <p:nvPr/>
        </p:nvPicPr>
        <p:blipFill>
          <a:blip r:embed="rId1"/>
          <a:stretch/>
        </p:blipFill>
        <p:spPr>
          <a:xfrm>
            <a:off x="611280" y="1125360"/>
            <a:ext cx="7705800" cy="37785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131" name="Rectangle 7"/>
          <p:cNvSpPr/>
          <p:nvPr/>
        </p:nvSpPr>
        <p:spPr>
          <a:xfrm>
            <a:off x="826920" y="1844640"/>
            <a:ext cx="6121440" cy="244800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8"/>
          <p:cNvSpPr/>
          <p:nvPr/>
        </p:nvSpPr>
        <p:spPr>
          <a:xfrm flipV="1">
            <a:off x="4284720" y="4365360"/>
            <a:ext cx="0" cy="2087640"/>
          </a:xfrm>
          <a:prstGeom prst="line">
            <a:avLst/>
          </a:prstGeom>
          <a:ln w="73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2050920" y="6381720"/>
            <a:ext cx="4897440" cy="476280"/>
          </a:xfrm>
          <a:prstGeom prst="rect">
            <a:avLst/>
          </a:prstGeom>
          <a:noFill/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179280" y="189000"/>
            <a:ext cx="8785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4. Реорганизация государственных органов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артийных и общественных организац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7020000" y="1773360"/>
            <a:ext cx="1654200" cy="91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.Хрущев на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XXII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съезде КПС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78920" y="4005360"/>
            <a:ext cx="87138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первые за многие годы Устав партии предусматривал  проведение внутрипартийных дискуссий, ротацию партийных кадров, расширение прав местных партийных органов.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Уставе подчеркивалась недопустимость подмены партийными организациями государственных органов и общественных формирова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3" descr="1309018982"/>
          <p:cNvPicPr/>
          <p:nvPr/>
        </p:nvPicPr>
        <p:blipFill>
          <a:blip r:embed="rId1"/>
          <a:stretch/>
        </p:blipFill>
        <p:spPr>
          <a:xfrm>
            <a:off x="2268360" y="981000"/>
            <a:ext cx="4753080" cy="303228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Борьба за власть после смерти Ста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XX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съезд КП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3. Реабили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Реорганизация государственных органов, партийных и общественных организац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9"/>
          <p:cNvSpPr/>
          <p:nvPr/>
        </p:nvSpPr>
        <p:spPr>
          <a:xfrm>
            <a:off x="250920" y="0"/>
            <a:ext cx="87850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План урок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7" descr="50849244"/>
          <p:cNvPicPr/>
          <p:nvPr/>
        </p:nvPicPr>
        <p:blipFill>
          <a:blip r:embed="rId1"/>
          <a:stretch/>
        </p:blipFill>
        <p:spPr>
          <a:xfrm>
            <a:off x="5219640" y="4076640"/>
            <a:ext cx="3313080" cy="25765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179280" y="189000"/>
            <a:ext cx="8785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4. Реорганизация государственных органов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артийных и общественных организац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659640" y="1844640"/>
            <a:ext cx="1654200" cy="91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.Хрущев на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XXII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съезде КПС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78920" y="4149360"/>
            <a:ext cx="8713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о решению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XII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съезда КПСС в 1962-1964 гг. велась работа над новой Конституцией СССР, которая должна была закрепить ряд новых положений: образование общенародного государства, закрепить положение о начале перехода к развернутому строительству коммунизма, расширить права союзных республ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658945_html_70923573"/>
          <p:cNvPicPr/>
          <p:nvPr/>
        </p:nvPicPr>
        <p:blipFill>
          <a:blip r:embed="rId1"/>
          <a:stretch/>
        </p:blipFill>
        <p:spPr>
          <a:xfrm>
            <a:off x="2627280" y="1052640"/>
            <a:ext cx="4032360" cy="30240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79280" y="189000"/>
            <a:ext cx="8785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4. Реорганизация государственных органов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артийных и общественных организац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7164360" y="1989000"/>
            <a:ext cx="1511280" cy="91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лакат начала  1960-х гг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78920" y="4149360"/>
            <a:ext cx="8713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Эти изменения тревожили и пугали партийных функционеров опасавшихся потери своего главенствующего положения в обществе, сокращение армии вызывало недовольство военных, интеллигенция не принимала идей «дозированной демократии», простые граждане устали от шумных политических камп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nb5269-9"/>
          <p:cNvPicPr/>
          <p:nvPr/>
        </p:nvPicPr>
        <p:blipFill>
          <a:blip r:embed="rId1"/>
          <a:stretch/>
        </p:blipFill>
        <p:spPr>
          <a:xfrm>
            <a:off x="2484360" y="981000"/>
            <a:ext cx="4668840" cy="30974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79280" y="189000"/>
            <a:ext cx="8785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4. Реорганизация государственных органов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артийных и общественных организац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7164360" y="1989000"/>
            <a:ext cx="165564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ередовица «Правды»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78920" y="4508640"/>
            <a:ext cx="87138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се это в итоге привело к тому, что в октябре 1964 г. Н.Хрущев был обвинен в «волюнтаризме и субъективизме», смещен с руководящих постов и отправлен на пенсию. Первым секретарем ЦК КПСС (с 1966 г. -  генеральным секретарем) стал Л.Брежнев, а Председателем Совета Министров - А.Косыг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4541"/>
          <p:cNvPicPr/>
          <p:nvPr/>
        </p:nvPicPr>
        <p:blipFill>
          <a:blip r:embed="rId1"/>
          <a:stretch/>
        </p:blipFill>
        <p:spPr>
          <a:xfrm>
            <a:off x="2627280" y="981000"/>
            <a:ext cx="4465800" cy="33498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179280" y="0"/>
            <a:ext cx="87854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Вывод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7451640" y="1773360"/>
            <a:ext cx="1511280" cy="91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лакат начала  1960-х гг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78920" y="5013360"/>
            <a:ext cx="87138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В результате преобразований 1953-1964 гг. тоталитарный режим не был уничтожен,                  а продолжал существовать в слегка измененном ви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68730_foto1_03"/>
          <p:cNvPicPr/>
          <p:nvPr/>
        </p:nvPicPr>
        <p:blipFill>
          <a:blip r:embed="rId1"/>
          <a:stretch/>
        </p:blipFill>
        <p:spPr>
          <a:xfrm>
            <a:off x="1835280" y="692280"/>
            <a:ext cx="5545080" cy="41972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Даты и собы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79280" y="1125360"/>
            <a:ext cx="871380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1956 г., февраль – доклад Н.Хрущева на ХХ съезде КПСС «О культе личности и его последствиях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7236000" y="4581360"/>
            <a:ext cx="1657080" cy="1465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.Хрущев         и Л.Брежнев на трибуне мавзоле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9" descr="1_403519_original"/>
          <p:cNvPicPr/>
          <p:nvPr/>
        </p:nvPicPr>
        <p:blipFill>
          <a:blip r:embed="rId1"/>
          <a:stretch/>
        </p:blipFill>
        <p:spPr>
          <a:xfrm>
            <a:off x="1908000" y="3213000"/>
            <a:ext cx="5328000" cy="357048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158" name="Text Box 10"/>
          <p:cNvSpPr/>
          <p:nvPr/>
        </p:nvSpPr>
        <p:spPr>
          <a:xfrm>
            <a:off x="179280" y="1989000"/>
            <a:ext cx="8713800" cy="1191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1964 г., октябрь – смещение Н.Хрущева                                   с государственных постов,                                                   назначение Л.Брежнева и А.Косыгин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179280" y="620640"/>
            <a:ext cx="871380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1953 г., 5 марта – смерть И.Сталин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86840" y="333360"/>
            <a:ext cx="8705880" cy="27352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лные блоки презент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 Истории и Обществозна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Вы можете найти на с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ttp://presentation-history.ru/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87200" y="3284640"/>
            <a:ext cx="8705880" cy="30970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 сайте также размещены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урочные планы по истории и обществознанию с 5 по 11 классы, тестовые задания по истории и обществознанию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ы на ВСЕ тестовые задания к ЕГЭ и ОГЭ по обществознанию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и истории открытого банка заданий ФИПИ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, карты по Всеобщей истории  и истории России, материалы для дополнительных занятий и многое друго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179280" y="189000"/>
            <a:ext cx="8785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Домашнее задани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635280" y="4221000"/>
            <a:ext cx="151128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Л.Брежне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50560" y="907560"/>
            <a:ext cx="87138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1. Изучить параграф 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2. Ответить на вопросы на стр. 265-266 (уст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3. Знать основные события и да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405px-Brezhnev-color"/>
          <p:cNvPicPr/>
          <p:nvPr/>
        </p:nvPicPr>
        <p:blipFill>
          <a:blip r:embed="rId1"/>
          <a:stretch/>
        </p:blipFill>
        <p:spPr>
          <a:xfrm>
            <a:off x="755640" y="2492280"/>
            <a:ext cx="2819520" cy="41767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166" name="Picture 6" descr="0011-006-A"/>
          <p:cNvPicPr/>
          <p:nvPr/>
        </p:nvPicPr>
        <p:blipFill>
          <a:blip r:embed="rId2"/>
          <a:stretch/>
        </p:blipFill>
        <p:spPr>
          <a:xfrm>
            <a:off x="5580000" y="2492280"/>
            <a:ext cx="2813040" cy="41767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167" name="Text Box 7"/>
          <p:cNvSpPr/>
          <p:nvPr/>
        </p:nvSpPr>
        <p:spPr>
          <a:xfrm>
            <a:off x="3995640" y="5373720"/>
            <a:ext cx="151128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А.Косыги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250920" y="44280"/>
            <a:ext cx="878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Борьба за власть после смерти Сталин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916360" y="4581360"/>
            <a:ext cx="352872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рощание со Сталины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Рисунок8"/>
          <p:cNvPicPr/>
          <p:nvPr/>
        </p:nvPicPr>
        <p:blipFill>
          <a:blip r:embed="rId1"/>
          <a:stretch/>
        </p:blipFill>
        <p:spPr>
          <a:xfrm>
            <a:off x="1403280" y="692280"/>
            <a:ext cx="6551640" cy="38685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9280" y="5157720"/>
            <a:ext cx="86407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о смертью Сталина 5 марта 1953 г. закончилась целая эпоха в истории страны.                                                                   Борьба за власть в советском руководстве продолжалась до 1958 г. и прошла несколько этап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250920" y="44280"/>
            <a:ext cx="878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Борьба за власть после смерти Сталин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Картинка 2 из 7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7640" y="765000"/>
            <a:ext cx="4562280" cy="518508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52" name="Picture 11" descr="0_39d6_55331b79_XL"/>
          <p:cNvPicPr/>
          <p:nvPr/>
        </p:nvPicPr>
        <p:blipFill>
          <a:blip r:embed="rId3"/>
          <a:stretch/>
        </p:blipFill>
        <p:spPr>
          <a:xfrm>
            <a:off x="250920" y="765000"/>
            <a:ext cx="4065480" cy="518508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53" name="Text Box 13"/>
          <p:cNvSpPr/>
          <p:nvPr/>
        </p:nvSpPr>
        <p:spPr>
          <a:xfrm>
            <a:off x="1194120" y="5950080"/>
            <a:ext cx="230076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Траурный портре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И.В.Стали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5867280" y="5950080"/>
            <a:ext cx="205920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охороны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И.В.Стали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250920" y="44280"/>
            <a:ext cx="878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Борьба за власть после смерти Сталин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post-stalin_6"/>
          <p:cNvPicPr/>
          <p:nvPr/>
        </p:nvPicPr>
        <p:blipFill>
          <a:blip r:embed="rId1"/>
          <a:stretch/>
        </p:blipFill>
        <p:spPr>
          <a:xfrm>
            <a:off x="0" y="765000"/>
            <a:ext cx="4629240" cy="32101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57" name="Text Box 10"/>
          <p:cNvSpPr/>
          <p:nvPr/>
        </p:nvSpPr>
        <p:spPr>
          <a:xfrm>
            <a:off x="3066840" y="4076640"/>
            <a:ext cx="152784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И.В.Стали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 мавзоле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20433-173045-90d5933dbd741bea618f29c4e2e669d6"/>
          <p:cNvPicPr/>
          <p:nvPr/>
        </p:nvPicPr>
        <p:blipFill>
          <a:blip r:embed="rId2"/>
          <a:stretch/>
        </p:blipFill>
        <p:spPr>
          <a:xfrm>
            <a:off x="4667400" y="1933560"/>
            <a:ext cx="4476600" cy="49244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250920" y="44280"/>
            <a:ext cx="878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Борьба за власть после смерти Сталин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556000" y="2421000"/>
            <a:ext cx="122400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Л.Бер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9280" y="3357720"/>
            <a:ext cx="8785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а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этапе ключевые позиции заняли Г.Маленков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-председатель Совета Министров и Л.Берия - глава МВД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ачалась первая компания по осуждению культа личности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талина, его имя стало реже упоминаться в печати, прекратился выпуск собрания сочинений. Маленков и Берия выступали за передачу властных полномочий от партии к государственным органам. Были амнистированы 1,2 млн. заключенных, намечались изменения                                 в национальной политик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malenkov2_b"/>
          <p:cNvPicPr/>
          <p:nvPr/>
        </p:nvPicPr>
        <p:blipFill>
          <a:blip r:embed="rId1"/>
          <a:stretch/>
        </p:blipFill>
        <p:spPr>
          <a:xfrm>
            <a:off x="6012000" y="765000"/>
            <a:ext cx="2592360" cy="24879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63" name="Text Box 8"/>
          <p:cNvSpPr/>
          <p:nvPr/>
        </p:nvSpPr>
        <p:spPr>
          <a:xfrm>
            <a:off x="4427640" y="1700280"/>
            <a:ext cx="15843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Г.Маленк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2" descr="Autogen_eBook_id36"/>
          <p:cNvPicPr/>
          <p:nvPr/>
        </p:nvPicPr>
        <p:blipFill>
          <a:blip r:embed="rId2"/>
          <a:stretch/>
        </p:blipFill>
        <p:spPr>
          <a:xfrm>
            <a:off x="755640" y="692280"/>
            <a:ext cx="1757520" cy="25207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250920" y="44280"/>
            <a:ext cx="878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Борьба за власть после смерти Сталин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7524720" y="1989000"/>
            <a:ext cx="122400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рест Л.Бер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79280" y="4149720"/>
            <a:ext cx="878544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ротив лишения партии ее руководящей функции выступили практически все члены Политбюро во главе с секретарем ЦК Н.Хрущевым.                                           26 июня 1953 г. на заседании Совмина Берия был арестован и вскоре расстрелян как «враг партии                    и советского народа», «шпион». На пленуме ЦК указывалось на необходимость «укрепить партийное руководство во всех звенья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Рисунок7"/>
          <p:cNvPicPr/>
          <p:nvPr/>
        </p:nvPicPr>
        <p:blipFill>
          <a:blip r:embed="rId1"/>
          <a:stretch/>
        </p:blipFill>
        <p:spPr>
          <a:xfrm>
            <a:off x="1835280" y="663480"/>
            <a:ext cx="5690880" cy="338148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250920" y="44280"/>
            <a:ext cx="878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Борьба за власть после смерти Сталин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3789000"/>
            <a:ext cx="864072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а 2 этапе (лето 1953-февраль 1955 г.) на вершине власти оказались Г.М.Маленков  и Н.С.Хрущев.             В декабре 1954 г. состоялся процесс над бывшими руководителями МГБ, сфабриковавшими «ленинградское дело», в результате Г.Маленков был снят с поста главы правительства и назначен министром электростанций. На его место был назначен Н.Булган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Картинка 9 из 7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620640"/>
            <a:ext cx="2050920" cy="26971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72" name="Picture 11" descr="Рисунок6"/>
          <p:cNvPicPr/>
          <p:nvPr/>
        </p:nvPicPr>
        <p:blipFill>
          <a:blip r:embed="rId3"/>
          <a:stretch/>
        </p:blipFill>
        <p:spPr>
          <a:xfrm>
            <a:off x="3708360" y="620640"/>
            <a:ext cx="1968480" cy="27003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73" name="Text Box 9"/>
          <p:cNvSpPr/>
          <p:nvPr/>
        </p:nvSpPr>
        <p:spPr>
          <a:xfrm>
            <a:off x="4147560" y="3357720"/>
            <a:ext cx="128880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.Хруще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2" descr="Булганин Н"/>
          <p:cNvPicPr/>
          <p:nvPr/>
        </p:nvPicPr>
        <p:blipFill>
          <a:blip r:embed="rId4"/>
          <a:stretch/>
        </p:blipFill>
        <p:spPr>
          <a:xfrm>
            <a:off x="6516720" y="620640"/>
            <a:ext cx="1897200" cy="27003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75" name="Text Box 14"/>
          <p:cNvSpPr/>
          <p:nvPr/>
        </p:nvSpPr>
        <p:spPr>
          <a:xfrm>
            <a:off x="900000" y="3357720"/>
            <a:ext cx="15843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Г.Маленк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6739920" y="3357720"/>
            <a:ext cx="148392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.Булгани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250920" y="44280"/>
            <a:ext cx="878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Борьба за власть после смерти Сталин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24000" y="3789000"/>
            <a:ext cx="864072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а 3 этапе (февраль 1955- март 1958 г.) Н.С.Хрущев боролся  с «объединенной оппозицией» : Г.М.Маленков, В.М.Молотов, Л.М.Каганович.                   Они планировали ликвидировать пост секретаря ЦК, а Хрущева назначить министром сельского хозяйства. На пленуме ЦК КПСС победили сторонники Хрущева, а члены оппозиции были сняты со всех постов и отправлены в отстав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6578640" y="3284640"/>
            <a:ext cx="15843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Л.Каганович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3851280" y="3357720"/>
            <a:ext cx="15843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.Молот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Картинка 50 из 526"/>
          <p:cNvPicPr/>
          <p:nvPr/>
        </p:nvPicPr>
        <p:blipFill>
          <a:blip r:embed="rId1"/>
          <a:stretch/>
        </p:blipFill>
        <p:spPr>
          <a:xfrm>
            <a:off x="3708360" y="692280"/>
            <a:ext cx="1874880" cy="26622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82" name="Picture 11" descr="57394942_Kaganovich"/>
          <p:cNvPicPr/>
          <p:nvPr/>
        </p:nvPicPr>
        <p:blipFill>
          <a:blip r:embed="rId2"/>
          <a:stretch/>
        </p:blipFill>
        <p:spPr>
          <a:xfrm>
            <a:off x="6372360" y="620640"/>
            <a:ext cx="1936440" cy="26622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83" name="Picture 12" descr="Картинка 9 из 71"/>
          <p:cNvPicPr/>
          <p:nvPr/>
        </p:nvPicPr>
        <p:blipFill>
          <a:blip r:embed="rId3"/>
          <a:stretch/>
        </p:blipFill>
        <p:spPr>
          <a:xfrm>
            <a:off x="971640" y="692280"/>
            <a:ext cx="2025720" cy="26636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84" name="Text Box 13"/>
          <p:cNvSpPr/>
          <p:nvPr/>
        </p:nvSpPr>
        <p:spPr>
          <a:xfrm>
            <a:off x="1187280" y="3357720"/>
            <a:ext cx="15843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Г.Маленк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Нафор Маточ</dc:creator>
  <dc:description/>
  <dc:language>en-US</dc:language>
  <cp:lastModifiedBy>Администратор</cp:lastModifiedBy>
  <dcterms:modified xsi:type="dcterms:W3CDTF">2020-04-04T18:54:45Z</dcterms:modified>
  <cp:revision>191</cp:revision>
  <dc:subject/>
  <dc:title>Изменения в политической системе</dc:title>
</cp:coreProperties>
</file>