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044-C33D-4F22-931E-20888FF46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FF08-AA91-46AC-8B60-72D7FEC7A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3D5-5C29-41B2-BC6E-7D525D86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56F-E094-46F9-932F-CA308EBE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3F1-ABCF-4E83-A67E-644283C9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880-A566-463A-9A06-F707E0B8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82D-97C0-455B-8599-56D5B025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A20-23E3-4C87-A531-7CA858F1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FB2-26B8-4FB9-9AC5-DBF32778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985-40F2-4530-8DED-D362B808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9BE-2610-4857-BA63-0CE77EE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6C9-D9E4-493D-9278-8DE419ED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A7F-EF2E-49E1-B9FB-50CA96EA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2FA-F68E-4F93-A308-7D616D5E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5FC6-CDEF-4F42-8D83-6AA94FC6A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ursinfo.ru/files/Data/1174167042_3052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gumenti.ru/images/big/5677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Урок географии в 11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285480"/>
            <a:ext cx="8642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% населения проживает в пределах полосы шириной 300 км вдоль границы с СШ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/5 всей территории – Север, слабозаселенный и слабоосво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роисповед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атолики - 46%,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естанты - 41%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славные - 2%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сульмане - 1%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Католическая церковь в Торонто"/>
          <p:cNvPicPr/>
          <p:nvPr/>
        </p:nvPicPr>
        <p:blipFill>
          <a:blip r:embed="rId1"/>
          <a:srcRect l="31680" t="0" r="0" b="5783"/>
          <a:stretch/>
        </p:blipFill>
        <p:spPr>
          <a:xfrm>
            <a:off x="826920" y="3284640"/>
            <a:ext cx="3159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Урбан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урбанизированное 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одское население составляет 77,9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крупные город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Торонто, Монреаль, Ванкувер, Оттава, Эдмон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15 из 5092"/>
          <p:cNvPicPr/>
          <p:nvPr/>
        </p:nvPicPr>
        <p:blipFill>
          <a:blip r:embed="rId1"/>
          <a:stretch/>
        </p:blipFill>
        <p:spPr>
          <a:xfrm>
            <a:off x="395280" y="3141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Картинка 1 из 106"/>
          <p:cNvPicPr/>
          <p:nvPr/>
        </p:nvPicPr>
        <p:blipFill>
          <a:blip r:embed="rId2"/>
          <a:stretch/>
        </p:blipFill>
        <p:spPr>
          <a:xfrm>
            <a:off x="4643280" y="3164040"/>
            <a:ext cx="4176720" cy="2798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1116000" y="609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Торон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724360" y="609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Монре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Картинка 38 из 3088"/>
          <p:cNvPicPr/>
          <p:nvPr/>
        </p:nvPicPr>
        <p:blipFill>
          <a:blip r:embed="rId1"/>
          <a:stretch/>
        </p:blipFill>
        <p:spPr>
          <a:xfrm>
            <a:off x="285840" y="1285920"/>
            <a:ext cx="4392360" cy="3468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Картинка 88 из 1629"/>
          <p:cNvPicPr/>
          <p:nvPr/>
        </p:nvPicPr>
        <p:blipFill>
          <a:blip r:embed="rId2"/>
          <a:stretch/>
        </p:blipFill>
        <p:spPr>
          <a:xfrm>
            <a:off x="4356000" y="3213000"/>
            <a:ext cx="4429080" cy="3357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2714760" y="600084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т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95280" y="486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анку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Picture of edmonton"/>
          <p:cNvPicPr/>
          <p:nvPr/>
        </p:nvPicPr>
        <p:blipFill>
          <a:blip r:embed="rId3"/>
          <a:stretch/>
        </p:blipFill>
        <p:spPr>
          <a:xfrm>
            <a:off x="4932360" y="333360"/>
            <a:ext cx="3827520" cy="2730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3143160" y="214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Эдмон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Хозяйство Кан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етика и горнодобывающая промышл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ная металлур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ная металлург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вообрабатывающая и целлюлозно-бумаж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фтеперерабатывающая и нефтехимическая промышл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промышл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о минеральных удобрений и синтетического кауч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естроение (базируется на основе зарубежных филиалов и дочерних компаний американских и японских компани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.-х. машиностро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иационная промышл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1403280" y="5373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Канадский грузовик - самый большой в ми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10800" cy="468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3059280" y="28018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Канадский грузов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меет собственную массу 235 тонн, при максимально допустимой 550 тон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остью 3300 лошадиных сил (2,460 кВт), Генератор подает силу на четыре электрических тяговых мотора, расположенных на каждом из задних кол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имее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ину 20 метр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оту 6,9 мет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ота с вытянутым разгрузочным резервуаром-17,1 ме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 - 1974 году корпорацией Терекс (Дженерал Моторс). В 1978 году он был полностью смонтирован в компании Sparwood B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ся на угольных шахтах. Сейчас расположен в городе Спарву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Сельское хозя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ий уровень механизации, товарности и производительности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Основа аграрного производства — крупные фермерские хозя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зерновая культура — пшеница, (экспорт третье место в мир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плодоводстве преобладают ябло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о животноводство (молочное, мясо-шерстное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тице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ся крупные лесозагот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ыболовство (треска, сельдь, лососевые, палтус, крабы),ведущих мест по экспорту мороженой ры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Внешние экономические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мериканские ТНК контролируют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й канадской индус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порт ориентирован на вывоз сырья, полуфабрикатов (72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надском экспорте 70% - автомоб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импорте преобладают готовые изделия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внешнеторговые партнеры -  США, Великобритания, Ф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Канада – член международных организ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С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я по безопасности и сотрудничеству в Европ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 состав которой входят 56 государ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ЭСР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организация экономического сотрудничества и развития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ставе 24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ТО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ставе 28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Ф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оставе 3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Georgia"/>
              </a:rPr>
              <a:t>Кана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Элктронные учебники\Geo6-10\RES\Class7\Политическая карта Канады.jpg"/>
          <p:cNvPicPr/>
          <p:nvPr/>
        </p:nvPicPr>
        <p:blipFill>
          <a:blip r:embed="rId1"/>
          <a:stretch/>
        </p:blipFill>
        <p:spPr>
          <a:xfrm>
            <a:off x="214200" y="214200"/>
            <a:ext cx="8751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а Канады"/>
          <p:cNvPicPr/>
          <p:nvPr/>
        </p:nvPicPr>
        <p:blipFill>
          <a:blip r:embed="rId1"/>
          <a:stretch/>
        </p:blipFill>
        <p:spPr>
          <a:xfrm>
            <a:off x="324000" y="492120"/>
            <a:ext cx="8496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инка 2 из 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97000"/>
            <a:ext cx="3806640" cy="508140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pic>
        <p:nvPicPr>
          <p:cNvPr id="53" name="Picture 7" descr="canflagb"/>
          <p:cNvPicPr/>
          <p:nvPr/>
        </p:nvPicPr>
        <p:blipFill>
          <a:blip r:embed="rId3"/>
          <a:stretch/>
        </p:blipFill>
        <p:spPr>
          <a:xfrm>
            <a:off x="4500720" y="1700280"/>
            <a:ext cx="4419360" cy="22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ика Кан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anada.mid" descr=""/>
          <p:cNvPicPr/>
          <p:nvPr/>
        </p:nvPicPr>
        <p:blipFill>
          <a:blip r:embed="rId4"/>
          <a:stretch/>
        </p:blipFill>
        <p:spPr>
          <a:xfrm>
            <a:off x="7812000" y="5445000"/>
            <a:ext cx="809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Общая характерист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– 9,97 млн.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населения – 32,9 млн.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плотность – 3,2 чел./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ушу населения -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4.273 $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ит в Со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а государства — британская королева, представленная генерал-губернатором. - Мишаель Ж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провинций и 2 терри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Особенности ЭГ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ит к трем океа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протяженной сухопутной границы с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ичит с Россией по Приполяр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селение Кан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населения — потомки европейских переселен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населения — англо-канад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% — франко-канад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европейцы составляют 20% - немцы, поляки, украин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% - выходцы из А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% - американские индей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мосов около 33 тыс.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 прироста населения – иммигр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продолжительность жизни мужчин 76 лет, женщин 83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Картинка 10 из 9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3572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19062356"/>
          <p:cNvPicPr/>
          <p:nvPr/>
        </p:nvPicPr>
        <p:blipFill>
          <a:blip r:embed="rId3"/>
          <a:stretch/>
        </p:blipFill>
        <p:spPr>
          <a:xfrm>
            <a:off x="4143240" y="3357720"/>
            <a:ext cx="4608720" cy="2832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940360" y="2852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Эскимосы Кан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26920" y="4292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Американские индей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402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ренное нас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00031951"/>
          <p:cNvPicPr/>
          <p:nvPr/>
        </p:nvPicPr>
        <p:blipFill>
          <a:blip r:embed="rId1"/>
          <a:stretch/>
        </p:blipFill>
        <p:spPr>
          <a:xfrm>
            <a:off x="395280" y="3068640"/>
            <a:ext cx="4608360" cy="340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00031485"/>
          <p:cNvPicPr/>
          <p:nvPr/>
        </p:nvPicPr>
        <p:blipFill>
          <a:blip r:embed="rId2"/>
          <a:stretch/>
        </p:blipFill>
        <p:spPr>
          <a:xfrm>
            <a:off x="5148360" y="1268280"/>
            <a:ext cx="3771720" cy="3818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2124000" y="314172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bbe0e3"/>
                </a:solidFill>
                <a:latin typeface="Georgia"/>
              </a:rPr>
              <a:t>эскимосы, индейцы и алеу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71680" y="1071720"/>
            <a:ext cx="38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Script MT Bold"/>
              </a:rPr>
              <a:t>КАНАДА – большая деревня ( в переводе с языка ирокез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5:29:36Z</dcterms:created>
  <dc:creator>ТАТЬЯНА</dc:creator>
  <dc:description/>
  <dc:language>en-US</dc:language>
  <cp:lastModifiedBy>Алёна Гурова</cp:lastModifiedBy>
  <dcterms:modified xsi:type="dcterms:W3CDTF">2020-04-04T14:10:49Z</dcterms:modified>
  <cp:revision>19</cp:revision>
  <dc:subject/>
  <dc:title>Слайд 1</dc:title>
</cp:coreProperties>
</file>