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F5F-7CB6-4750-A729-F737F069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DB7-41D6-4606-870D-2C22244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08D-7C2B-43F2-B24F-A9491D64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66A-0316-46E8-94FF-7BA0E75E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7C1-A4F4-45BD-9755-A21A94C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764-7F2D-472D-ADF0-6B68BC1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3EA-522D-44F9-99D9-CF4172F8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D06-218A-4C3A-80A6-EFAED43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FC8-102D-4457-B53A-BFF98AA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95F-D0FD-407D-80FF-A5B2568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05A-9F01-4F31-8146-91998F47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96F-7769-4335-ACA6-BBBEED4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DC85-FC30-4335-A9F5-FCE51B956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4" name="Picture 7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9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65e5e"/>
              </a:gs>
              <a:gs pos="50000">
                <a:srgbClr val="ffcccc"/>
              </a:gs>
              <a:gs pos="100000">
                <a:srgbClr val="765e5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00720" y="1268280"/>
          <a:ext cx="4392360" cy="46087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" name="Text Box 37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Алёна Гурова</cp:lastModifiedBy>
  <dcterms:modified xsi:type="dcterms:W3CDTF">2020-04-04T14:00:51Z</dcterms:modified>
  <cp:revision>3</cp:revision>
  <dc:subject/>
  <dc:title>Слайд 1</dc:title>
</cp:coreProperties>
</file>