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321D-C130-4E80-A3E7-53071C9D8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6513-B05A-4D43-8132-549E846D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E9F2-6017-448D-977D-21951D4CC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04A0-B428-444D-89B6-0E93E5302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3574-453F-4BEF-A3E2-ACF496EA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11A1-79EB-43D3-9AC8-1B48781F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463B-DA7A-400E-A584-A0AD6B64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353B-BB2F-470A-851A-52300054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0499-580E-40F0-A9FA-3D168005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6049-21C3-4C2A-B44B-DD68D393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EB1A-AE6F-4EF4-809F-148CB55E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4D57-A0AC-41CC-99A1-01D78591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© Vasilyeva E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7AE1-F103-4834-A85A-81AB3B9E42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539640" y="549360"/>
            <a:ext cx="7848720" cy="14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имическая,  лесная  и лёгка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1116000" y="2637000"/>
            <a:ext cx="640872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мышленность   мир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Лёгкая промышл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3959280" cy="2376360"/>
          </a:xfrm>
          <a:prstGeom prst="rect">
            <a:avLst/>
          </a:prstGeom>
          <a:ln w="38160">
            <a:solidFill>
              <a:srgbClr val="99ccff"/>
            </a:solidFill>
            <a:miter/>
          </a:ln>
        </p:spPr>
      </p:pic>
      <p:pic>
        <p:nvPicPr>
          <p:cNvPr id="64" name="Picture 7" descr=""/>
          <p:cNvPicPr/>
          <p:nvPr/>
        </p:nvPicPr>
        <p:blipFill>
          <a:blip r:embed="rId2"/>
          <a:srcRect l="0" t="0" r="1701" b="0"/>
          <a:stretch/>
        </p:blipFill>
        <p:spPr>
          <a:xfrm>
            <a:off x="457200" y="3716280"/>
            <a:ext cx="3970440" cy="2409840"/>
          </a:xfrm>
          <a:prstGeom prst="rect">
            <a:avLst/>
          </a:prstGeom>
          <a:ln w="38160">
            <a:solidFill>
              <a:srgbClr val="99ccff"/>
            </a:solidFill>
            <a:miter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ёгкая промышленность - совокупность специализированных отраслей промышленности, производящих главным образом предметы массового потребления из различных видов сырь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ёгкая промышленность осуществляет как первичную обработку сырья, так и выпуск готовой продукции. Предприятия лёгкой промышленности производят также продукцию производственно-технического и специального назначения, которая используется в мебельной, авиационной, автомобильной, химической, электротехнической, пищевой и других отраслях промышленности, в сельском хозяйстве, в силовых ведомствах, на транспорте и в здравоохране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4392360" cy="56883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дущей отраслью лёгкой промышленности мира является текстильное производст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мировой текстильной промышленности сложились пять главных региона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Восточная Азия, Южная Азия, СНГ, Зарубежная Европа и СШ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каждом регионе преобладает производство хлопчатобумажных тканей и тканей из химических волоко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чиная с 50-х гг. доля экономически развитых стран Запада в мировом производстве тканей и одежды уменьшается. Многие старопромышленные районы приходят в упадок, например Великобрит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кстильное производство развивающегося мира, ориентирующееся на дешёвую рабочую силу, переживает бум развития: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Китай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(1 место по выпуску хлопчатобумажных тканей),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Индия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(2 место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кани и одежда, производимые в странах Юга экспортируются в страны Запа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США, западной Европе, Японии продаётся дешёвая одежда, трикотаж, получаемые из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Тайваня, Индии, Китая, Сянгана, Тайланда, Колумбии, Мексик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и других развивающихся стра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5003640" y="476280"/>
            <a:ext cx="3754440" cy="2521080"/>
          </a:xfrm>
          <a:prstGeom prst="rect">
            <a:avLst/>
          </a:prstGeom>
          <a:ln w="38160">
            <a:solidFill>
              <a:srgbClr val="ffcccc"/>
            </a:solidFill>
            <a:miter/>
          </a:ln>
        </p:spPr>
      </p:pic>
      <p:pic>
        <p:nvPicPr>
          <p:cNvPr id="68" name="Picture 8" descr=""/>
          <p:cNvPicPr/>
          <p:nvPr/>
        </p:nvPicPr>
        <p:blipFill>
          <a:blip r:embed="rId2"/>
          <a:stretch/>
        </p:blipFill>
        <p:spPr>
          <a:xfrm>
            <a:off x="5003640" y="3573360"/>
            <a:ext cx="3754440" cy="2475000"/>
          </a:xfrm>
          <a:prstGeom prst="rect">
            <a:avLst/>
          </a:prstGeom>
          <a:ln w="38160">
            <a:solidFill>
              <a:srgbClr val="ff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© Vasilyeva E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креп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9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аком регионе и когда возникли первые химические производст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ая страна занимает 1 место в мире по производству химической продук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овите четыре главных региона мировой химической промышл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каких стран лесная и деревообрабатывающая промышленность является важной отраслью международной специализа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е страны являются крупнейшими заготовителями древеси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овите главные страны-производители бума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ая страна лидирует по производству бумаги на долю насел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овите пять главных регионов мировой текстильной промышл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е страны мира являются лидерами по производству хлопчатобумажных ткан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2376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5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 (п.9-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 ответе уметь показывать по карте регионы и страны мира, названные в данной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Химическая промышлен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имическая промышленность — отрасль промышленности, включающая производство продукции из углеводородного, минерального и другого сырья путём его химической перерабо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ловой объём производства химической промышленности в мире составляет около 2 трлн. дол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5865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имическая промышленность выделилась в отдельную отрасль с началом промышленного переворота. Первые заводы по производству серной кислоты — важнейшей из минеральных кислот, применяемых человеком, были построены в 1740г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еликобритан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в 1766г. во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Фран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в 1805г.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Росс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81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Герма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обеспечения потребностей развивающихся текстильной и стекольной промышленности возникло производство кальцинированной соды во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Фран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1793г.),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еликобритан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1823г.)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Герман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1843г.),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Росс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1864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развитием в середине XIX в. сельского хозяйства появились заводы минеральных удобрений: в 1842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еликобритан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в 1867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Герман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в 1892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Росс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ырьевые связи, раннее возникновение индустрии способствовали становлению Великобритании, как мирового лидера в химическом производстве, на протяжении трёх четвертей XIX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конца XIX в. с ростом потребности экономик в органических веществах лидером в химической промышленности становится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Герма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Благодаря быстрому процессу концентрации производств, высокому уровню научно-технического развития, активной торговой политике Германия к началу XX в. завоёвывает мировой рынок химической проду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Ш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химическая промышленность начала развиваться позже, чем в Европе, но уже </a:t>
            </a: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к 1913 по объёму производства химической продукции США заняли и с тех пор удерживают 1-е место в мире среди государств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Этому способствуют богатейшие запасы полезных ископаемых, развитая транспортная сеть, мощный внутренний рыно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шь к концу 80-х годов химическая индустрия стран ЕС в общем исчислении превысила объёмы производства в СШ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4038480" cy="5185080"/>
          </a:xfrm>
          <a:prstGeom prst="rect">
            <a:avLst/>
          </a:prstGeom>
          <a:gradFill rotWithShape="0">
            <a:gsLst>
              <a:gs pos="0">
                <a:srgbClr val="765e5e"/>
              </a:gs>
              <a:gs pos="50000">
                <a:srgbClr val="ffcccc"/>
              </a:gs>
              <a:gs pos="100000">
                <a:srgbClr val="765e5e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концу 20 века в мировой химической промышленности сложились четыре главных региона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ША, Зарубежная Европа, СНГ, Япо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ждом из них получили развитие горно-химическая промышленность, производство минеральных удобрений, основной химической продукции, но в особенности органического синтеза и полимерных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00720" y="1268280"/>
          <a:ext cx="4392360" cy="4608720"/>
        </p:xfrm>
        <a:graphic>
          <a:graphicData uri="http://schemas.openxmlformats.org/drawingml/2006/table">
            <a:tbl>
              <a:tblPr/>
              <a:tblGrid>
                <a:gridCol w="1463400"/>
                <a:gridCol w="1465560"/>
                <a:gridCol w="1463400"/>
              </a:tblGrid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ания, штаб-кварти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ём продаж в 2005г.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рд. дол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F AG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двигсхафен Герм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w Chemical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дланд, СШ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ll Chemicals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дерланды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обрит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yer AG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веркузен, Герм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EOS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ндхёрст, Великобрит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49" name="Text Box 37"/>
          <p:cNvSpPr/>
          <p:nvPr/>
        </p:nvSpPr>
        <p:spPr>
          <a:xfrm>
            <a:off x="4428360" y="620640"/>
            <a:ext cx="44845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ейшие химические компании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"/>
          <p:cNvPicPr/>
          <p:nvPr/>
        </p:nvPicPr>
        <p:blipFill>
          <a:blip r:embed="rId1"/>
          <a:stretch/>
        </p:blipFill>
        <p:spPr>
          <a:xfrm>
            <a:off x="611280" y="3213000"/>
            <a:ext cx="4038480" cy="291312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932360" y="1125000"/>
            <a:ext cx="4038480" cy="4526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звивающихся странах химическая промышленность стала активно развиваться после энергетического кризиса 1970-х годов. Особенно в тех странах Азии, Африки и Латинской Америки, которые богаты ресурсами нефти и природного г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пные нефтехимические комплексы вошли в строй в странах Персидского залива, Северной Африки, в Мексике и в Венесуэ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"/>
          <p:cNvPicPr/>
          <p:nvPr/>
        </p:nvPicPr>
        <p:blipFill>
          <a:blip r:embed="rId2"/>
          <a:srcRect l="4887" t="10646" r="7202" b="3671"/>
          <a:stretch/>
        </p:blipFill>
        <p:spPr>
          <a:xfrm>
            <a:off x="611280" y="549360"/>
            <a:ext cx="3960720" cy="2303280"/>
          </a:xfrm>
          <a:prstGeom prst="rect">
            <a:avLst/>
          </a:prstGeom>
          <a:ln w="2844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ЛЕСНАЯ И ДЕРЕВООБРАБАТЫВАЮЩАЯ ПРОМЫШЛ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38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сная промышленность — старейшая среди отраслей, производящих конструкционные материалы. Она объединяет предприятия лесозаготовительной, деревообрабатывающей, целлюлозно- бумажной и лесохимической промышленности. Она производит круглый лес, доски, изделия из дерева, бумагу и лесохимические проду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5792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ография лесной и деревообрабатывающей промышленности мира во многом определяется размещением лесных ресурсов. На Земле сложились два поя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еверный лесной поя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охватывает в основном таежные районы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Евразии и Северной Амер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Здесь заготавливается хвойная древесина, которая потом перерабатывается в пиловочник, древесные плиты, целлюлозу, бумагу, картон. Для некоторых стран (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оссия, Канада, Швеция, Финлянд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лесная и деревообрабатывающая промышленность — важные отрасли международной специализ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южный лесной поя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заготавливается лиственная древесина. Здесь сложились три главных района лесной промышленности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Бразилия, Тропическая Африка, Юго-Восточная А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Самыми разнообразными и богатыми запасами древесины пояса обладает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Южная Амер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Заготавливаемая в вышеперечисленных районах древесина в основном вывозится морским путем в Японию, Западную Европу, а также идет на др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ме того, в странах южного пояса активно используется недревесное сырье, на изготовление бумаги идет бамбук (Индия), богасса (Перу), сизаль (Бразилия, Танзания), джут (Бангладеш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География лесной промышле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последние десятилетия в географии лесной промышленности стали ощущаться значительные изменения, связанные с соотношением северного и южного лесных поясов. В целом, заготовка древесины растет. Но если в середине XX века страны I пояса намного опережали страны II пояса, то теперь этот отрыв сокращается. Крупнейшими заготовителями древесины являются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США, Россия, Канада, Индия, Бразилия, Индонезия, Нигерия, Украина, Китай, Шве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всей заготавливаемой древесины на деловую древесину приходится: в странах северного пояса —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80-100%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а в странах южного пояса —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10-20%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ханическая переработка древесины представляет из себя прежде всего производство пиломатериалов; крупнейшие производители: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США. Россия, Канада, Япония. Бразилия, Индия, ФРГ, Франция, Швеция, Финлянд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химической переработке древесины (основная подотрасль — производство целлюлозы) лидируют: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СШ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Канада, Япония, Швеция, Финлянд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Из стран южного пояса только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Бразил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носит заметный вклад в мировое производство целлюлозы — 4%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ство бумаги также увеличивается. Главные страны-производители бумаги —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США, Япония, Канад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4038480" cy="5832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реднем, в мире из расчета на душу населения производится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45 кг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бумаги. I место занимает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Финлянд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1400 кг), также высоки показатели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Шве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670 кг).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Канад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530 кг),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Норвег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400 кг); в Европе показатели выше среднемировых, а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Росс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ниже (35 кг). Очень низок уровень душевого показателя в развивающихся странах (например,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Инд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1,7 кг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вными экспортерами и импортерами лесной и лесобумажной продукции были и остаются экономически развитые страны. Основные экспортеры —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Канада, США, Россия, Скандинавские страны, Япония, отчасти СШ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Но в последнее время увеличивается доля экспорта круглого леса и переработанной древесины из развивающихся стран (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Малайзия. Бразилия, Индонезия, Филиппины, Папуа-Новая Гвинея, Кот-д'Ивуар, Габон, Камеру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4788000" y="260280"/>
            <a:ext cx="4038480" cy="295272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  <p:pic>
        <p:nvPicPr>
          <p:cNvPr id="61" name="Picture 8" descr=""/>
          <p:cNvPicPr/>
          <p:nvPr/>
        </p:nvPicPr>
        <p:blipFill>
          <a:blip r:embed="rId2"/>
          <a:stretch/>
        </p:blipFill>
        <p:spPr>
          <a:xfrm>
            <a:off x="4788000" y="3429000"/>
            <a:ext cx="4038480" cy="269712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9:02:57Z</dcterms:created>
  <dc:creator>User</dc:creator>
  <dc:description/>
  <dc:language>en-US</dc:language>
  <cp:lastModifiedBy>Алёна Гурова</cp:lastModifiedBy>
  <dcterms:modified xsi:type="dcterms:W3CDTF">2020-04-04T14:00:51Z</dcterms:modified>
  <cp:revision>3</cp:revision>
  <dc:subject/>
  <dc:title>Слайд 1</dc:title>
</cp:coreProperties>
</file>