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479-D830-441C-9FFA-3953766C7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776-27C1-4C27-9C93-8D5EFA286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6335-ACA3-418F-B86B-11F20C8CA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DE7-B227-4D25-882A-3B62D8CC5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A891-B3F4-4586-864D-1C3269F9B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BE6-AD15-483A-863C-792A3C850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BFD-6F50-4298-9CFA-B4EBAE2D0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404E-8184-49E4-AEA7-07477638D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A24-E8A5-4A4E-84B9-1C3D6035D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D30-BAD7-4B11-8B5C-C7837FE0E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3EA-4638-494E-B4FA-B564D82D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9E5-9260-43BE-BF21-ACA61DF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A6E-9524-4FAB-A4F9-3EA9C633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2F0-2220-4C54-B9EC-8D4A1488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3D7-28AC-443C-BD23-22C2E7F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23F-A72D-418D-8015-A16A88D2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76C-043F-4EAF-A0A8-75E2F41E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7A1-5346-436C-87C3-8C86A769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67E-4F67-49BB-89D0-AFD1E3E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D8A-FEDC-4241-897B-891E51DE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856-36BA-423A-A69A-B3313DE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B98-E34B-49CE-8414-D8EEDE5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CE62-1656-4481-AB8E-85D68FFBA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talnya.ru/upload/247/7152788261882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703/zadurasdzedze111.0/0_56e99_35c5f2b2_X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a833a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c00000"/>
                </a:solidFill>
                <a:latin typeface="Arial"/>
              </a:rPr>
              <a:t>London Z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87376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stasiya Konchukov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 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688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185920" y="333360"/>
            <a:ext cx="5410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684360" y="189000"/>
            <a:ext cx="7632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 for your attention!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Arial"/>
              </a:rPr>
              <a:t>Zo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People can see different animal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People can feed exotic animals and watch the young bab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People learn new things about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Zoo lovers can study animals in the c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It is very enjoyable and you can go there with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26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- the Zoological Society of London was fou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28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a collection of animals was opened in Regent’s P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30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the collection of animals was enlarged very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47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- the Zoo was opened to the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50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Russia presented bison and other animals to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53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the first Aquarium was o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880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animals from Australia arr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932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tropical animals appeared in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3300"/>
                </a:solidFill>
                <a:latin typeface="Arial"/>
              </a:rPr>
              <a:t>1938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- it became first children’s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57480" y="342864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 giraffe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is an exotic animal. It is the tallest animal in the world. It can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 6 or 7 meters high. It is yellow with brown spots. The giraffe likes to eat acacia very mu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london-zoo кормление жирафов в Лондонском зоопарке"/>
          <p:cNvPicPr/>
          <p:nvPr/>
        </p:nvPicPr>
        <p:blipFill>
          <a:blip r:embed="rId1"/>
          <a:stretch/>
        </p:blipFill>
        <p:spPr>
          <a:xfrm>
            <a:off x="5867280" y="1341360"/>
            <a:ext cx="3113280" cy="465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68c77b"/>
          <p:cNvPicPr/>
          <p:nvPr/>
        </p:nvPicPr>
        <p:blipFill>
          <a:blip r:embed="rId2"/>
          <a:stretch/>
        </p:blipFill>
        <p:spPr>
          <a:xfrm>
            <a:off x="755640" y="115920"/>
            <a:ext cx="46800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eleph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largest animal. It has large ears and tusks. Its nose is called a trunk. It eats grass and green leaves (about 400 kilos a da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Dolphin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are very intelligent. They can be black, white and blue. Their brain is very big. Dolphins can jump out of the water, play with a ball and do tr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7920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353844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quirrel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re very funny. They are beautiful and nice. They are very active. They eat berries, nuts and mushrooms. They can take food from people’s hands.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артинка 9 из 1625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15920"/>
            <a:ext cx="4788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Parrot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in the zoo are big and funny. They can say few words. Their homeland is Australia and the trop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а 11 из 1596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0"/>
            <a:ext cx="53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9"/>
          <p:cNvSpPr txBox="1"/>
          <p:nvPr/>
        </p:nvSpPr>
        <p:spPr>
          <a:xfrm>
            <a:off x="755640" y="620640"/>
            <a:ext cx="77770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uess the animal!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686800" y="5733720"/>
            <a:ext cx="6984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7:30:25Z</dcterms:created>
  <dc:creator>Manager</dc:creator>
  <dc:description/>
  <dc:language>en-US</dc:language>
  <cp:lastModifiedBy>HP</cp:lastModifiedBy>
  <dcterms:modified xsi:type="dcterms:W3CDTF">2020-04-04T04:32:15Z</dcterms:modified>
  <cp:revision>16</cp:revision>
  <dc:subject/>
  <dc:title>London Zoo</dc:title>
</cp:coreProperties>
</file>