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179-DC5B-4844-AEB3-5B145C3D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EFC-3CD1-46B5-BB60-BCC723DC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733-E90B-4457-AD47-AA513180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D0A-7E27-4AB0-A9D5-D6089416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AD1-6FA9-4387-8A88-8AB52B0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FAA-3784-4836-B9E4-469405B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320-E737-4725-A9A6-BBB01911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A4E-311A-4D5D-AF2A-015FD6B8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24E-9B98-4F74-A7A2-D45F531F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48A-E728-4CF5-A567-FF1C506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D2D-C6E4-41B8-A0BC-B3550122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442-CBCD-4D53-90DE-7041A73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13E8-DEFF-40AF-8523-D587A76A1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обр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тветств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Л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юбов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Г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еро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Мудрые мыс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рушая свой долг, тем самым нарушают и свои п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.Ж. Ру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навать долг и не исполн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– это трус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нфу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468360" y="54936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 высматривала тебя, как вишневый сад высматривает соловья, — сказала шест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седьмая дочка ничего не сказала. Она сняла с мамы ботинки и принесла ей воды в тазу — помыть но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Вопросы и задания к сказк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вы думаете, что труднее: говорить красиво или поступать красив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476280"/>
            <a:ext cx="8207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МЬ ДОЧЕ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. Сухомли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ыло у матери семь дочек. Однажды поехала мать к сыну и вернулась домой только через неделю. Когда мать вошла в хату, дочки одна за другой стали говорить, как они скучали по ма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 скучала по тебе, как маковка по солнечному  лугу, — сказала первая до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 ждала тебя, как сухая земля ждет каплю воды, — проговорила втор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 плакала по тебе, как маленький птенчик плачет по птичке, — сказала тре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не тяжело было без тебя, как пчеле без цветка, — щебетала четверт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ы снилась мне, как розе снится капля росы, — промолвила пят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87400" y="4381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3578400" y="2060640"/>
            <a:ext cx="2112840" cy="211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6016680" y="3780000"/>
            <a:ext cx="2471760" cy="2528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tretch/>
        </p:blipFill>
        <p:spPr>
          <a:xfrm>
            <a:off x="826920" y="3610080"/>
            <a:ext cx="2351160" cy="27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5"/>
          <a:stretch/>
        </p:blipFill>
        <p:spPr>
          <a:xfrm>
            <a:off x="6273720" y="43812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Цветок для мамы». Представьте, что на одну неделю вашей маме пришлось уехать, и вам необходимо в течение недели выполнять все мамины дела. Перечислите эти дела и подумайте, когда и как вы их будете выполнять. Запишите на лепестках ром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:\10475941_LB_Romashka.jpg"/>
          <p:cNvPicPr/>
          <p:nvPr/>
        </p:nvPicPr>
        <p:blipFill>
          <a:blip r:embed="rId1"/>
          <a:stretch/>
        </p:blipFill>
        <p:spPr>
          <a:xfrm>
            <a:off x="1620720" y="1414440"/>
            <a:ext cx="5615280" cy="5224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1258920" y="419040"/>
            <a:ext cx="60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Цветок для м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77564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omic Sans MS"/>
              </a:rPr>
              <a:t>Тема урока</a:t>
            </a:r>
            <a:br>
              <a:rPr sz="6600"/>
            </a:br>
            <a:r>
              <a:rPr b="0" lang="ru-RU" sz="6600" spc="-1" strike="noStrike">
                <a:solidFill>
                  <a:srgbClr val="ffff00"/>
                </a:solidFill>
                <a:latin typeface="Comic Sans MS"/>
              </a:rPr>
              <a:t>                      </a:t>
            </a: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«Моральный долг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Comic Sans MS"/>
              </a:rPr>
              <a:t>Основные термины и понятия</a:t>
            </a: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915920"/>
            <a:ext cx="6624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оральный дол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оральная обяза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"/>
          <p:cNvGrpSpPr/>
          <p:nvPr/>
        </p:nvGrpSpPr>
        <p:grpSpPr>
          <a:xfrm>
            <a:off x="434880" y="260280"/>
            <a:ext cx="8458200" cy="5832360"/>
            <a:chOff x="434880" y="260280"/>
            <a:chExt cx="8458200" cy="5832360"/>
          </a:xfrm>
        </p:grpSpPr>
        <p:sp>
          <p:nvSpPr>
            <p:cNvPr id="47" name="Oval 4"/>
            <p:cNvSpPr/>
            <p:nvPr/>
          </p:nvSpPr>
          <p:spPr>
            <a:xfrm>
              <a:off x="3060360" y="2131920"/>
              <a:ext cx="3024360" cy="15858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о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ол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"/>
            <p:cNvSpPr/>
            <p:nvPr/>
          </p:nvSpPr>
          <p:spPr>
            <a:xfrm>
              <a:off x="6448320" y="326880"/>
              <a:ext cx="2160360" cy="1079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6"/>
            <p:cNvSpPr/>
            <p:nvPr/>
          </p:nvSpPr>
          <p:spPr>
            <a:xfrm>
              <a:off x="7054560" y="2492280"/>
              <a:ext cx="1838520" cy="10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7"/>
            <p:cNvSpPr/>
            <p:nvPr/>
          </p:nvSpPr>
          <p:spPr>
            <a:xfrm>
              <a:off x="6190920" y="4940280"/>
              <a:ext cx="1944720" cy="1152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8"/>
            <p:cNvSpPr/>
            <p:nvPr/>
          </p:nvSpPr>
          <p:spPr>
            <a:xfrm>
              <a:off x="1042560" y="4868640"/>
              <a:ext cx="1944720" cy="1152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9"/>
            <p:cNvSpPr/>
            <p:nvPr/>
          </p:nvSpPr>
          <p:spPr>
            <a:xfrm>
              <a:off x="434880" y="2455560"/>
              <a:ext cx="1871640" cy="1152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1333080" y="260280"/>
              <a:ext cx="2160720" cy="10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5902200" y="1412640"/>
              <a:ext cx="129672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5398920" y="364464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 flipH="1">
              <a:off x="2700000" y="3573360"/>
              <a:ext cx="1008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 flipH="1">
              <a:off x="2230200" y="2830320"/>
              <a:ext cx="7920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 flipH="1" flipV="1">
              <a:off x="2965320" y="1282320"/>
              <a:ext cx="612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6046560" y="2995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7"/>
          <p:cNvSpPr/>
          <p:nvPr/>
        </p:nvSpPr>
        <p:spPr>
          <a:xfrm>
            <a:off x="1877400" y="442800"/>
            <a:ext cx="11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1692360" y="5013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1252440" y="4869000"/>
            <a:ext cx="1582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611280" y="28144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е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6762600" y="51264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142040" y="2631960"/>
            <a:ext cx="169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зья, однокласс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6593040" y="533412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ральный долг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выполнение существующих в обществе норм не по принуждению, а на основе своих убеждений. Принимая свой долг, человек добровольно принимает на себя свои обязанности по отношению к другим, поэтому моральный долг называют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моральной обязан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1.- Продолжите фразы: « Всеобщее осуждение окружающих вызывает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{98FD7FE8-D60D-423A-9DA8-38886AD4623F}"/>
          <p:cNvPicPr/>
          <p:nvPr/>
        </p:nvPicPr>
        <p:blipFill>
          <a:blip r:embed="rId1"/>
          <a:stretch/>
        </p:blipFill>
        <p:spPr>
          <a:xfrm>
            <a:off x="4932360" y="2371680"/>
            <a:ext cx="3598920" cy="345600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70" name="Picture 5" descr="{43860C5F-4135-48C3-B07A-FCAF1245F1A7}"/>
          <p:cNvPicPr/>
          <p:nvPr/>
        </p:nvPicPr>
        <p:blipFill>
          <a:blip r:embed="rId2"/>
          <a:stretch/>
        </p:blipFill>
        <p:spPr>
          <a:xfrm>
            <a:off x="684360" y="2349360"/>
            <a:ext cx="3671640" cy="34750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  <p:transition spd="med">
    <p:wheel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77640" y="549000"/>
            <a:ext cx="8605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2. « </a:t>
            </a: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Человека в обществе   будут уважать за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{244A5195-FC13-4D4E-908D-E17D2D1F5B2E}"/>
          <p:cNvPicPr/>
          <p:nvPr/>
        </p:nvPicPr>
        <p:blipFill>
          <a:blip r:embed="rId1"/>
          <a:stretch/>
        </p:blipFill>
        <p:spPr>
          <a:xfrm>
            <a:off x="1619280" y="2205000"/>
            <a:ext cx="5977080" cy="385776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  <p:transition spd="med"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434880" y="260280"/>
            <a:ext cx="8458200" cy="5892840"/>
            <a:chOff x="434880" y="260280"/>
            <a:chExt cx="8458200" cy="5892840"/>
          </a:xfrm>
        </p:grpSpPr>
        <p:sp>
          <p:nvSpPr>
            <p:cNvPr id="74" name="Oval 4"/>
            <p:cNvSpPr/>
            <p:nvPr/>
          </p:nvSpPr>
          <p:spPr>
            <a:xfrm>
              <a:off x="3060360" y="2131920"/>
              <a:ext cx="3024360" cy="15858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ор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5"/>
            <p:cNvSpPr/>
            <p:nvPr/>
          </p:nvSpPr>
          <p:spPr>
            <a:xfrm>
              <a:off x="6448320" y="326880"/>
              <a:ext cx="2160360" cy="1079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"/>
            <p:cNvSpPr/>
            <p:nvPr/>
          </p:nvSpPr>
          <p:spPr>
            <a:xfrm>
              <a:off x="7054560" y="2492280"/>
              <a:ext cx="1838520" cy="10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"/>
            <p:cNvSpPr/>
            <p:nvPr/>
          </p:nvSpPr>
          <p:spPr>
            <a:xfrm>
              <a:off x="5938560" y="4914720"/>
              <a:ext cx="2521080" cy="1238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"/>
            <p:cNvSpPr/>
            <p:nvPr/>
          </p:nvSpPr>
          <p:spPr>
            <a:xfrm>
              <a:off x="1042560" y="4868640"/>
              <a:ext cx="1944720" cy="1152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9"/>
            <p:cNvSpPr/>
            <p:nvPr/>
          </p:nvSpPr>
          <p:spPr>
            <a:xfrm>
              <a:off x="434880" y="2455560"/>
              <a:ext cx="1871640" cy="1152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"/>
            <p:cNvSpPr/>
            <p:nvPr/>
          </p:nvSpPr>
          <p:spPr>
            <a:xfrm>
              <a:off x="1333080" y="260280"/>
              <a:ext cx="2160720" cy="10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5902200" y="1412640"/>
              <a:ext cx="129672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5398920" y="364464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 flipH="1">
              <a:off x="2700000" y="3573360"/>
              <a:ext cx="1008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 flipH="1">
              <a:off x="2230200" y="2830320"/>
              <a:ext cx="7920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 flipH="1" flipV="1">
              <a:off x="2965320" y="1282320"/>
              <a:ext cx="612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6046560" y="2995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3"/>
          <p:cNvSpPr/>
          <p:nvPr/>
        </p:nvSpPr>
        <p:spPr>
          <a:xfrm>
            <a:off x="169236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ь прав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6875640" y="549360"/>
            <a:ext cx="12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ждать наг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795240" y="264960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ажать право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7269120" y="268452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ть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1295280" y="512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титься о стар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6156360" y="5210280"/>
            <a:ext cx="21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иональный дол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Собери послов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Долг не ревёт,              а честь смол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ам погибай,                а спать не да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Береги платье снову,  товарища выру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788000" y="1628640"/>
            <a:ext cx="0" cy="453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643280" y="1341360"/>
            <a:ext cx="73080" cy="504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43280" y="1628640"/>
            <a:ext cx="0" cy="460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643280" y="1628640"/>
            <a:ext cx="73080" cy="453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0" y="1557360"/>
            <a:ext cx="0" cy="46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0" y="1557360"/>
            <a:ext cx="0" cy="46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0" y="1557360"/>
            <a:ext cx="0" cy="46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8"/>
          <p:cNvCxnSpPr/>
          <p:nvPr/>
        </p:nvCxnSpPr>
        <p:spPr>
          <a:xfrm>
            <a:off x="3203640" y="3499920"/>
            <a:ext cx="1945440" cy="15138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03" name="Прямая со стрелкой 10"/>
          <p:cNvCxnSpPr/>
          <p:nvPr/>
        </p:nvCxnSpPr>
        <p:spPr>
          <a:xfrm>
            <a:off x="3456000" y="1773000"/>
            <a:ext cx="144036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12"/>
          <p:cNvCxnSpPr/>
          <p:nvPr/>
        </p:nvCxnSpPr>
        <p:spPr>
          <a:xfrm>
            <a:off x="3203640" y="3573360"/>
            <a:ext cx="223272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14"/>
          <p:cNvCxnSpPr/>
          <p:nvPr/>
        </p:nvCxnSpPr>
        <p:spPr>
          <a:xfrm flipV="1">
            <a:off x="3850920" y="1988280"/>
            <a:ext cx="1369080" cy="302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heel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9:14:22Z</dcterms:created>
  <dc:creator>Администратор</dc:creator>
  <dc:description/>
  <dc:language>en-US</dc:language>
  <cp:lastModifiedBy>пк1</cp:lastModifiedBy>
  <dcterms:modified xsi:type="dcterms:W3CDTF">2012-06-08T13:01:32Z</dcterms:modified>
  <cp:revision>24</cp:revision>
  <dc:subject/>
  <dc:title>Тема урока:                      «Моральный долг»</dc:title>
</cp:coreProperties>
</file>