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6AD6-2C39-47D1-AF0D-C1EFD98B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DA69-4E2F-4749-8298-5C07B173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DA5C-103B-4615-A4B5-C3AFF7E3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120D-0056-4F51-849C-F0816411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E538-C4F7-4EBA-9A00-52C8A756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4E34-1BF7-412E-A355-D81AE29C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EC48-3046-4B9D-B4F9-BA9D3B95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EE63-9269-49F9-BDC0-1D8151CA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9CDA-DBBC-4B90-A137-2B74B850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DA30-F6D9-4D0A-B0D2-EA89CE6F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7EC-5F92-46B0-B8AC-8238E8B4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F629-4516-4867-9A0A-7B83F594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AA56-91B7-4339-A330-5FB32C1280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готовка к ОГ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85760" y="3885840"/>
            <a:ext cx="398628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Задание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85480" y="213840"/>
            <a:ext cx="86439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перечисленные ниже города России в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ке увеличения среднегодового количеств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адающих на их территории атмосферны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адков, начиная с города с наименьшим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м осадк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таблицу получившуюс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циф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Южно-Сахалинс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ижний Новгор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Астрахан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одзаголовок 2"/>
          <p:cNvSpPr/>
          <p:nvPr/>
        </p:nvSpPr>
        <p:spPr>
          <a:xfrm>
            <a:off x="1428840" y="5572080"/>
            <a:ext cx="12142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3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перечисленные ниже города России в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ке повышения средней многолетне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ы самого холодного месяца, начина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орода с самой низкой температурой воздух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таблицу получившуюс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циф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Челябинс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Якутс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алинингра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одзаголовок 2"/>
          <p:cNvSpPr/>
          <p:nvPr/>
        </p:nvSpPr>
        <p:spPr>
          <a:xfrm>
            <a:off x="1428840" y="5715000"/>
            <a:ext cx="1214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2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перечисленные ниже города России 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ке повышения средней многолетне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ы воздуха самого холодного месяца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города с самой низкой температуро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ха. Запишите в таблицу получившуюс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циф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ркутс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азан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алинингра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одзаголовок 2"/>
          <p:cNvSpPr/>
          <p:nvPr/>
        </p:nvSpPr>
        <p:spPr>
          <a:xfrm>
            <a:off x="1428840" y="5715000"/>
            <a:ext cx="1214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1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85480" y="214200"/>
            <a:ext cx="8643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перечисленные ниже города России 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ке повышения средней многолетней температуры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ха самого холодного месяца, начиная с города с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й низкой температурой воздух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таблицу получившуюся последовательность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урманск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Чи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моленск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одзаголовок 2"/>
          <p:cNvSpPr/>
          <p:nvPr/>
        </p:nvSpPr>
        <p:spPr>
          <a:xfrm>
            <a:off x="1357200" y="5643720"/>
            <a:ext cx="100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23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одзаголовок 2"/>
          <p:cNvSpPr/>
          <p:nvPr/>
        </p:nvSpPr>
        <p:spPr>
          <a:xfrm>
            <a:off x="2428920" y="5643720"/>
            <a:ext cx="6143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У берегов Мурманска теплое тече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840" y="285840"/>
            <a:ext cx="85010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перечисленные ниже регионы России 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ке увеличения средней продолжительност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морозного периода на их территории, начиная с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 с наименьшей продолжительностью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морозного период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таблицу получившуюся последовательность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раснодарский кра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еспублика Татарста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енецкий А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одзаголовок 2"/>
          <p:cNvSpPr/>
          <p:nvPr/>
        </p:nvSpPr>
        <p:spPr>
          <a:xfrm>
            <a:off x="1428840" y="5572080"/>
            <a:ext cx="12142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3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13840" y="285840"/>
            <a:ext cx="86439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перечисленные ниже города России в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ке повышения средней многолетней температуры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ха самого холодного месяца, начиная с города с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й низкой температурой воздух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таблицу получившуюся последовательность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орильск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урманск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алининград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одзаголовок 2"/>
          <p:cNvSpPr/>
          <p:nvPr/>
        </p:nvSpPr>
        <p:spPr>
          <a:xfrm>
            <a:off x="1357200" y="5072040"/>
            <a:ext cx="1214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1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перечисленные регионы России по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уменьшения коэффициента увлажнения 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территории, начиная с региона с наибольши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эффициентом увлажн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таблицу получившуюс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 циф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Хабаровский кра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еспублика Татарста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еспублика Калмык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одзаголовок 2"/>
          <p:cNvSpPr/>
          <p:nvPr/>
        </p:nvSpPr>
        <p:spPr>
          <a:xfrm>
            <a:off x="1500120" y="5572080"/>
            <a:ext cx="12146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1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14200" y="285480"/>
            <a:ext cx="8715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перечисленные ниже города России в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ке увеличения среднегодового количеств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мосферных осадков, выпадающих в них, начина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орода с наименьшим количеством осадк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таблицу получившуюс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циф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алинингра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оск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Элис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одзаголовок 2"/>
          <p:cNvSpPr/>
          <p:nvPr/>
        </p:nvSpPr>
        <p:spPr>
          <a:xfrm>
            <a:off x="1500120" y="5572080"/>
            <a:ext cx="12146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3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85840" y="213840"/>
            <a:ext cx="85723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ым показателем комфортность природных услов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жизни людей  является продолжительность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й ночи (дня). Расположите перечисленны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а России в порядке увеличения степен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и полярной ночи в них, начиная с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а с наименьшей продолжительностью полярной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и или с города, в котором полярной ночи не бывает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таблицу получившуюся последовательность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Ханты-Мансийск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арьян-Мар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урманск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одзаголовок 2"/>
          <p:cNvSpPr/>
          <p:nvPr/>
        </p:nvSpPr>
        <p:spPr>
          <a:xfrm>
            <a:off x="1571760" y="5786280"/>
            <a:ext cx="12142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1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перечисленные ниже города Росс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рядке повышения средней многолетне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ы воздуха самого холодного месяца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города с самой низкой температуро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ха. Запишите в таблицу получившуюс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циф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Якутс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Екатеринбург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оск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одзаголовок 2"/>
          <p:cNvSpPr/>
          <p:nvPr/>
        </p:nvSpPr>
        <p:spPr>
          <a:xfrm>
            <a:off x="1714680" y="5143680"/>
            <a:ext cx="1214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1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3840" y="128592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движении с запада на восток климат становится более континентальным – осадков меньше, зима холодне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дальше на север: летом – день длиннее, зимой – ночь, за Полярным кругом (66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с.ш.) – полярный день и полярная ноч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движении с севера на юг (в РФ) угол падения солнечных лучей увеличивается – увеличивается и кол-во солнечной радиации (в любое время год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На Дальнем Востоке климат муссонный и морск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перечисленные регионы России по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увеличения абсолютной высоты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высшей отметки их территории, начиная с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, имеющего самую низкую отметку высоты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таблицу получившуюся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циф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абардино-Балкарская Республи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абайкальский кра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Астраханская област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одзаголовок 2"/>
          <p:cNvSpPr/>
          <p:nvPr/>
        </p:nvSpPr>
        <p:spPr>
          <a:xfrm>
            <a:off x="1643040" y="5357880"/>
            <a:ext cx="1214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3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перечисленные регионы России по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увеличения абсолютной высоты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высшей отметки их территории, начиная с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, имеющего самую низкую отметку высоты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таблицу получившуюся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циф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Алтайский кра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Ямало-Ненецкий А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еспублика Татарста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одзаголовок 2"/>
          <p:cNvSpPr/>
          <p:nvPr/>
        </p:nvSpPr>
        <p:spPr>
          <a:xfrm>
            <a:off x="1643040" y="5357880"/>
            <a:ext cx="1214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2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85480" y="356760"/>
            <a:ext cx="87152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перечисленные ниже регионы России 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ке увеличения среднего количества суммарн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ечной радиации, поступающей на 1 м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зонтальной поверхности их территории в январе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региона с наименьшим количеством  суммарн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ечной радиации в январе. Запишите в таблиц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вшуюся  последовательность циф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Ленинградская обла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ижегородская обла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тавропольский кра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одзаголовок 2"/>
          <p:cNvSpPr/>
          <p:nvPr/>
        </p:nvSpPr>
        <p:spPr>
          <a:xfrm>
            <a:off x="1571760" y="5286240"/>
            <a:ext cx="12142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1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дзаголовок 2"/>
          <p:cNvSpPr/>
          <p:nvPr/>
        </p:nvSpPr>
        <p:spPr>
          <a:xfrm>
            <a:off x="3143160" y="5000760"/>
            <a:ext cx="54295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ри движении с севера на ю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тановится теплее (увеличиваетс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ол-во солнечной радиации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85840" y="357120"/>
            <a:ext cx="85010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ым показателем комфортность природных условий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жизни людей  является продолжительность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й ночи (дня). Расположите перечисленны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а России в порядке увеличения степен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и полярной ночи в них, начиная с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а с наименьшей продолжительностью полярной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и или с города, в котором полярной ночи не бывает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таблицу получившуюся последовательность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орку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урманск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ыктывкар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одзаголовок 2"/>
          <p:cNvSpPr/>
          <p:nvPr/>
        </p:nvSpPr>
        <p:spPr>
          <a:xfrm>
            <a:off x="1428840" y="5857920"/>
            <a:ext cx="1214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3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28584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перечисленные ниже регионы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и в порядке уменьшения среднегодового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а атмосферных осадков на и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и, начиная с региона с наибольшим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м осадков. Запишите в таблицу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вшуюся последовательность циф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амчатский кра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моленская облас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еспублика Калмык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одзаголовок 2"/>
          <p:cNvSpPr/>
          <p:nvPr/>
        </p:nvSpPr>
        <p:spPr>
          <a:xfrm>
            <a:off x="1714680" y="5643720"/>
            <a:ext cx="1214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1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фортность климатических условий для жизн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ей во многом определяется степенью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ентальности климата. Расположите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енные города России в порядке увеличени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континентальности климата в них, начиная с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а с наименее континентальным климатом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таблицу получившуюс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цифр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Ульяновск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Томск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ызы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одзаголовок 2"/>
          <p:cNvSpPr/>
          <p:nvPr/>
        </p:nvSpPr>
        <p:spPr>
          <a:xfrm>
            <a:off x="1571760" y="5072040"/>
            <a:ext cx="1214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1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перечисленные регионы России п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уменьшения коэффициента увлажн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их территории, начиная с региона с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ьшим коэффициентом увлажн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таблицу получившуюс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циф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ахалинская облас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урская облас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олгоградская облас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одзаголовок 2"/>
          <p:cNvSpPr/>
          <p:nvPr/>
        </p:nvSpPr>
        <p:spPr>
          <a:xfrm>
            <a:off x="1643040" y="5286240"/>
            <a:ext cx="12146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1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285480"/>
            <a:ext cx="83296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фортность климатических условий для жизн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ей во многом определяется степенью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ентальности климата. Расположит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енные города России в порядке увеличения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континентальности климата в них, начиная с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а с наименее континентальным климатом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таблицу получившуюся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циф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моленск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Якутск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Челябинск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одзаголовок 2"/>
          <p:cNvSpPr/>
          <p:nvPr/>
        </p:nvSpPr>
        <p:spPr>
          <a:xfrm>
            <a:off x="1643040" y="5500800"/>
            <a:ext cx="1214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1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356760"/>
            <a:ext cx="840096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перечисленные ниже регионы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и в порядке увеличения средней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и безморозного периода на их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и, начиная с региона с наименьшей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ю безморозного период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таблицу получившуюся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циф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остовская област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ермский кра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урманская област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одзаголовок 2"/>
          <p:cNvSpPr/>
          <p:nvPr/>
        </p:nvSpPr>
        <p:spPr>
          <a:xfrm>
            <a:off x="1643040" y="5572080"/>
            <a:ext cx="12146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2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фортность климатических условий для жизн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ей во многом определяется степенью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ентальности климата. Расположит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енные города России в порядке увеличения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континентальности климата в них, начиная с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а с наименее континентальным климатом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таблицу получившуюся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циф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Чи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мск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етрозаводск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одзаголовок 2"/>
          <p:cNvSpPr/>
          <p:nvPr/>
        </p:nvSpPr>
        <p:spPr>
          <a:xfrm>
            <a:off x="1571760" y="5429160"/>
            <a:ext cx="12142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3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перечисленные регионы России по степени увеличения естественного плодородия почв на их территории, начиная с региона, почвы которого наименее плодородны. Запишите в таблицу получившуюся последовательность циф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еспублика Карел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Ямало-Ненецкий А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тавропольский кра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одзаголовок 2"/>
          <p:cNvSpPr/>
          <p:nvPr/>
        </p:nvSpPr>
        <p:spPr>
          <a:xfrm>
            <a:off x="1643040" y="5286240"/>
            <a:ext cx="12146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2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перечисленные ниже регионы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и по степени увеличения коэффициент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ажнения на их территории, начиная с регио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амым низким коэффициентом увлажн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таблицу получившуюс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циф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урманская облас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осковская облас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тавропольский кра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одзаголовок 2"/>
          <p:cNvSpPr/>
          <p:nvPr/>
        </p:nvSpPr>
        <p:spPr>
          <a:xfrm>
            <a:off x="1571760" y="5429160"/>
            <a:ext cx="12142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3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перечисленные ниже регион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и по степени увеличения естественного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ородия почв на их территории, начиная с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, почвы которого наименее плодородны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таблицу получившуюс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циф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тавропольский кра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Ярославская облас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агаданская облас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одзаголовок 2"/>
          <p:cNvSpPr/>
          <p:nvPr/>
        </p:nvSpPr>
        <p:spPr>
          <a:xfrm>
            <a:off x="1714680" y="5214960"/>
            <a:ext cx="1214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3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перечисленные регионы России по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уменьшения естественного плодород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в на их территории, начиная с региона, почв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го наиболее плодородны. Запишите в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получившуюся последовательност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еспублика Ко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осковская облас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остовская облас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одзаголовок 2"/>
          <p:cNvSpPr/>
          <p:nvPr/>
        </p:nvSpPr>
        <p:spPr>
          <a:xfrm>
            <a:off x="1714680" y="5357880"/>
            <a:ext cx="1214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3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перечисленные регионы России п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уменьшения абсолютной высоты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высшей отметки их территории, начиная с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, имеющего наибольшую отметку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ы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таблицу получившуюся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циф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арачаево-Черкесская Республи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Ханты-Мансийский округ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вердловская област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одзаголовок 2"/>
          <p:cNvSpPr/>
          <p:nvPr/>
        </p:nvSpPr>
        <p:spPr>
          <a:xfrm>
            <a:off x="1571760" y="5214960"/>
            <a:ext cx="1214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1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85480" y="500040"/>
            <a:ext cx="86439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перечисленные ниже города Росси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рядке увеличения среднегодового  количеств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мосферных осадков, выпадающих в них, начиная с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а с наименьшим количеством осадк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таблицу получившуюся  последовательность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Южно-Сахалинск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Астрахан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моленск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одзаголовок 2"/>
          <p:cNvSpPr/>
          <p:nvPr/>
        </p:nvSpPr>
        <p:spPr>
          <a:xfrm>
            <a:off x="1500120" y="5357880"/>
            <a:ext cx="1214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2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перечисленные ниже регионы России 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ке увеличения средней продолжительност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я ледового покрова на реках, начиная с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 с наименьшей средней продолжительностью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я ледового покрова на реках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таблицу получившуюся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циф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расноярский кра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еспублика Башкортоста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олгоградская област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одзаголовок 2"/>
          <p:cNvSpPr/>
          <p:nvPr/>
        </p:nvSpPr>
        <p:spPr>
          <a:xfrm>
            <a:off x="1571760" y="5214960"/>
            <a:ext cx="1214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3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перечисленные регионы России по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увеличения абсолютной высоты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высшей отметки их территории, начиная с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, имеющего самую низкую отметку высоты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таблицу получившуюся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циф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Алтайский кра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Астраханская област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еспублика Башкортоста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одзаголовок 2"/>
          <p:cNvSpPr/>
          <p:nvPr/>
        </p:nvSpPr>
        <p:spPr>
          <a:xfrm>
            <a:off x="1571760" y="5214960"/>
            <a:ext cx="1214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2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перечисленные ниже города Росси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рядке увеличения среднегодовог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а выпадающих на их территори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мосферных осадков, начиная с города с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ьшим количеством осадков. Запишите в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получившуюся последовательность циф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ч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оронеж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Элис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одзаголовок 2"/>
          <p:cNvSpPr/>
          <p:nvPr/>
        </p:nvSpPr>
        <p:spPr>
          <a:xfrm>
            <a:off x="1571760" y="5286240"/>
            <a:ext cx="12142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3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перечисленные ниже регионы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и по степени увеличения коэффициент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ажнения на их территории, начиная с регио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амым низким коэффициентом увлажн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таблицу получившуюс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циф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Ямало-Ненецкий А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Тамбовская облас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еспублика Калмык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одзаголовок 2"/>
          <p:cNvSpPr/>
          <p:nvPr/>
        </p:nvSpPr>
        <p:spPr>
          <a:xfrm>
            <a:off x="1571760" y="5286240"/>
            <a:ext cx="12142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3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перечисленные регионы России по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уменьшения естественного плодород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в на их территории, начиная с региона, почв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го наиболее плодородны. Запишите в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получившуюся последовательност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раснодарский кра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Ханты-Мансийский автономный округ –Юг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ладимирская облас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одзаголовок 2"/>
          <p:cNvSpPr/>
          <p:nvPr/>
        </p:nvSpPr>
        <p:spPr>
          <a:xfrm>
            <a:off x="1571760" y="5286240"/>
            <a:ext cx="12142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1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56760" y="285480"/>
            <a:ext cx="85726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ым показателем комфортность природных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й для жизни людей  является продолжительность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й ночи (дня). Расположите перечисленные город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и в порядке увеличения степени продолжительност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й ночи в них, начиная с города с наименьшей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ю полярной ночи или с города, в котором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й ночи не бывает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таблицу получившуюся последовательность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урманск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орку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алехард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одзаголовок 2"/>
          <p:cNvSpPr/>
          <p:nvPr/>
        </p:nvSpPr>
        <p:spPr>
          <a:xfrm>
            <a:off x="1357200" y="5429160"/>
            <a:ext cx="12146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3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 информа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fipi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480" y="285480"/>
            <a:ext cx="86439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перечисленные ниже регионы России 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ке уменьшения среднегодового количест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мосферных осадков на их территории, начиная 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 с наибольшим количеством осадк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таблицу получившую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циф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тавропо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ижний Новгор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1285920" y="5143680"/>
            <a:ext cx="1214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1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85480" y="285480"/>
            <a:ext cx="86439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перечисленные регионы России по степени уменьшения коэффициента увлажнения на их территории, начиная с региона  с наибольшим коэффициентом увлажн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урманская обла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еспублика Калмык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ркутская обла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1714680" y="5214960"/>
            <a:ext cx="1214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1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85480" y="285480"/>
            <a:ext cx="86439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перечисленные ниже города России 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ке повышения средней многолетне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ы воздуха самого холодного месяца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города с самой низкой температуро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ха. Запишите в таблицу получившуюс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циф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Якутс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ерм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остов-на-Дон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одзаголовок 2"/>
          <p:cNvSpPr/>
          <p:nvPr/>
        </p:nvSpPr>
        <p:spPr>
          <a:xfrm>
            <a:off x="1571760" y="5214960"/>
            <a:ext cx="1214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1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14200" y="285480"/>
            <a:ext cx="8715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фортность климатических условий для жизн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ей во многом определяется степенью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ентальности климата. Расположит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енные города России в порядке увеличения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континентальности климата в них, начиная с горо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аименее континентальным климато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таблицу получившуюся последовательность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Абака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Тюмен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азан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одзаголовок 2"/>
          <p:cNvSpPr/>
          <p:nvPr/>
        </p:nvSpPr>
        <p:spPr>
          <a:xfrm>
            <a:off x="1428840" y="5357880"/>
            <a:ext cx="1214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3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85480" y="213840"/>
            <a:ext cx="86439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ым показателем комфортность природных условий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жизни людей  является продолжительность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й ночи (дня). Расположите перечисленные город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и в порядке увеличения степен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и полярной ночи в них, начиная с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а с наименьшей продолжительностью полярной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и или с города, в котором полярной ночи не бывает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таблицу получившуюся последовательность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Анадыр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алехард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орильск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одзаголовок 2"/>
          <p:cNvSpPr/>
          <p:nvPr/>
        </p:nvSpPr>
        <p:spPr>
          <a:xfrm>
            <a:off x="1357200" y="5786280"/>
            <a:ext cx="12146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1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4T15:16:39Z</dcterms:created>
  <dc:creator>admin</dc:creator>
  <dc:description/>
  <dc:language>en-US</dc:language>
  <cp:lastModifiedBy>admin</cp:lastModifiedBy>
  <dcterms:modified xsi:type="dcterms:W3CDTF">2020-04-04T17:25:32Z</dcterms:modified>
  <cp:revision>15</cp:revision>
  <dc:subject/>
  <dc:title>Подготовка к ОГЭ</dc:title>
</cp:coreProperties>
</file>