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DF1-AB22-40B5-85B4-B611D896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A06-50EB-4C3B-845F-E31959C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C08-E76F-4730-9A56-CB2C0753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293-40E2-48F2-BDA4-E26569F0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E6A9-7785-40BB-8A95-07685686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BAC-1DC1-474D-93E9-EA8878BA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AD8-EBE9-4945-85A2-B9B28DD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0C2-14E1-4EB1-914D-3D1D291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867F-8924-491A-B9F7-005E4A4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B04-A1CA-4627-88F3-F464255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4CB-749D-4899-A967-8C1FCAF9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A99-89A3-4912-BB6B-9618DBA3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666F-6384-4E8C-B76E-B6699D4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6AF-AB53-4F67-8AC5-D6FFDF6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D33A-7097-4B2E-837C-21D5E367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2DBD-EC22-4250-9E02-61997F68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3265-A725-49F9-BF4B-401F03AF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C91-3B38-456A-AD2F-CEBCF417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AE4-CD76-41C6-BD9F-27CA3B48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724-E020-4896-B834-738E0C8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F32-B73D-43E0-957C-C5C7753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FB1-3506-4019-BF57-3500B5B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E80-DAAE-4191-A9E4-4B7BCAE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7FE-E3B4-449E-8902-2E235E5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8E66-E41B-45AF-8A61-B3B3BD3448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1D4-9DD0-438E-ABCB-0DDD25CDCD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../../&#1054;&#1073;&#1088;&#1072;&#1079;&#1086;&#1074;&#1072;&#1085;&#1080;&#1077;%20&#1073;&#1086;&#1083;&#1086;&#1090;.mpg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6;%20&#1041;&#1072;&#1081;&#1082;&#1072;&#1083;.ppt#4. &#1057;&#1083;&#1072;&#1081;&#1076; 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ель урока: Изучить природные особенности озё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WordArt 4" descr=""/>
          <p:cNvPicPr/>
          <p:nvPr/>
        </p:nvPicPr>
        <p:blipFill>
          <a:blip r:embed="rId1"/>
          <a:stretch/>
        </p:blipFill>
        <p:spPr>
          <a:xfrm>
            <a:off x="493560" y="1127160"/>
            <a:ext cx="7925040" cy="203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Стар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Образование стариц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Болото"/>
          <p:cNvPicPr/>
          <p:nvPr/>
        </p:nvPicPr>
        <p:blipFill>
          <a:blip r:embed="rId1"/>
          <a:stretch/>
        </p:blipFill>
        <p:spPr>
          <a:xfrm>
            <a:off x="4716360" y="1773360"/>
            <a:ext cx="4249800" cy="48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Зарастание озера"/>
          <p:cNvPicPr/>
          <p:nvPr/>
        </p:nvPicPr>
        <p:blipFill>
          <a:blip r:embed="rId2"/>
          <a:stretch/>
        </p:blipFill>
        <p:spPr>
          <a:xfrm>
            <a:off x="179280" y="1773360"/>
            <a:ext cx="4249800" cy="4895640"/>
          </a:xfrm>
          <a:prstGeom prst="rect">
            <a:avLst/>
          </a:prstGeom>
          <a:ln w="0">
            <a:noFill/>
          </a:ln>
        </p:spPr>
      </p:pic>
      <p:sp>
        <p:nvSpPr>
          <p:cNvPr id="237" name="WordArt 9"/>
          <p:cNvSpPr txBox="1"/>
          <p:nvPr/>
        </p:nvSpPr>
        <p:spPr>
          <a:xfrm>
            <a:off x="179280" y="260280"/>
            <a:ext cx="87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еделите, что изображено на фотографиях. </a:t>
            </a:r>
            <a:endParaRPr b="0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они образуются? </a:t>
            </a:r>
            <a:endParaRPr b="0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495680" cy="47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епенно озеро превращается в болото. Со временем часть озера начинает зарастать водной растительностью. В результате отмирания растительности накапливаются илистые отложения, на которых поселяются болотные виды растений. Таким образом, постепенно происходит зарастание озера и превращение его в боло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0" y="1773000"/>
            <a:ext cx="42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Боло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ок земной   поверхности сильно увлажненный и поросший влаголюбивой растительно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468360" y="981000"/>
            <a:ext cx="8351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новидности озер </a:t>
            </a:r>
            <a:endParaRPr b="0" lang="en-US" sz="4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Вулканическое озеро"/>
          <p:cNvPicPr/>
          <p:nvPr/>
        </p:nvPicPr>
        <p:blipFill>
          <a:blip r:embed="rId1"/>
          <a:stretch/>
        </p:blipFill>
        <p:spPr>
          <a:xfrm>
            <a:off x="4643280" y="1268280"/>
            <a:ext cx="4248360" cy="5295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улканические озер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7" descr="Озеро в кратере вулкана"/>
          <p:cNvPicPr/>
          <p:nvPr/>
        </p:nvPicPr>
        <p:blipFill>
          <a:blip r:embed="rId2"/>
          <a:stretch/>
        </p:blipFill>
        <p:spPr>
          <a:xfrm>
            <a:off x="250920" y="1268280"/>
            <a:ext cx="4248000" cy="532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Сарезское озеро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рудно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5003640" y="5805360"/>
            <a:ext cx="396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резское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Замерзшее озеро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мерзше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Горное озеро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но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дниково-тектоническ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5" descr="Озеро Верхнее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3" name="WordArt 6"/>
          <p:cNvSpPr txBox="1"/>
          <p:nvPr/>
        </p:nvSpPr>
        <p:spPr>
          <a:xfrm>
            <a:off x="395280" y="184464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рхнее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4572000" y="5734080"/>
            <a:ext cx="38876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адожское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Озеро Мичиг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WordArt 6"/>
          <p:cNvSpPr txBox="1"/>
          <p:nvPr/>
        </p:nvSpPr>
        <p:spPr>
          <a:xfrm>
            <a:off x="900000" y="6093000"/>
            <a:ext cx="30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чиган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ть понятие об озер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происхождение озерных котлов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ть приводить примеры озё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ть виды озёр: сточные и бессточные, солёные , пресны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ть развивать умения работать с картами атласа и контурной карт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экологические и эстетические чувства к красоте и чистоте озё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чувства гордости за свой край, стра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Озеро Онтари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900000" y="33336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нтарио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Озера Северной Амер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ектоническ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6" descr="Озеро Байкал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4500720" y="537372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йкал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Озеро Виктор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WordArt 6"/>
          <p:cNvSpPr txBox="1"/>
          <p:nvPr/>
        </p:nvSpPr>
        <p:spPr>
          <a:xfrm>
            <a:off x="4859280" y="544500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я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Озеро Нья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6"/>
          <p:cNvSpPr txBox="1"/>
          <p:nvPr/>
        </p:nvSpPr>
        <p:spPr>
          <a:xfrm>
            <a:off x="5940360" y="5661000"/>
            <a:ext cx="26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ьяса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Озеро Титикака (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6"/>
          <p:cNvSpPr txBox="1"/>
          <p:nvPr/>
        </p:nvSpPr>
        <p:spPr>
          <a:xfrm>
            <a:off x="5867280" y="5734080"/>
            <a:ext cx="2881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тикака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Озеро Танганьика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5003640" y="566100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нганьика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аточно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5" descr="Озеро Эйр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74" name="WordArt 6"/>
          <p:cNvSpPr txBox="1"/>
          <p:nvPr/>
        </p:nvSpPr>
        <p:spPr>
          <a:xfrm>
            <a:off x="3780000" y="5805360"/>
            <a:ext cx="1800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йр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озёр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116000" y="2852640"/>
            <a:ext cx="93492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 flipH="1">
            <a:off x="2627280" y="907920"/>
            <a:ext cx="5176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2987280" y="981000"/>
            <a:ext cx="792360" cy="39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32360" y="981000"/>
            <a:ext cx="1224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5881680" y="981000"/>
            <a:ext cx="6350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WordArt 14"/>
          <p:cNvSpPr txBox="1"/>
          <p:nvPr/>
        </p:nvSpPr>
        <p:spPr>
          <a:xfrm>
            <a:off x="468360" y="1628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очные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1834920" y="249228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395280" y="3357720"/>
            <a:ext cx="8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6804000" y="2565360"/>
            <a:ext cx="93492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WordArt 18"/>
          <p:cNvSpPr txBox="1"/>
          <p:nvPr/>
        </p:nvSpPr>
        <p:spPr>
          <a:xfrm>
            <a:off x="5580000" y="170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ссточные 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Line 19"/>
          <p:cNvSpPr/>
          <p:nvPr/>
        </p:nvSpPr>
        <p:spPr>
          <a:xfrm flipH="1">
            <a:off x="7667640" y="2708280"/>
            <a:ext cx="719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6227640" y="256536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Line 21"/>
          <p:cNvSpPr/>
          <p:nvPr/>
        </p:nvSpPr>
        <p:spPr>
          <a:xfrm flipV="1">
            <a:off x="6156360" y="306828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 flipH="1" flipV="1">
            <a:off x="7667640" y="31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WordArt 23"/>
          <p:cNvSpPr txBox="1"/>
          <p:nvPr/>
        </p:nvSpPr>
        <p:spPr>
          <a:xfrm>
            <a:off x="1187280" y="5013360"/>
            <a:ext cx="26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сные </a:t>
            </a:r>
            <a:endParaRPr b="0" lang="en-US" sz="2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WordArt 24"/>
          <p:cNvSpPr txBox="1"/>
          <p:nvPr/>
        </p:nvSpPr>
        <p:spPr>
          <a:xfrm>
            <a:off x="5076720" y="5013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лёные </a:t>
            </a:r>
            <a:endParaRPr b="0" lang="en-US" sz="2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Пользуясь атласом определите, сточными или бессточными,</a:t>
            </a:r>
            <a:br>
              <a:rPr sz="3600"/>
            </a:b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пресными или солёными </a:t>
            </a:r>
            <a:br>
              <a:rPr sz="3600"/>
            </a:b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 являются озёр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ктория, Ньяса, Верхнее, Ладожское, Балхаш, Чад, Эйр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альское, Каспийско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нганьика, Титикака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йка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33"/>
                </a:solidFill>
                <a:latin typeface="Arial"/>
              </a:rPr>
              <a:t>Подпишите  озёра в к/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вторе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6697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ите таблиц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1700280"/>
          <a:ext cx="8229600" cy="4754520"/>
        </p:xfrm>
        <a:graphic>
          <a:graphicData uri="http://schemas.openxmlformats.org/drawingml/2006/table">
            <a:tbl>
              <a:tblPr/>
              <a:tblGrid>
                <a:gridCol w="1944360"/>
                <a:gridCol w="2374920"/>
                <a:gridCol w="1852920"/>
                <a:gridCol w="2057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ка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 каком материке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ток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стье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г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гр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фрат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исей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анхэ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ударья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нг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азонк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го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Практическая работа </a:t>
            </a:r>
            <a:br>
              <a:rPr sz="4200"/>
            </a:b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Определение Г.П. озера на карте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4200" y="142884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од работы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йдите озеро на карте и напишите его названи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, на каком материке и в какой его части находитс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кажите между какими параллелями и меридианами располагаетс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кажите происхождение озерной котловин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 сточное или бессточное озер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, какие географические объекты расположены рядом с озер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начение озер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Варианты: о. Виктория, о. Верхнее, о. Байкал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тест реки озера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шите тес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берите к терминам в левой колонке, определения из правой.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омашнее задание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95280" y="234936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географическому диктанту по номенклатуре и понятиям по теме «Воды суш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36504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скажите об озере, которое   вы видели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Чем озеро отличается от реки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Что называется болотом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В результате каких процессов возникают пещеры?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- Что называется озером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920" indent="0">
              <a:spcBef>
                <a:spcPts val="1100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зеро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кнутый водоём, образовавшийся на поверхности суши в природном углублении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39920" indent="0">
              <a:spcBef>
                <a:spcPts val="1100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39920" indent="0">
              <a:spcBef>
                <a:spcPts val="799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любое озеро на карте, определите как оно обозначается на карта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582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Чем отличается озеро от моря и реки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560" y="2420640"/>
            <a:ext cx="8389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отличие от моря озеро не является частью океана, а в отличие от реки в озере вода не течёт, а стоит на одном мес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дите и запишите в тетрадь озёр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4140360" y="2060640"/>
            <a:ext cx="3889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спийск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больш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глубок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высокогор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солё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аленько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елковод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140360" y="2708280"/>
            <a:ext cx="29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йкал 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5003640" y="3284640"/>
            <a:ext cx="3168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тикак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140360" y="3716280"/>
            <a:ext cx="4537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ольшое Солёное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WordArt 8"/>
          <p:cNvSpPr txBox="1"/>
          <p:nvPr/>
        </p:nvSpPr>
        <p:spPr>
          <a:xfrm>
            <a:off x="4427640" y="4437000"/>
            <a:ext cx="4319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еневское</a:t>
            </a:r>
            <a:endParaRPr b="0" lang="en-US" sz="3200" spc="1" strike="noStrike">
              <a:ln w="9360">
                <a:solidFill>
                  <a:srgbClr val="3333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5076720" y="5013360"/>
            <a:ext cx="1511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ад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Углубления, в которых находятся озёра называются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ёрными котловина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0920" y="189000"/>
            <a:ext cx="85690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озёрных котловин: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тон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ись в грабенах и прогибах земной коры – Байкал, Танганьика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дников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ись в углублениях выработанные ледником – Ладожское, Онежское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пруд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в результате обвалов горных пород в горах – Сарезское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рмокарстов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возникают в результате таяния вечной мерзлоты,  зоне тундры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стов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в результате вымывания горных пород, встречаются на Урале, Кавказе, Крыму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таточное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бразовалось на месте древних водных бассейнов – Аральское, каспийское, Чад, Эйр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улканическ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на месте кратеров вулканов – Кроноцкое, Курильское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иман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 образовалось в результате отделения от моря песчаной косой, в Черном, Азовском морях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ариц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бразуются в поймах рек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08:08Z</dcterms:created>
  <dc:creator>КУЦЕК</dc:creator>
  <dc:description/>
  <dc:language>en-US</dc:language>
  <cp:lastModifiedBy>ADMIN</cp:lastModifiedBy>
  <dcterms:modified xsi:type="dcterms:W3CDTF">2020-03-16T12:40:55Z</dcterms:modified>
  <cp:revision>13</cp:revision>
  <dc:subject/>
  <dc:title>Слайд 1</dc:title>
</cp:coreProperties>
</file>