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B55-73FE-425C-99EE-ABD37885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79B-9202-4883-8328-FED9E20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D3A-CA23-4935-96A0-5C32B5A8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F2E-D5D2-4F93-ACFB-CC0944D4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CE0-DA6B-4321-8B7C-51B6BB89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1FE-57DA-4D7E-BE4E-0E0724B9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2B1-C35A-4529-AD03-BF4365A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C0F-59A9-4E57-9B66-284D0BC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4D1-F50C-4B91-B97C-7A3C95BE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98E-E7F1-42D4-A66E-2C8FF526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555-4F08-442C-A185-AC28DDC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A24-163E-4226-964C-9D083B4E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5706-EA91-4DFB-BA6B-0CF8DAB94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14240" y="928800"/>
            <a:ext cx="7786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ята! Я вам предлагаю игру «Я, и моя ма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берите картинку из паз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жми на пазл левой кнопкой мыши и сразу отпусти её. Пазл будет следовать за указателем мыши в то место куда ты его направ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бы повернуть пазл, щёлкой левой кнопкой мыши, удерживая нажатой кнопку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hift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закрепления пазла на слайде нужно ещё раз щёлкнуть по нему ле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переходе нажимаете стрелочку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выходе из игры НЕ сохраняй изменени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Управляющая кнопка: настраиваемая 2">
            <a:hlinkClick r:id="" action="ppaction://hlinkshowjump?jump=nextslide"/>
          </p:cNvPr>
          <p:cNvSpPr/>
          <p:nvPr/>
        </p:nvSpPr>
        <p:spPr>
          <a:xfrm>
            <a:off x="7215120" y="5857920"/>
            <a:ext cx="1500120" cy="428760"/>
          </a:xfrm>
          <a:custGeom>
            <a:avLst/>
            <a:gdLst>
              <a:gd name="textAreaLeft" fmla="*/ 27720 w 1500120"/>
              <a:gd name="textAreaRight" fmla="*/ 1472400 w 15001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5528" h="21600">
                <a:moveTo>
                  <a:pt x="0" y="0"/>
                </a:moveTo>
                <a:lnTo>
                  <a:pt x="75528" y="0"/>
                </a:lnTo>
                <a:lnTo>
                  <a:pt x="75528" y="21600"/>
                </a:lnTo>
                <a:lnTo>
                  <a:pt x="0" y="21600"/>
                </a:lnTo>
                <a:close/>
              </a:path>
              <a:path fill="lightenLess" w="75528" h="21600">
                <a:moveTo>
                  <a:pt x="0" y="0"/>
                </a:moveTo>
                <a:lnTo>
                  <a:pt x="75528" y="0"/>
                </a:lnTo>
                <a:lnTo>
                  <a:pt x="74128" y="1400"/>
                </a:lnTo>
                <a:lnTo>
                  <a:pt x="1400" y="1400"/>
                </a:lnTo>
                <a:close/>
              </a:path>
              <a:path fill="darken" w="75528" h="21600">
                <a:moveTo>
                  <a:pt x="75528" y="0"/>
                </a:moveTo>
                <a:lnTo>
                  <a:pt x="75528" y="21600"/>
                </a:lnTo>
                <a:lnTo>
                  <a:pt x="74128" y="20200"/>
                </a:lnTo>
                <a:lnTo>
                  <a:pt x="74128" y="1400"/>
                </a:lnTo>
                <a:close/>
              </a:path>
              <a:path fill="darkenLess" w="75528" h="21600">
                <a:moveTo>
                  <a:pt x="75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8" y="20200"/>
                </a:lnTo>
                <a:close/>
              </a:path>
              <a:path fill="lighten" w="75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Нача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Настя\Desktop\97376952db39420b5777a578ad627b02.jpg"/>
          <p:cNvPicPr/>
          <p:nvPr/>
        </p:nvPicPr>
        <p:blipFill>
          <a:blip r:embed="rId2"/>
          <a:stretch/>
        </p:blipFill>
        <p:spPr>
          <a:xfrm>
            <a:off x="5643720" y="42876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Настя\Desktop\Рисунок10.png"/>
          <p:cNvPicPr/>
          <p:nvPr/>
        </p:nvPicPr>
        <p:blipFill>
          <a:blip r:embed="rId3"/>
          <a:stretch/>
        </p:blipFill>
        <p:spPr>
          <a:xfrm>
            <a:off x="1428840" y="357120"/>
            <a:ext cx="1322280" cy="104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Настя\Desktop\Рисунок15.png"/>
          <p:cNvPicPr/>
          <p:nvPr/>
        </p:nvPicPr>
        <p:blipFill>
          <a:blip r:embed="rId4"/>
          <a:stretch/>
        </p:blipFill>
        <p:spPr>
          <a:xfrm>
            <a:off x="4000680" y="2571840"/>
            <a:ext cx="157320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Настя\Desktop\Рисунок16.png"/>
          <p:cNvPicPr/>
          <p:nvPr/>
        </p:nvPicPr>
        <p:blipFill>
          <a:blip r:embed="rId5"/>
          <a:stretch/>
        </p:blipFill>
        <p:spPr>
          <a:xfrm>
            <a:off x="571680" y="242892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Настя\Desktop\Рисунок17.png"/>
          <p:cNvPicPr/>
          <p:nvPr/>
        </p:nvPicPr>
        <p:blipFill>
          <a:blip r:embed="rId6"/>
          <a:stretch/>
        </p:blipFill>
        <p:spPr>
          <a:xfrm>
            <a:off x="3857760" y="5072040"/>
            <a:ext cx="1822320" cy="131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Users\Настя\Desktop\Рисунок11.png"/>
          <p:cNvPicPr/>
          <p:nvPr/>
        </p:nvPicPr>
        <p:blipFill>
          <a:blip r:embed="rId7"/>
          <a:stretch/>
        </p:blipFill>
        <p:spPr>
          <a:xfrm>
            <a:off x="2428920" y="1357200"/>
            <a:ext cx="156672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C:\Users\Настя\Desktop\Рисунок18.png"/>
          <p:cNvPicPr/>
          <p:nvPr/>
        </p:nvPicPr>
        <p:blipFill>
          <a:blip r:embed="rId8"/>
          <a:stretch/>
        </p:blipFill>
        <p:spPr>
          <a:xfrm>
            <a:off x="7072200" y="3214800"/>
            <a:ext cx="1322640" cy="131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:\Users\Настя\Desktop\Рисунок12.png"/>
          <p:cNvPicPr/>
          <p:nvPr/>
        </p:nvPicPr>
        <p:blipFill>
          <a:blip r:embed="rId9"/>
          <a:stretch/>
        </p:blipFill>
        <p:spPr>
          <a:xfrm>
            <a:off x="3500280" y="357120"/>
            <a:ext cx="15732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:\Users\Настя\Desktop\Рисунок19.png"/>
          <p:cNvPicPr/>
          <p:nvPr/>
        </p:nvPicPr>
        <p:blipFill>
          <a:blip r:embed="rId10"/>
          <a:stretch/>
        </p:blipFill>
        <p:spPr>
          <a:xfrm>
            <a:off x="1231920" y="3416400"/>
            <a:ext cx="1322280" cy="131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Users\Настя\Desktop\Рисунок13.png"/>
          <p:cNvPicPr/>
          <p:nvPr/>
        </p:nvPicPr>
        <p:blipFill>
          <a:blip r:embed="rId11"/>
          <a:stretch/>
        </p:blipFill>
        <p:spPr>
          <a:xfrm>
            <a:off x="285840" y="1000080"/>
            <a:ext cx="1577880" cy="15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Users\Настя\Desktop\Рисунок20.png"/>
          <p:cNvPicPr/>
          <p:nvPr/>
        </p:nvPicPr>
        <p:blipFill>
          <a:blip r:embed="rId12"/>
          <a:stretch/>
        </p:blipFill>
        <p:spPr>
          <a:xfrm>
            <a:off x="1785960" y="4214880"/>
            <a:ext cx="1566720" cy="131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C:\Users\Настя\Desktop\Рисунок14.png"/>
          <p:cNvPicPr/>
          <p:nvPr/>
        </p:nvPicPr>
        <p:blipFill>
          <a:blip r:embed="rId13"/>
          <a:stretch/>
        </p:blipFill>
        <p:spPr>
          <a:xfrm>
            <a:off x="2571840" y="2643120"/>
            <a:ext cx="1315800" cy="130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:\Users\Настя\Desktop\Рисунок21.png"/>
          <p:cNvPicPr/>
          <p:nvPr/>
        </p:nvPicPr>
        <p:blipFill>
          <a:blip r:embed="rId14"/>
          <a:stretch/>
        </p:blipFill>
        <p:spPr>
          <a:xfrm>
            <a:off x="5643720" y="4214880"/>
            <a:ext cx="1577880" cy="106056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страиваемая 15">
            <a:hlinkClick r:id="" action="ppaction://hlinkshowjump?jump=nextslide"/>
          </p:cNvPr>
          <p:cNvSpPr/>
          <p:nvPr/>
        </p:nvSpPr>
        <p:spPr>
          <a:xfrm>
            <a:off x="7643880" y="6143760"/>
            <a:ext cx="1214280" cy="357120"/>
          </a:xfrm>
          <a:custGeom>
            <a:avLst/>
            <a:gdLst>
              <a:gd name="textAreaLeft" fmla="*/ 23040 w 1214280"/>
              <a:gd name="textAreaRight" fmla="*/ 1191240 w 1214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392" h="21600">
                <a:moveTo>
                  <a:pt x="0" y="0"/>
                </a:moveTo>
                <a:lnTo>
                  <a:pt x="73392" y="0"/>
                </a:lnTo>
                <a:lnTo>
                  <a:pt x="73392" y="21600"/>
                </a:lnTo>
                <a:lnTo>
                  <a:pt x="0" y="21600"/>
                </a:lnTo>
                <a:close/>
              </a:path>
              <a:path fill="lightenLess" w="73392" h="21600">
                <a:moveTo>
                  <a:pt x="0" y="0"/>
                </a:moveTo>
                <a:lnTo>
                  <a:pt x="73392" y="0"/>
                </a:lnTo>
                <a:lnTo>
                  <a:pt x="71992" y="1400"/>
                </a:lnTo>
                <a:lnTo>
                  <a:pt x="1400" y="1400"/>
                </a:lnTo>
                <a:close/>
              </a:path>
              <a:path fill="darken" w="73392" h="21600">
                <a:moveTo>
                  <a:pt x="73392" y="0"/>
                </a:moveTo>
                <a:lnTo>
                  <a:pt x="73392" y="21600"/>
                </a:lnTo>
                <a:lnTo>
                  <a:pt x="71992" y="20200"/>
                </a:lnTo>
                <a:lnTo>
                  <a:pt x="71992" y="1400"/>
                </a:lnTo>
                <a:close/>
              </a:path>
              <a:path fill="darkenLess" w="73392" h="21600">
                <a:moveTo>
                  <a:pt x="7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92" y="20200"/>
                </a:lnTo>
                <a:close/>
              </a:path>
              <a:path fill="lighten" w="7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Настя\Desktop\img25.jpg"/>
          <p:cNvPicPr/>
          <p:nvPr/>
        </p:nvPicPr>
        <p:blipFill>
          <a:blip r:embed="rId2"/>
          <a:stretch/>
        </p:blipFill>
        <p:spPr>
          <a:xfrm>
            <a:off x="5786280" y="357120"/>
            <a:ext cx="3105360" cy="23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Настя\Desktop\Рисунок22.png"/>
          <p:cNvPicPr/>
          <p:nvPr/>
        </p:nvPicPr>
        <p:blipFill>
          <a:blip r:embed="rId3"/>
          <a:stretch/>
        </p:blipFill>
        <p:spPr>
          <a:xfrm>
            <a:off x="825480" y="557280"/>
            <a:ext cx="1322280" cy="94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Настя\Desktop\Рисунок28.png"/>
          <p:cNvPicPr/>
          <p:nvPr/>
        </p:nvPicPr>
        <p:blipFill>
          <a:blip r:embed="rId4"/>
          <a:stretch/>
        </p:blipFill>
        <p:spPr>
          <a:xfrm>
            <a:off x="2571840" y="357120"/>
            <a:ext cx="1322280" cy="951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Настя\Desktop\Рисунок23.png"/>
          <p:cNvPicPr/>
          <p:nvPr/>
        </p:nvPicPr>
        <p:blipFill>
          <a:blip r:embed="rId5"/>
          <a:stretch/>
        </p:blipFill>
        <p:spPr>
          <a:xfrm>
            <a:off x="285840" y="1857240"/>
            <a:ext cx="1566720" cy="94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Настя\Desktop\Рисунок29.png"/>
          <p:cNvPicPr/>
          <p:nvPr/>
        </p:nvPicPr>
        <p:blipFill>
          <a:blip r:embed="rId6"/>
          <a:stretch/>
        </p:blipFill>
        <p:spPr>
          <a:xfrm>
            <a:off x="2357280" y="2046240"/>
            <a:ext cx="1822680" cy="1176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Настя\Desktop\Рисунок30.png"/>
          <p:cNvPicPr/>
          <p:nvPr/>
        </p:nvPicPr>
        <p:blipFill>
          <a:blip r:embed="rId7"/>
          <a:stretch/>
        </p:blipFill>
        <p:spPr>
          <a:xfrm>
            <a:off x="642960" y="3143160"/>
            <a:ext cx="1395360" cy="1176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Настя\Desktop\Рисунок24.png"/>
          <p:cNvPicPr/>
          <p:nvPr/>
        </p:nvPicPr>
        <p:blipFill>
          <a:blip r:embed="rId8"/>
          <a:stretch/>
        </p:blipFill>
        <p:spPr>
          <a:xfrm>
            <a:off x="2286000" y="5357880"/>
            <a:ext cx="1646280" cy="94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Users\Настя\Desktop\Рисунок31.png"/>
          <p:cNvPicPr/>
          <p:nvPr/>
        </p:nvPicPr>
        <p:blipFill>
          <a:blip r:embed="rId9"/>
          <a:stretch/>
        </p:blipFill>
        <p:spPr>
          <a:xfrm>
            <a:off x="4286160" y="2428920"/>
            <a:ext cx="13226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C:\Users\Настя\Desktop\Рисунок25.png"/>
          <p:cNvPicPr/>
          <p:nvPr/>
        </p:nvPicPr>
        <p:blipFill>
          <a:blip r:embed="rId10"/>
          <a:stretch/>
        </p:blipFill>
        <p:spPr>
          <a:xfrm>
            <a:off x="2857680" y="3643200"/>
            <a:ext cx="1577880" cy="13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C:\Users\Настя\Desktop\Рисунок32.png"/>
          <p:cNvPicPr/>
          <p:nvPr/>
        </p:nvPicPr>
        <p:blipFill>
          <a:blip r:embed="rId11"/>
          <a:stretch/>
        </p:blipFill>
        <p:spPr>
          <a:xfrm>
            <a:off x="4286160" y="4857840"/>
            <a:ext cx="156708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Users\Настя\Desktop\Рисунок26.png"/>
          <p:cNvPicPr/>
          <p:nvPr/>
        </p:nvPicPr>
        <p:blipFill>
          <a:blip r:embed="rId12"/>
          <a:stretch/>
        </p:blipFill>
        <p:spPr>
          <a:xfrm>
            <a:off x="642960" y="5000760"/>
            <a:ext cx="13161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C:\Users\Настя\Desktop\Рисунок33.png"/>
          <p:cNvPicPr/>
          <p:nvPr/>
        </p:nvPicPr>
        <p:blipFill>
          <a:blip r:embed="rId13"/>
          <a:stretch/>
        </p:blipFill>
        <p:spPr>
          <a:xfrm>
            <a:off x="4000680" y="1000080"/>
            <a:ext cx="1645920" cy="95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C:\Users\Настя\Desktop\Рисунок27.png"/>
          <p:cNvPicPr/>
          <p:nvPr/>
        </p:nvPicPr>
        <p:blipFill>
          <a:blip r:embed="rId14"/>
          <a:stretch/>
        </p:blipFill>
        <p:spPr>
          <a:xfrm>
            <a:off x="6505560" y="3641760"/>
            <a:ext cx="1646280" cy="144468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настраиваемая 14">
            <a:hlinkClick r:id="" action="ppaction://hlinkshowjump?jump=nextslide"/>
          </p:cNvPr>
          <p:cNvSpPr/>
          <p:nvPr/>
        </p:nvSpPr>
        <p:spPr>
          <a:xfrm>
            <a:off x="7643880" y="6143760"/>
            <a:ext cx="1214280" cy="357120"/>
          </a:xfrm>
          <a:custGeom>
            <a:avLst/>
            <a:gdLst>
              <a:gd name="textAreaLeft" fmla="*/ 23040 w 1214280"/>
              <a:gd name="textAreaRight" fmla="*/ 1191240 w 12142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3392" h="21600">
                <a:moveTo>
                  <a:pt x="0" y="0"/>
                </a:moveTo>
                <a:lnTo>
                  <a:pt x="73392" y="0"/>
                </a:lnTo>
                <a:lnTo>
                  <a:pt x="73392" y="21600"/>
                </a:lnTo>
                <a:lnTo>
                  <a:pt x="0" y="21600"/>
                </a:lnTo>
                <a:close/>
              </a:path>
              <a:path fill="lightenLess" w="73392" h="21600">
                <a:moveTo>
                  <a:pt x="0" y="0"/>
                </a:moveTo>
                <a:lnTo>
                  <a:pt x="73392" y="0"/>
                </a:lnTo>
                <a:lnTo>
                  <a:pt x="71992" y="1400"/>
                </a:lnTo>
                <a:lnTo>
                  <a:pt x="1400" y="1400"/>
                </a:lnTo>
                <a:close/>
              </a:path>
              <a:path fill="darken" w="73392" h="21600">
                <a:moveTo>
                  <a:pt x="73392" y="0"/>
                </a:moveTo>
                <a:lnTo>
                  <a:pt x="73392" y="21600"/>
                </a:lnTo>
                <a:lnTo>
                  <a:pt x="71992" y="20200"/>
                </a:lnTo>
                <a:lnTo>
                  <a:pt x="71992" y="1400"/>
                </a:lnTo>
                <a:close/>
              </a:path>
              <a:path fill="darkenLess" w="73392" h="21600">
                <a:moveTo>
                  <a:pt x="7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92" y="20200"/>
                </a:lnTo>
                <a:close/>
              </a:path>
              <a:path fill="lighten" w="7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Настя\Desktop\Новая папка (4)\82230-zaliv-loshad-chernyy-oslenok-appaluza-1920x1200.jpg"/>
          <p:cNvPicPr/>
          <p:nvPr/>
        </p:nvPicPr>
        <p:blipFill>
          <a:blip r:embed="rId2"/>
          <a:stretch/>
        </p:blipFill>
        <p:spPr>
          <a:xfrm>
            <a:off x="5786280" y="214200"/>
            <a:ext cx="3127680" cy="1954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Настя\Desktop\Рисунок60.png"/>
          <p:cNvPicPr/>
          <p:nvPr/>
        </p:nvPicPr>
        <p:blipFill>
          <a:blip r:embed="rId3"/>
          <a:stretch/>
        </p:blipFill>
        <p:spPr>
          <a:xfrm>
            <a:off x="0" y="285840"/>
            <a:ext cx="14256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Настя\Desktop\Рисунок53.png"/>
          <p:cNvPicPr/>
          <p:nvPr/>
        </p:nvPicPr>
        <p:blipFill>
          <a:blip r:embed="rId4"/>
          <a:stretch/>
        </p:blipFill>
        <p:spPr>
          <a:xfrm>
            <a:off x="1641600" y="127080"/>
            <a:ext cx="1420560" cy="144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Настя\Desktop\Рисунок54.png"/>
          <p:cNvPicPr/>
          <p:nvPr/>
        </p:nvPicPr>
        <p:blipFill>
          <a:blip r:embed="rId5"/>
          <a:stretch/>
        </p:blipFill>
        <p:spPr>
          <a:xfrm>
            <a:off x="4000680" y="428760"/>
            <a:ext cx="1188720" cy="144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Настя\Desktop\Рисунок52.png"/>
          <p:cNvPicPr/>
          <p:nvPr/>
        </p:nvPicPr>
        <p:blipFill>
          <a:blip r:embed="rId6"/>
          <a:stretch/>
        </p:blipFill>
        <p:spPr>
          <a:xfrm>
            <a:off x="2143080" y="1928880"/>
            <a:ext cx="1425600" cy="120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Настя\Desktop\Рисунок55.png"/>
          <p:cNvPicPr/>
          <p:nvPr/>
        </p:nvPicPr>
        <p:blipFill>
          <a:blip r:embed="rId7"/>
          <a:stretch/>
        </p:blipFill>
        <p:spPr>
          <a:xfrm>
            <a:off x="433440" y="2413080"/>
            <a:ext cx="1420920" cy="1444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Настя\Desktop\Рисунок56.png"/>
          <p:cNvPicPr/>
          <p:nvPr/>
        </p:nvPicPr>
        <p:blipFill>
          <a:blip r:embed="rId8"/>
          <a:stretch/>
        </p:blipFill>
        <p:spPr>
          <a:xfrm>
            <a:off x="4014720" y="3408480"/>
            <a:ext cx="118260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Настя\Desktop\Рисунок57.png"/>
          <p:cNvPicPr/>
          <p:nvPr/>
        </p:nvPicPr>
        <p:blipFill>
          <a:blip r:embed="rId9"/>
          <a:stretch/>
        </p:blipFill>
        <p:spPr>
          <a:xfrm>
            <a:off x="2428920" y="4071960"/>
            <a:ext cx="1425600" cy="14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Настя\Desktop\Рисунок58.png"/>
          <p:cNvPicPr/>
          <p:nvPr/>
        </p:nvPicPr>
        <p:blipFill>
          <a:blip r:embed="rId10"/>
          <a:stretch/>
        </p:blipFill>
        <p:spPr>
          <a:xfrm>
            <a:off x="666720" y="5060880"/>
            <a:ext cx="1182600" cy="1438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Настя\Desktop\Рисунок59.png"/>
          <p:cNvPicPr/>
          <p:nvPr/>
        </p:nvPicPr>
        <p:blipFill>
          <a:blip r:embed="rId11"/>
          <a:stretch/>
        </p:blipFill>
        <p:spPr>
          <a:xfrm>
            <a:off x="4352760" y="5145120"/>
            <a:ext cx="142092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7643880" y="6143760"/>
            <a:ext cx="1143000" cy="500040"/>
          </a:xfrm>
          <a:custGeom>
            <a:avLst/>
            <a:gdLst>
              <a:gd name="textAreaLeft" fmla="*/ 32400 w 1143000"/>
              <a:gd name="textAreaRight" fmla="*/ 1110600 w 11430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9354" h="21600">
                <a:moveTo>
                  <a:pt x="0" y="0"/>
                </a:moveTo>
                <a:lnTo>
                  <a:pt x="49354" y="0"/>
                </a:lnTo>
                <a:lnTo>
                  <a:pt x="49354" y="21600"/>
                </a:lnTo>
                <a:lnTo>
                  <a:pt x="0" y="21600"/>
                </a:lnTo>
                <a:close/>
              </a:path>
              <a:path fill="lightenLess" w="49354" h="21600">
                <a:moveTo>
                  <a:pt x="0" y="0"/>
                </a:moveTo>
                <a:lnTo>
                  <a:pt x="49354" y="0"/>
                </a:lnTo>
                <a:lnTo>
                  <a:pt x="47954" y="1400"/>
                </a:lnTo>
                <a:lnTo>
                  <a:pt x="1400" y="1400"/>
                </a:lnTo>
                <a:close/>
              </a:path>
              <a:path fill="darken" w="49354" h="21600">
                <a:moveTo>
                  <a:pt x="49354" y="0"/>
                </a:moveTo>
                <a:lnTo>
                  <a:pt x="49354" y="21600"/>
                </a:lnTo>
                <a:lnTo>
                  <a:pt x="47954" y="20200"/>
                </a:lnTo>
                <a:lnTo>
                  <a:pt x="47954" y="1400"/>
                </a:lnTo>
                <a:close/>
              </a:path>
              <a:path fill="darkenLess" w="49354" h="21600">
                <a:moveTo>
                  <a:pt x="49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4" y="20200"/>
                </a:lnTo>
                <a:close/>
              </a:path>
              <a:path fill="lighten" w="49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54" h="21600">
                <a:moveTo>
                  <a:pt x="24677" y="3837"/>
                </a:moveTo>
                <a:lnTo>
                  <a:pt x="27253" y="6448"/>
                </a:lnTo>
                <a:lnTo>
                  <a:pt x="27253" y="4707"/>
                </a:lnTo>
                <a:lnTo>
                  <a:pt x="29029" y="4707"/>
                </a:lnTo>
                <a:lnTo>
                  <a:pt x="29029" y="8224"/>
                </a:lnTo>
                <a:lnTo>
                  <a:pt x="31640" y="10800"/>
                </a:lnTo>
                <a:lnTo>
                  <a:pt x="29986" y="10800"/>
                </a:lnTo>
                <a:lnTo>
                  <a:pt x="29986" y="17989"/>
                </a:lnTo>
                <a:lnTo>
                  <a:pt x="19368" y="17989"/>
                </a:lnTo>
                <a:lnTo>
                  <a:pt x="19368" y="10800"/>
                </a:lnTo>
                <a:lnTo>
                  <a:pt x="17714" y="10800"/>
                </a:lnTo>
                <a:close/>
              </a:path>
              <a:path fill="darkenLess" w="49354" h="21600">
                <a:moveTo>
                  <a:pt x="27253" y="6448"/>
                </a:moveTo>
                <a:lnTo>
                  <a:pt x="27253" y="4707"/>
                </a:lnTo>
                <a:lnTo>
                  <a:pt x="29029" y="4707"/>
                </a:lnTo>
                <a:lnTo>
                  <a:pt x="29029" y="8224"/>
                </a:lnTo>
                <a:close/>
              </a:path>
              <a:path fill="darkenLess" w="49354" h="21600">
                <a:moveTo>
                  <a:pt x="23754" y="14299"/>
                </a:moveTo>
                <a:lnTo>
                  <a:pt x="25599" y="14299"/>
                </a:lnTo>
                <a:lnTo>
                  <a:pt x="25599" y="17989"/>
                </a:lnTo>
                <a:lnTo>
                  <a:pt x="29986" y="17989"/>
                </a:lnTo>
                <a:lnTo>
                  <a:pt x="29986" y="10800"/>
                </a:lnTo>
                <a:lnTo>
                  <a:pt x="19368" y="10800"/>
                </a:lnTo>
                <a:lnTo>
                  <a:pt x="19368" y="17989"/>
                </a:lnTo>
                <a:lnTo>
                  <a:pt x="2375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нс</cp:lastModifiedBy>
  <dcterms:modified xsi:type="dcterms:W3CDTF">2020-04-04T14:10:31Z</dcterms:modified>
  <cp:revision>27</cp:revision>
  <dc:subject/>
  <dc:title>Слайд 1</dc:title>
</cp:coreProperties>
</file>