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20E-A3E4-4FA9-BFD2-BFD8EBD7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0C0-B887-4DAE-ADBF-3532CD7A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C8B-CB8D-4109-ABEB-37D02258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2D6-9243-42BE-AD92-AE8B7E88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E18-44F8-44D6-9652-66CE20ED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02B-6364-4879-A1AA-A48D61D0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875-22CF-4F49-BE16-BE3FC882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6D7-E2DE-403E-9DDD-2970B5C9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B53-DFC9-4BEE-95F9-AC19AA71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76F-9DDB-4993-9725-6447D80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B45-5081-48B9-B17B-1030816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449-4F91-40A0-A683-AE10C8E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e3f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206-E44D-46DD-B846-DCD0888D5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g1.liveinternet.ru/images/attach/c/3/77/457/77457647_fbf93d73168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1414498541_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468360" y="1125360"/>
            <a:ext cx="8424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итическое развитие, </a:t>
            </a:r>
            <a:endParaRPr b="1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деология и культура </a:t>
            </a:r>
            <a:endParaRPr b="1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1945-1953 гг.</a:t>
            </a:r>
            <a:endParaRPr b="1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 Национальная поли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04000" y="1341360"/>
            <a:ext cx="2160720" cy="10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исленность народ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прессиров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сле войны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8920" y="4005360"/>
            <a:ext cx="8713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ВД провело массовые депортации в Сибирь «Членов семей литовских бандитов                                        и бандитопособников из числа кулаков». Аналогичные акции прошли на Украине, в Латвии, Эстонии и Белоруссии. Одновременно начались гонения на национальную культуру и шел процесс «скрытой русификации».                                                                                          В то же время росло число репрессированных                   и среди русского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56000" y="620640"/>
            <a:ext cx="4249440" cy="3245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 Национальная поли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24000" y="4005360"/>
            <a:ext cx="53276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лены еврейского Антифашистского комитет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8920" y="4365360"/>
            <a:ext cx="8713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годы войны в СССР был создан еврейский Антифашистский комитет. После окончания войны комитет хотел создать автономию в Крыму или Поволжье, что было расценено властями,                         как заговор. Комитет был обвинен в космополитизме и распущен, его члены арестованы и осуждены. Руководители комитета расстреля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KMO_121188_06138_1_t210_181537"/>
          <p:cNvPicPr/>
          <p:nvPr/>
        </p:nvPicPr>
        <p:blipFill>
          <a:blip r:embed="rId1"/>
          <a:stretch/>
        </p:blipFill>
        <p:spPr>
          <a:xfrm>
            <a:off x="1763640" y="620640"/>
            <a:ext cx="5832720" cy="3378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5. Восстановление «железного занавеса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4365360"/>
            <a:ext cx="8713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йна пробудила надежды на ослабление партийно-идеологического пресса, на то, что СССР станет более открытой страной. Но отношения СССР                    с военными союзниками быстро испортились. Летом 1945 г. в стране началась кампания против западного влияния на отечественную культуру. Партия снова взяла культуру под полный контр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_c913e_5a850db_orig"/>
          <p:cNvPicPr/>
          <p:nvPr/>
        </p:nvPicPr>
        <p:blipFill>
          <a:blip r:embed="rId1"/>
          <a:stretch/>
        </p:blipFill>
        <p:spPr>
          <a:xfrm>
            <a:off x="1979640" y="600120"/>
            <a:ext cx="5184720" cy="3693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5. Восстановление «железного занавеса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8920" y="4652640"/>
            <a:ext cx="8713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ход против «западничества» возглавил отвечавший за идеологию А.Жданов. «Железный занавес» был полностью восстановлен в 1948 г., когда развернулась борьба с космополитизмом. СССР вновь оказался не только в идеологической, но и культурной изоляции от остально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194520" cy="3915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2" name="Text Box 6"/>
          <p:cNvSpPr/>
          <p:nvPr/>
        </p:nvSpPr>
        <p:spPr>
          <a:xfrm>
            <a:off x="7596360" y="2133720"/>
            <a:ext cx="14382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.Жданов и И.Стал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916000" y="1052280"/>
            <a:ext cx="6049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Центральное место в литературе занимала военная тематика («Повесть о настоящем человеке» Б.Полевого, «Молодая гвардия» А.Фадеева, «В окопах Сталинграда» В.Некрасова).                                               В романах «Кружилиха» В.Пановой, «Первые радости» К.Федина  центральное место занял процесс возрождения мирной жизни.                          В это время стремительно развивалась национальная литература. На всю страну прославились Р.Гамзатов, Д.Кугультинов, К.Кулие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9280" y="3716280"/>
            <a:ext cx="1656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.Гамза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5696"/>
          <p:cNvPicPr/>
          <p:nvPr/>
        </p:nvPicPr>
        <p:blipFill>
          <a:blip r:embed="rId1"/>
          <a:stretch/>
        </p:blipFill>
        <p:spPr>
          <a:xfrm>
            <a:off x="179280" y="981000"/>
            <a:ext cx="2021040" cy="2735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97" name="Picture 7" descr="Картинка 1 из 124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076640"/>
            <a:ext cx="1763640" cy="2594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250920" y="6237360"/>
            <a:ext cx="12240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.Кули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24000" y="1052640"/>
            <a:ext cx="5041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иливался партийный контроль над литературой.                                                  В 1946 г. в постановлении                        ЦК ВКП(б) за «безыдейные, идеологически вредные произведения» резкой критике подверглись журналы  «Звезда»                 и «Ленинград».                        Журнал «Ленинград»  был закрыт, а в «Звезде» сменилось руковод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697560" cy="5297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987280" y="907560"/>
            <a:ext cx="5978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ритике подверглись известные писатели: руководитель Союза писателей СССР А.Фадеев                      за первый вариант «Молодой гвардии», где было слабо показано роль партийного руководства молодыми подпольщиками;              поэт-песенник М.Исаковский                 за пессимизм стихотворения «Враги сожгли родную хату…». Критике подвергались драматург А.Штейн, писатели М.Слонимский, Ю.Герман, Э.Казакевич.                         За космополитизм были расстреляны П.Маркиш и Л.Квитко, по делам И.Эренбурга, С.Маршака, В.Гроссмана велись следств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0920" y="3357720"/>
            <a:ext cx="15127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.Фаде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87280" y="6237360"/>
            <a:ext cx="180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Исаковск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S120xU"/>
          <p:cNvPicPr/>
          <p:nvPr/>
        </p:nvPicPr>
        <p:blipFill>
          <a:blip r:embed="rId1"/>
          <a:stretch/>
        </p:blipFill>
        <p:spPr>
          <a:xfrm>
            <a:off x="1187280" y="3789360"/>
            <a:ext cx="1824120" cy="2448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07" name="Picture 9" descr="Александр Фадеев.jpg"/>
          <p:cNvPicPr/>
          <p:nvPr/>
        </p:nvPicPr>
        <p:blipFill>
          <a:blip r:embed="rId2"/>
          <a:stretch/>
        </p:blipFill>
        <p:spPr>
          <a:xfrm>
            <a:off x="179280" y="1052640"/>
            <a:ext cx="1627200" cy="2303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8786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илилось давление партии на театр и кино.                     ЦК  осудил «идеализацию… царей, ханов», а также  постановку пьес западных авторов  и «потакание обывательским вкусам и нравам».                                           В соответствующем постановлении ставилась задача увеличить число постановок посвященных «пафосу борьбы за коммунизм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164360" y="1197000"/>
            <a:ext cx="1800360" cy="10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.Эйзенштей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а съемка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«Ивана Грозного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Рисунок5"/>
          <p:cNvPicPr/>
          <p:nvPr/>
        </p:nvPicPr>
        <p:blipFill>
          <a:blip r:embed="rId1"/>
          <a:stretch/>
        </p:blipFill>
        <p:spPr>
          <a:xfrm>
            <a:off x="1908000" y="620640"/>
            <a:ext cx="5256360" cy="35053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3715920"/>
            <a:ext cx="87868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кинематографе яркими событиями стали «Молодая гвардия» С.Герасимова, «Повесть о настоящем человеке» А.Столпера, «Весна» Г.Александрова и др. В тоже время резкой критике подверглись: 2-я серия «Ивана Грозного» С.Эйзенштейна, «Адмирал Нахимов» В.Пудовкина, «Большая жизнь» Л.Лукова. Эти фильмы на долгие годы были положены                   на пол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164360" y="1197000"/>
            <a:ext cx="1800360" cy="1465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др из фильм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Герасимо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Молодая гварди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Рисунок4"/>
          <p:cNvPicPr/>
          <p:nvPr/>
        </p:nvPicPr>
        <p:blipFill>
          <a:blip r:embed="rId1"/>
          <a:stretch/>
        </p:blipFill>
        <p:spPr>
          <a:xfrm>
            <a:off x="1692360" y="620640"/>
            <a:ext cx="5472000" cy="3016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4436640"/>
            <a:ext cx="8786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конце 40-х были созданы крупные произведения - «Медный всадник» Р.Глиера, «Великая дружба» В.Мурадели, «Каменный цветок» С.Прокофьева.              Но в 1948 г. ЦК подверг критике Мурадели, Шостаковича, Прокофьева и Хачатуряна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 «антинародную направленность» их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20000" y="1484280"/>
            <a:ext cx="19429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Прокофьев, Д.Шостакович, А.Хачатуря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rokofiev_shostakovich_khachaturian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3705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640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1. Демократический импульс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Изменения в структурах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. Новый виток репр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4. 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5. Восстановление «железного занавес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6. Литература, театр и кино, 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7. Образование и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250920" y="0"/>
            <a:ext cx="8748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%C3%90%C2%A1%C3%91%E2%80%9A%C3%90%C2%B0%C3%90%C2%BB%C3%90%C2%B8%C3%90%C2%BD+%C3%90%C2%A5%C3%91%E2%82%AC%C3%91%C6%92%C3%91%E2%80%B0%C3%90%C2%B5%C3%90%C2%B2"/>
          <p:cNvPicPr/>
          <p:nvPr/>
        </p:nvPicPr>
        <p:blipFill>
          <a:blip r:embed="rId1"/>
          <a:stretch/>
        </p:blipFill>
        <p:spPr>
          <a:xfrm>
            <a:off x="3059280" y="4491000"/>
            <a:ext cx="3263760" cy="2367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7. Образование и нау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3068640"/>
            <a:ext cx="878688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войны быстрыми темпами шло восстановление системы образования.                                       В 1950 г. в стране насчитывалось 222 тыс.школ. Расходы на образование выросли в 2,5 раза.                           Страна продолжила, прерванный войной переход              ко всеобщему обязательному семилетнему образованию. Восстановление экономики требовало квалифицированных специалистов и к 1947 г. был превзойден довоенный уровень ВУЗов и студентов.                За 5 лет было подготовлено 650000 различных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_News_Photo_image_large_298475"/>
          <p:cNvPicPr/>
          <p:nvPr/>
        </p:nvPicPr>
        <p:blipFill>
          <a:blip r:embed="rId1"/>
          <a:stretch/>
        </p:blipFill>
        <p:spPr>
          <a:xfrm>
            <a:off x="2771640" y="620640"/>
            <a:ext cx="4105440" cy="23907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7. Образование и нау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03280" y="764640"/>
            <a:ext cx="5762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науке характерной чертой времени стали «дискуссии», использовавшиеся властями для утверждения «партийности науки»                        и сведения счетов                            с оппонентами.                         В 1948 г. на сессии академии ВАСХНИЛ была разгромлена генетика. Развитие генетики было прервано на долгие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Рисунок1"/>
          <p:cNvPicPr/>
          <p:nvPr/>
        </p:nvPicPr>
        <p:blipFill>
          <a:blip r:embed="rId1"/>
          <a:stretch/>
        </p:blipFill>
        <p:spPr>
          <a:xfrm>
            <a:off x="179280" y="765000"/>
            <a:ext cx="2994120" cy="4535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900000" y="530064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.Лысенк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7. Образование и нау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411280" y="764640"/>
            <a:ext cx="65548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950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. И.Сталин лично принял участие в дискуссии по вопросам языкознания. Он «научно доказал» необходимость существования                     в СССР сильного и контролирующего все сферы жизни государства, тем самым опровергнув тезис К.Маркса             о постепенном отмирании государства на пути строительства комму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stalin_yazikoznanie"/>
          <p:cNvPicPr/>
          <p:nvPr/>
        </p:nvPicPr>
        <p:blipFill>
          <a:blip r:embed="rId1"/>
          <a:stretch/>
        </p:blipFill>
        <p:spPr>
          <a:xfrm>
            <a:off x="157320" y="836640"/>
            <a:ext cx="2506680" cy="3816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30" name="Picture 9" descr="Stalin"/>
          <p:cNvPicPr/>
          <p:nvPr/>
        </p:nvPicPr>
        <p:blipFill>
          <a:blip r:embed="rId2"/>
          <a:stretch/>
        </p:blipFill>
        <p:spPr>
          <a:xfrm>
            <a:off x="3780000" y="4365720"/>
            <a:ext cx="4321080" cy="2354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7. Образование и нау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348000" y="907920"/>
            <a:ext cx="5618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искуссии в исторической науке были сведены к обоснованию необходимости существования в СССР существующей модели государства. В ходе таких «дискуссий» прогрессивными деятелями в истории были объявлены Иван Грозный                и опричники.                                              На борцах за национальную независимость было поставлено клеймо иностранных аг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mp1Oa9q4"/>
          <p:cNvPicPr/>
          <p:nvPr/>
        </p:nvPicPr>
        <p:blipFill>
          <a:blip r:embed="rId1"/>
          <a:stretch/>
        </p:blipFill>
        <p:spPr>
          <a:xfrm>
            <a:off x="1146240" y="3357720"/>
            <a:ext cx="2685960" cy="3313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34" name="Picture 9" descr="PfW5WHjEkxc"/>
          <p:cNvPicPr/>
          <p:nvPr/>
        </p:nvPicPr>
        <p:blipFill>
          <a:blip r:embed="rId2"/>
          <a:stretch/>
        </p:blipFill>
        <p:spPr>
          <a:xfrm>
            <a:off x="179280" y="765000"/>
            <a:ext cx="2097360" cy="2936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7. Образование и нау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348000" y="907920"/>
            <a:ext cx="5618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кономические дискуссии завершились выходом в свет работы И.Сталина «Экономические проблемы социализма в СССР».                      Работа отвергала любые проявления рыночной экономики в социалистическом государстве  и обосновывала все большее огосударствление экономики 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0a0b5f27d2b71348c2aeca61879eaa09"/>
          <p:cNvPicPr/>
          <p:nvPr/>
        </p:nvPicPr>
        <p:blipFill>
          <a:blip r:embed="rId1"/>
          <a:stretch/>
        </p:blipFill>
        <p:spPr>
          <a:xfrm>
            <a:off x="179280" y="907920"/>
            <a:ext cx="3503880" cy="5185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4797360"/>
            <a:ext cx="87152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войны культура и ее основные задачи были сведены к обработке общественного сознания.           Роль науки заключалась также в решении оборонных задач и утверждении «партийности»             как в гуманитарных, так и естественных нау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tpnhri8ouz"/>
          <p:cNvPicPr/>
          <p:nvPr/>
        </p:nvPicPr>
        <p:blipFill>
          <a:blip r:embed="rId1"/>
          <a:stretch/>
        </p:blipFill>
        <p:spPr>
          <a:xfrm>
            <a:off x="1835280" y="620640"/>
            <a:ext cx="5761080" cy="4129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179280" y="44280"/>
            <a:ext cx="885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Домашнее 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50920" y="83664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зучить параграфы 36-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тветить на вопросы на стр. 249 и стр.254 (устн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нать основные события и терми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pervoklassniki"/>
          <p:cNvPicPr/>
          <p:nvPr/>
        </p:nvPicPr>
        <p:blipFill>
          <a:blip r:embed="rId1"/>
          <a:stretch/>
        </p:blipFill>
        <p:spPr>
          <a:xfrm>
            <a:off x="2195640" y="3213000"/>
            <a:ext cx="4752720" cy="3454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287280" y="0"/>
            <a:ext cx="885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Демократический импульс войн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956280" y="1844640"/>
            <a:ext cx="2070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ерлин. Перв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нь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1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56000" y="549360"/>
            <a:ext cx="4321080" cy="3035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645000"/>
            <a:ext cx="8856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йна изменила общественно-политическую атмосферу общества, она пробила брешь                                 в «железном занавесе». Жизнь людей в Европе, увиденная во время освободительного похода                    в Европу, породила сомнения в правильности навязанных партией оценок. Победа породила надежды: крестьян - на роспуск колхозов, интеллигенции - на ослабление политического диктата, населения союзных республик -                                  на изменение национальной поли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79280" y="44280"/>
            <a:ext cx="88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. Демократический импульс вой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750720" y="1700280"/>
            <a:ext cx="23828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Демократическ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мпульс» вой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"/>
          <p:cNvPicPr/>
          <p:nvPr/>
        </p:nvPicPr>
        <p:blipFill>
          <a:blip r:embed="rId1"/>
          <a:stretch/>
        </p:blipFill>
        <p:spPr>
          <a:xfrm>
            <a:off x="826920" y="620640"/>
            <a:ext cx="5905800" cy="3052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3716280"/>
            <a:ext cx="87854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ти идеи высказывались даже в обсуждении закрытых проектов новых Конституции, Устава и Программы партии. Хотя предложения высказывались лишь партийной номенклатурой, но и она была готова ликвидировать суды военного времени, освободить партию от хозяйственных функций, ограничить срок пребывания на выборных должностях,                       ввести альтернативные вы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50920" y="44280"/>
            <a:ext cx="87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Изменения в структурах вла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244640" y="1413000"/>
            <a:ext cx="150804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зме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структур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ла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1"/>
          <p:cNvPicPr/>
          <p:nvPr/>
        </p:nvPicPr>
        <p:blipFill>
          <a:blip r:embed="rId1"/>
          <a:stretch/>
        </p:blipFill>
        <p:spPr>
          <a:xfrm>
            <a:off x="2268360" y="692280"/>
            <a:ext cx="4896000" cy="2495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3213000"/>
            <a:ext cx="9109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сентябре 1945 г. было отменено чрезвычайное положение и ликвидирован ГКО. В марте 1946 г. Совнарком был преобразован в Совет Министров. Вскоре прошли выборы   в Советы всех уровней                    и народных судей. Чаще стали созываться сессии Советов, но их деятельность по-прежнему носила формальный характер. В 1952 г. состоялся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ъезд партии. ВКП(б) была переименована в КПСС.                 Прошли съезды профсоюзов и ВЛКСМ. Эти изменения не были необратимыми - постепенно политический режим вновь встал на путь ужесто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Новый виток репресс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419640" y="3860640"/>
            <a:ext cx="216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.Понедел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4508640"/>
            <a:ext cx="878544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пасаясь возросшей популярности военных Сталин санкционировал аресты маршала А.Новикова, генералов П.Понеделина и Н.Кириллова (оба расстреляны в 1950 г.), ряда сослуживцев маршала Г.Жукова. Сам Г.Жуков был обвинен в сколачивании группы недовольных офицеров, в неблагодарности и неуважении к Сталин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"/>
          <p:cNvPicPr/>
          <p:nvPr/>
        </p:nvPicPr>
        <p:blipFill>
          <a:blip r:embed="rId1"/>
          <a:stretch/>
        </p:blipFill>
        <p:spPr>
          <a:xfrm>
            <a:off x="3419640" y="620640"/>
            <a:ext cx="2163600" cy="3240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2" name="Picture 9" descr="t1@a9ec6ed3-2626-4f96-b1f4-0902488996e9"/>
          <p:cNvPicPr/>
          <p:nvPr/>
        </p:nvPicPr>
        <p:blipFill>
          <a:blip r:embed="rId2"/>
          <a:stretch/>
        </p:blipFill>
        <p:spPr>
          <a:xfrm>
            <a:off x="468360" y="620640"/>
            <a:ext cx="2421000" cy="3240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3" name="Picture 12" descr=""/>
          <p:cNvPicPr/>
          <p:nvPr/>
        </p:nvPicPr>
        <p:blipFill>
          <a:blip r:embed="rId3"/>
          <a:stretch/>
        </p:blipFill>
        <p:spPr>
          <a:xfrm>
            <a:off x="6156360" y="620640"/>
            <a:ext cx="2583000" cy="3240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4" name="Text Box 13"/>
          <p:cNvSpPr/>
          <p:nvPr/>
        </p:nvSpPr>
        <p:spPr>
          <a:xfrm>
            <a:off x="6372360" y="3860640"/>
            <a:ext cx="216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.Кирил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11280" y="3860640"/>
            <a:ext cx="2160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.Нови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Новый виток репресс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08720" y="907920"/>
            <a:ext cx="1663920" cy="1465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з передовой стать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азеты «Правд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4724280"/>
            <a:ext cx="8785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1948 г. после смерти А.Жданова было сфабриковано «ленинградское дело», по которому было арестовано  около 2 тыс.человек, а 200 человек включая Председателя Совмина России М.Родионова, председателя Госплана Н.Вознесенского и секретаря ЦК ВКП(б) А.Кузнецова были расстреля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10"/>
          <p:cNvPicPr/>
          <p:nvPr/>
        </p:nvPicPr>
        <p:blipFill>
          <a:blip r:embed="rId1"/>
          <a:stretch/>
        </p:blipFill>
        <p:spPr>
          <a:xfrm>
            <a:off x="1476360" y="620640"/>
            <a:ext cx="5759640" cy="3973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Новый виток репресс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55640" y="5734080"/>
            <a:ext cx="28796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облачение «врачей-убийц». Плакат 1952 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51280" y="836280"/>
            <a:ext cx="5113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конце 1952 г. было сфабриковано «мингрельское дело». Последним из готовившихся процессов стало «дело врачей», обвиненных                       в неправильном лечении руководителей Советского государства. Последовали многочисленные аресты             и только смерть Сталина спасла многих от лагерей  или расстр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440" y="836640"/>
            <a:ext cx="4000680" cy="48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95280" y="4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 Национальная полит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451640" y="2421000"/>
            <a:ext cx="15130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Лесные брать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4768560"/>
            <a:ext cx="8713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йна привела к возникновению неподконтрольных властям идейных и политических движений. Особых масштабов они достигли на территориях вошедших в состав СССР накануне войны, где велась против насильственной советизации и коллективизации.          На территории Прибалтики действовали вооруженные отряды «лесных братье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Кто такие &quot;Лесные братья&quot; Прибалтики (4 фото)"/>
          <p:cNvPicPr/>
          <p:nvPr/>
        </p:nvPicPr>
        <p:blipFill>
          <a:blip r:embed="rId1"/>
          <a:stretch/>
        </p:blipFill>
        <p:spPr>
          <a:xfrm>
            <a:off x="1476360" y="692280"/>
            <a:ext cx="6091200" cy="3994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Нафор Маточ</dc:creator>
  <dc:description/>
  <dc:language>en-US</dc:language>
  <cp:lastModifiedBy>Администратор</cp:lastModifiedBy>
  <dcterms:modified xsi:type="dcterms:W3CDTF">2020-04-04T18:54:58Z</dcterms:modified>
  <cp:revision>195</cp:revision>
  <dc:subject/>
  <dc:title>Политическое развитие, идеология и культура в 1945-1953 г.</dc:title>
</cp:coreProperties>
</file>