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33.jpeg" ContentType="image/jpeg"/>
  <Override PartName="/ppt/media/image13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35.png" ContentType="image/png"/>
  <Override PartName="/ppt/media/image5.png" ContentType="image/png"/>
  <Override PartName="/ppt/media/image29.jpeg" ContentType="image/jpeg"/>
  <Override PartName="/ppt/media/image19.jpeg" ContentType="image/jpeg"/>
  <Override PartName="/ppt/media/image30.jpeg" ContentType="image/jpeg"/>
  <Override PartName="/ppt/media/image39.png" ContentType="image/png"/>
  <Override PartName="/ppt/media/image8.jpeg" ContentType="image/jpeg"/>
  <Override PartName="/ppt/media/image38.png" ContentType="image/png"/>
  <Override PartName="/ppt/media/image11.png" ContentType="image/png"/>
  <Override PartName="/ppt/media/image9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5C21-1AE6-4030-85A8-44F8A838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B61D-D184-4EA4-83BD-73177BCA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72FF-AC03-4117-8670-15D98C66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8C17-BDB5-49A2-976F-CC707EBA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85F5-A4B0-4D2E-8662-7CD6CDF3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346A-E305-4EF8-9855-F46E7567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7862-501E-4749-AAEC-7B20C6B4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0442-EBDC-46B5-90A0-53127C32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61D2-D0BF-4851-842B-2B43F964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2F6B-B9EF-4788-A570-C250D82C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F51A-A931-4C6D-A6C1-4DF651CF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A586-2C8C-4CD0-8E0D-AF5EEF28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82FA-9BF2-42E1-8026-CD8FB1F0E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676680" y="4248000"/>
            <a:ext cx="5467320" cy="2610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79640" y="692280"/>
            <a:ext cx="6478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ПРЕЗЕНТАЦИЯ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В МИРЕ ПРОФЕССИЙ - ШВЕ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050920" y="2852640"/>
            <a:ext cx="64087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ПОДГОТОВИЛА: воспитатель старшей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МБДОУ детский сад № 185 г.Уф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ХАФИЗОВА РЕГИНА ФАНАВИ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95640" y="620640"/>
            <a:ext cx="1994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0560" y="274680"/>
            <a:ext cx="66358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НЕОБЫЧНЫЕ ПАМЯТНИКИ (ШВЕЙ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979640" y="11970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724360" y="1197000"/>
            <a:ext cx="2462400" cy="2185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908000" y="3645000"/>
            <a:ext cx="2951280" cy="2736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5508720" y="3645000"/>
            <a:ext cx="3095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68000" y="476280"/>
            <a:ext cx="6418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ЗАГА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24000" y="1557360"/>
            <a:ext cx="309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Инструмент бывалый: </a:t>
            </a:r>
            <a:br>
              <a:rPr sz="1800"/>
            </a:b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Не большой, не малый. </a:t>
            </a:r>
            <a:br>
              <a:rPr sz="1800"/>
            </a:b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У него полно забот: </a:t>
            </a:r>
            <a:br>
              <a:rPr sz="1800"/>
            </a:b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Он и режет и стриж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                   </a:t>
            </a: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(Ножницы)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80000" y="4653000"/>
            <a:ext cx="30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Всех на свете обшивает, </a:t>
            </a:r>
            <a:br>
              <a:rPr sz="1800"/>
            </a:b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Что сошьет - не надевает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                    </a:t>
            </a: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(Игла)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80000" y="1268280"/>
            <a:ext cx="295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На пальце одном, </a:t>
            </a:r>
            <a:br>
              <a:rPr sz="1800"/>
            </a:b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Ведерко - вверх дном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                  </a:t>
            </a: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(Наперсток)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68360" y="3141720"/>
            <a:ext cx="2867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На поляне шерстяной пляшет тонконожка, </a:t>
            </a:r>
            <a:br>
              <a:rPr sz="1800"/>
            </a:b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Из -под туфельки стальной - выползает стеж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(Швейная машинка)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724360" y="2781360"/>
            <a:ext cx="2305080" cy="1655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627280" y="4869000"/>
            <a:ext cx="22338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1692360" y="1197000"/>
          <a:ext cx="7272000" cy="5400000"/>
        </p:xfrm>
        <a:graphic>
          <a:graphicData uri="http://schemas.openxmlformats.org/drawingml/2006/table">
            <a:tbl>
              <a:tblPr/>
              <a:tblGrid>
                <a:gridCol w="2967120"/>
                <a:gridCol w="4304880"/>
              </a:tblGrid>
              <a:tr h="540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Tahoma"/>
                          <a:ea typeface="Times New Roman"/>
                        </a:rPr>
                        <a:t>Вышивает, шьёт иголка,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Tahoma"/>
                          <a:ea typeface="Times New Roman"/>
                        </a:rPr>
                        <a:t>Пальцу больно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Tahoma"/>
                          <a:ea typeface="Times New Roman"/>
                        </a:rPr>
                        <a:t>                  </a:t>
                      </a: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Tahoma"/>
                          <a:ea typeface="Times New Roman"/>
                        </a:rPr>
                        <a:t>пальцу колко,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Tahoma"/>
                          <a:ea typeface="Times New Roman"/>
                        </a:rPr>
                        <a:t>А напёрсток в тот же  ми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Tahoma"/>
                          <a:ea typeface="Times New Roman"/>
                        </a:rPr>
                        <a:t>К девочке на пальч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Tahoma"/>
                          <a:ea typeface="Times New Roman"/>
                        </a:rPr>
                        <a:t>                               </a:t>
                      </a: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Tahoma"/>
                          <a:ea typeface="Times New Roman"/>
                        </a:rPr>
                        <a:t>прыг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Tahoma"/>
                          <a:ea typeface="Times New Roman"/>
                        </a:rPr>
                        <a:t>Говорит иголке: "Шей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Tahoma"/>
                          <a:ea typeface="Times New Roman"/>
                        </a:rPr>
                        <a:t>А колоться ты не смей!"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Tahoma"/>
                          <a:ea typeface="Times New Roman"/>
                        </a:rPr>
                        <a:t>                М. Куль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33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1" i="1" lang="en-US" sz="1800" spc="-1" strike="noStrike">
                          <a:solidFill>
                            <a:srgbClr val="660033"/>
                          </a:solidFill>
                          <a:latin typeface="Tahoma"/>
                          <a:ea typeface="Times New Roman"/>
                        </a:rPr>
                        <a:t>Левая ладошка раскрыта, 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660033"/>
                          </a:solidFill>
                          <a:latin typeface="Tahoma"/>
                          <a:ea typeface="Times New Roman"/>
                        </a:rPr>
                        <a:t>в правой - воображаемая игла.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660033"/>
                          </a:solidFill>
                          <a:latin typeface="Tahoma"/>
                          <a:ea typeface="Times New Roman"/>
                        </a:rPr>
                        <a:t>Игла "шьёт" и задевает кончик 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660033"/>
                          </a:solidFill>
                          <a:latin typeface="Tahoma"/>
                          <a:ea typeface="Times New Roman"/>
                        </a:rPr>
                        <a:t>указательного пальца левой руки.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660033"/>
                          </a:solidFill>
                          <a:latin typeface="Tahoma"/>
                          <a:ea typeface="Times New Roman"/>
                        </a:rPr>
                        <a:t>Делают такое движение, будто 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660033"/>
                          </a:solidFill>
                          <a:latin typeface="Tahoma"/>
                          <a:ea typeface="Times New Roman"/>
                        </a:rPr>
                        <a:t>надевают напёрсток.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660033"/>
                          </a:solidFill>
                          <a:latin typeface="Tahoma"/>
                          <a:ea typeface="Times New Roman"/>
                        </a:rPr>
                        <a:t>Вновь "шьют".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660033"/>
                          </a:solidFill>
                          <a:latin typeface="Tahoma"/>
                          <a:ea typeface="Times New Roman"/>
                        </a:rPr>
                        <a:t>Грозят указательным пальчиком правой ру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95280" y="475920"/>
            <a:ext cx="64911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ПАЛЬЧИКОВАЯ ГИМНА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692360" y="3860640"/>
            <a:ext cx="3400200" cy="2551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219640" y="3860640"/>
            <a:ext cx="32292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40000" y="475920"/>
            <a:ext cx="63468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БЕСЕДА «ВСЕ ПРОФЕССИИ НУЖН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63640" y="1125360"/>
            <a:ext cx="3527640" cy="2590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435640" y="3789360"/>
            <a:ext cx="3419280" cy="2725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435640" y="1125360"/>
            <a:ext cx="3384360" cy="2624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763640" y="3789360"/>
            <a:ext cx="35290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8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РИСОВАНИЕ «УКРАСИМ ПЛАТЬ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059280" y="1125360"/>
            <a:ext cx="3600360" cy="2360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908000" y="3573360"/>
            <a:ext cx="4013280" cy="2632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6443640" y="3573360"/>
            <a:ext cx="1979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0" y="404280"/>
            <a:ext cx="626436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ДИДАКТИЧЕСКИЕ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908000" y="1125360"/>
            <a:ext cx="4248360" cy="3024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427640" y="3573360"/>
            <a:ext cx="4392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68000" y="274680"/>
            <a:ext cx="6418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СЮЖЕТНО-РОЛЕВЫЕ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979640" y="1052640"/>
            <a:ext cx="3564000" cy="2673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979640" y="3789360"/>
            <a:ext cx="3529080" cy="2432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580000" y="1268280"/>
            <a:ext cx="3259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0360" y="549360"/>
            <a:ext cx="4896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СТИХИ О ШВЕ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71040" y="983520"/>
            <a:ext cx="2958840" cy="493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Для портнихи Виолетты</a:t>
            </a:r>
            <a:br>
              <a:rPr sz="1800"/>
            </a:b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Дело есть зимой и летом.</a:t>
            </a:r>
            <a:br>
              <a:rPr sz="1800"/>
            </a:b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Людям круглый год нужны</a:t>
            </a:r>
            <a:br>
              <a:rPr sz="1800"/>
            </a:b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Платья, юбки и штаны.</a:t>
            </a:r>
            <a:br>
              <a:rPr sz="1800"/>
            </a:b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Чтоб была обнова впору,</a:t>
            </a:r>
            <a:br>
              <a:rPr sz="1800"/>
            </a:b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Все-все-все измерит споро </a:t>
            </a:r>
            <a:br>
              <a:rPr sz="1800"/>
            </a:b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Руки, талию и рост,</a:t>
            </a:r>
            <a:br>
              <a:rPr sz="1800"/>
            </a:b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Шею, голову и хвост.</a:t>
            </a:r>
            <a:br>
              <a:rPr sz="1800"/>
            </a:b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Тут же выкройку найдет,</a:t>
            </a:r>
            <a:br>
              <a:rPr sz="1800"/>
            </a:b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Белым мелом обведет,</a:t>
            </a:r>
            <a:br>
              <a:rPr sz="1800"/>
            </a:b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Раскроит, сошьет, погладит,</a:t>
            </a:r>
            <a:br>
              <a:rPr sz="1800"/>
            </a:b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В платье манекен нарядит,</a:t>
            </a:r>
            <a:br>
              <a:rPr sz="1800"/>
            </a:b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А потом сидит и ждет,</a:t>
            </a:r>
            <a:br>
              <a:rPr sz="1800"/>
            </a:b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Что клиент за ним придет.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660033"/>
                </a:solidFill>
                <a:latin typeface="Times New Roman"/>
              </a:rPr>
              <a:t>Емельянова 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71880" y="1270080"/>
            <a:ext cx="2934360" cy="329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Жил портной один умелый,</a:t>
            </a:r>
            <a:br>
              <a:rPr sz="1800"/>
            </a:b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Знал прекрасно своё дело:</a:t>
            </a:r>
            <a:br>
              <a:rPr sz="1800"/>
            </a:b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Ткани выбирал для нас -</a:t>
            </a:r>
            <a:br>
              <a:rPr sz="1800"/>
            </a:b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Хлопок, ситец и атлас.</a:t>
            </a:r>
            <a:br>
              <a:rPr sz="1800"/>
            </a:b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А потом снимал он мерку,</a:t>
            </a:r>
            <a:br>
              <a:rPr sz="1800"/>
            </a:b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Делал выкройку, примерку,</a:t>
            </a:r>
            <a:br>
              <a:rPr sz="1800"/>
            </a:b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Белой ниткой ткань сметал,</a:t>
            </a:r>
            <a:br>
              <a:rPr sz="1800"/>
            </a:b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На машинке всё сшивал.</a:t>
            </a:r>
            <a:br>
              <a:rPr sz="1800"/>
            </a:b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И на праздник у ребят</a:t>
            </a:r>
            <a:br>
              <a:rPr sz="1800"/>
            </a:b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Новый был всегда наряд.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Васильева С.</a:t>
            </a: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164360" y="4076640"/>
            <a:ext cx="15858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95640" y="33300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ОЖИДАЕМЫЙ 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050560" y="1413000"/>
            <a:ext cx="66358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Появление интереса к профессии шв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Знание предметов и инструментов, которые швея использует в своей раб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Развитие познавательных и творческих способностей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Проявление самостоятельной активности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Улучшение работы по взаимодействию с родителями, активизация родителей как участников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Позитивное отношение к миру на основ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      </a:t>
            </a: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эмоцион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      </a:t>
            </a: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чувственного опы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227640" y="3716280"/>
            <a:ext cx="221292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63640" y="1341360"/>
            <a:ext cx="684072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1.Вахрушева А.А. и др. Здравствуй, мир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Окружающий мир для дошкольников. М.,201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2.Вострухина Т.Н. Знакомим с окружающим ми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детей 5-7 лет. М.,201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3. Каверина Р.Д. Мир профессий. М.,198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4.Потапова Т.В. Беседы о профессиях с деть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4-7лет. М.,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5.Шорыгина Т.А. Профессии. Какие они! М.,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148360" y="4365720"/>
            <a:ext cx="276228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95640" y="620640"/>
            <a:ext cx="1994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227640" y="4076640"/>
            <a:ext cx="2162160" cy="2114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56000" y="792000"/>
            <a:ext cx="403200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38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                       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ШВЕЯ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38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О напёрстках кто всё знает,</a:t>
            </a:r>
            <a:br>
              <a:rPr sz="2000"/>
            </a:b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Нас «с иголки» одевает,</a:t>
            </a:r>
            <a:br>
              <a:rPr sz="2000"/>
            </a:b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Знает все журналы мод…</a:t>
            </a:r>
            <a:br>
              <a:rPr sz="2000"/>
            </a:b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Кто на свете лучше шьёт?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Кто наряды нам рисует,</a:t>
            </a:r>
            <a:br>
              <a:rPr sz="2000"/>
            </a:b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Нас одеждою балует,</a:t>
            </a:r>
            <a:br>
              <a:rPr sz="2000"/>
            </a:b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Чтоб блистали ты и я?</a:t>
            </a:r>
            <a:br>
              <a:rPr sz="2000"/>
            </a:b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Это добрая швея!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                  Натали Само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95640" y="620640"/>
            <a:ext cx="1994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280404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38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Times New Roman"/>
              </a:rPr>
              <a:t>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             </a:t>
            </a: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АКТУАЛЬНОСТЬ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19280" y="1125000"/>
            <a:ext cx="70675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         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Всегда во все времена, дети с огромным удовольствием проявляют интерес к профессиям взрослых, при этом многие из них не знают, кем и где работают их родители, как называются их профессии, чем они занимаются на своих рабочих местах. Родители редко или совсем не рассказывают детям о своей работе. А ведь склонность детей к определенным ролям, играм и видам труда свидетельствует о первых проявлениях «профессиональной направленности» в развитии личности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          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Данный проект познакомит детей с профессией швеи. Умение одевать людей – древнее ремесло. Во все времена были уважаемыми профессии швеи и портних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877080" y="4869000"/>
            <a:ext cx="188604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95640" y="620640"/>
            <a:ext cx="1994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56000" y="280404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38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Times New Roman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148360" y="4076640"/>
            <a:ext cx="3436920" cy="22100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663588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ЦЕЛЬ:</a:t>
            </a:r>
            <a:br>
              <a:rPr sz="2000"/>
            </a:b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-познакомить детей с трудом взрослых. Расширить и закрепить представления о профессии шве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35280" y="1916280"/>
            <a:ext cx="685152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УЧАСТНИКИ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-дети старшей группы, родители воспитанников, воспитатели груп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ПРЕДМЕТ ИССЛЕД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-профессия шве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07640" y="1125000"/>
            <a:ext cx="678996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Times New Roman"/>
              </a:rPr>
              <a:t>расширять представления детей о том, 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660033"/>
                </a:solidFill>
                <a:latin typeface="Times New Roman"/>
              </a:rPr>
              <a:t>одежду шьют не только на швейных фабриках, но и в ателье, домах мо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Times New Roman"/>
              </a:rPr>
              <a:t>развивать речь детей, закреплять названия тканей и швейных принадлежн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Times New Roman"/>
              </a:rPr>
              <a:t>-    воспитывать уважение детей к профессии шве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СРОКИ РЕАЛИЗ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Times New Roman"/>
              </a:rPr>
              <a:t>-     2 нед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867280" y="4005360"/>
            <a:ext cx="280188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                 </a:t>
            </a: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РАЗРАБОТКА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23640" y="1267920"/>
            <a:ext cx="648036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Довести до участников проекта важность данной пробл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Подобрать методическую, познавательную, художественную литературу, иллюстративный материал по этой те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Подобрать материал для изобразительной и продуктивной деятельности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Составить перспективный план меропри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867280" y="3933720"/>
            <a:ext cx="23608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39640" y="259920"/>
            <a:ext cx="62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Формы и методы работы с дет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23640" y="1267920"/>
            <a:ext cx="6480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Беседы – «Все профессии нужны», «Путешествие в прошлое профессии - Швея»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Рисование «Украсим платье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Дидактические игры – «Оденем куклу», «Угадай, что лишнее», «Чудесный мешочек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Сюжетно-ролевые игры – «Я швея», «Атель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427640" y="4076640"/>
            <a:ext cx="408132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24000" y="260280"/>
            <a:ext cx="6562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ИЗ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68360" y="981000"/>
            <a:ext cx="6390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Первобытные люди шили одежду с помощ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воловьих жил иглой из кам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или рыбьей 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Позже появилась стальная игла и м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десятилетий была глав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инструментом шве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В 18</a:t>
            </a: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– </a:t>
            </a: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19</a:t>
            </a: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веках появились первые швейные маш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игла из камня"/>
          <p:cNvPicPr/>
          <p:nvPr/>
        </p:nvPicPr>
        <p:blipFill>
          <a:blip r:embed="rId2"/>
          <a:stretch/>
        </p:blipFill>
        <p:spPr>
          <a:xfrm>
            <a:off x="6588000" y="1341360"/>
            <a:ext cx="1616040" cy="100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148360" y="2997360"/>
            <a:ext cx="3706560" cy="1079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908000" y="4365720"/>
            <a:ext cx="2376720" cy="2003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4427640" y="4437000"/>
            <a:ext cx="2160360" cy="18925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6588000" y="4581360"/>
            <a:ext cx="239868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78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МАЛЕНЬКИЕ РУКОДЕЛЬНИЦЫ В РАБОТАХ     ХУДОЖ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580000" y="1268280"/>
            <a:ext cx="331164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979640" y="1197000"/>
            <a:ext cx="3313080" cy="2363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979640" y="3645000"/>
            <a:ext cx="336564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7T19:39:35Z</dcterms:created>
  <dc:creator>Регина</dc:creator>
  <dc:description/>
  <dc:language>en-US</dc:language>
  <cp:lastModifiedBy>Регина</cp:lastModifiedBy>
  <dcterms:modified xsi:type="dcterms:W3CDTF">2020-04-04T17:10:26Z</dcterms:modified>
  <cp:revision>24</cp:revision>
  <dc:subject/>
  <dc:title>Слайд 1</dc:title>
</cp:coreProperties>
</file>