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83B-6B4C-4C6D-94A8-4594275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4C7-9E58-4F1F-A994-30FBE8D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68B-1F43-4BE5-B1F9-A99281B4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225-F60C-4019-BB23-4AED65F1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D7F1-3B29-49E8-A344-C6B45BC9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47F8-8C31-483C-841E-1A2D169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9E06-4189-4EFC-A549-DC6E6771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F8D-7366-4B02-B206-56B7AD9F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4E9A-A41E-4495-985A-B7752C4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A1F-371B-4128-9254-CE28BA0B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CE59-FE85-496D-A417-226B4CC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816-46DD-4F6F-A9B5-FF1B9A5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B190-FF2D-4DA5-BF4D-5BF2640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352-1B01-4E49-BF05-CF31A23E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B671-1FF2-4F21-BAFC-6A4C58C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8A6-CCFE-47AF-A4D6-22BD9259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453-8FC2-4204-B1E4-68F98408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D238-99C4-43E2-AF52-909D3A73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7C95-A345-481A-88B6-D9783A56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BB66-61F8-44F7-A1C5-BD531670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6300A-6581-4556-86A5-8141D4B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2DD5-7AA0-476F-B327-E6BE1AB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333-D0E3-4918-A680-3C0B968B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9436-9A69-419A-ABF0-BEBEFA2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C126-D9EC-4CBB-917E-E7ACA5B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92EE-8A0A-47B0-8258-FBE456D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29F4-902F-458A-87A6-63A8F1D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CD62-CB70-46C7-A279-1404F0D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BEF2-7DE4-4C1B-8532-72E1ABA0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403D-3F0C-404D-B0FF-4A11ED45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E44D-3DA3-48A5-9088-D40D2A3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4B3A-A263-421B-9152-3449298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04812-D93D-4816-8D55-E8AA36C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422-D076-44A4-B235-AA14115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CA98-B54D-4DC4-8BA0-2092A531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6553-1FF3-4676-856F-7BC2B6F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7F28D-F04A-4F92-982F-43187EA4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A67A-B1C6-4B73-B75A-A3CDD0B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A98C-EC52-4A19-93C1-E05A6C0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4643-D8EF-4090-A959-17DA5986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BF71-8A69-4623-9F63-DDBC08C9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FBEC-F35D-481B-9204-66564BAC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CE99-E01E-4F1D-8E2C-EE54B352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315C-59C2-4358-B6B7-48B3910E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205-55DD-4E4E-8E37-A0A4F3A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C602B-59BB-48AA-9206-F540CFD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E151-FCD6-422F-B76D-EADA7799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E601-612F-4DD9-9EC5-CAA09B3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D1E6-C4ED-48F0-A306-17224F40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C418-1F82-4D1B-9D77-271BD63B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F0CCD-A489-4CF9-9EA8-8FC368F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0E82-CC02-424B-9895-D3E02AEA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3750-0ACC-4851-97C9-6EF028C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6AA4-CD74-4A60-8672-2374860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01CE-F786-48FE-9D04-CCDE60A7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163-D4D3-4886-BB72-7B9DD848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FB3F-04ED-4710-98D9-9FB221D7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BB06-28A2-4DEB-B8D6-7E5DA75E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62152-0123-4DFF-9AEB-0E6FEC14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A044-5336-49BA-BD43-59F5D4B0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5FBB-5F18-4155-AA97-691A9333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2D0AC-D4B2-4533-AD7F-69B9CC71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143ED-2629-4F0A-9858-518BAF4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AF43-3DA9-4A88-AC50-1A4BB41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8428F-8727-4C83-8F02-8DC2B28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238A-A0F9-4651-9CFA-0197AFC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565-0CEE-4F66-AD53-C94AC73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30EF-A5DC-42ED-A173-B0CE276E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A690-EB85-4FAD-A119-A1AD0841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507D-6AF7-4C25-A5EC-447ACABB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3BDB-914D-4E21-AA23-7351DAB4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7DD5-AF23-4688-BCD2-E8D3B34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3FDFB-B029-4B9F-89E7-FF10163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65E0-AB1C-46E8-8308-5BCEDA98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CE97-9505-4CEB-A62A-BE325B72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3B1B-ED62-46FA-8973-91724CCF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3CB0-8C7E-4E22-A668-F630306D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AB7-16A7-46B3-BA51-7B69159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C0EC3-F5F2-4A8B-A6A5-EE41DAD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04AF2-2728-4710-9C85-C4E09F2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7FD9-D909-4261-9D71-D988FE62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07A8-BCEC-47AD-A521-1B97F36A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76762-705E-4F14-85B5-0356374B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A90-FAD8-4129-8CC3-3AD455E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42D-4C95-43DA-BCCD-FFAD2A7180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947A-2EF1-432A-B81A-F8D03634223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79CD-2F22-4883-AE53-819A9C3E9A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82A-1C7C-4C4B-B330-98C4552031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600-F5D5-4C2E-9D5D-70BC13C1DB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94C8-64F7-494B-A34F-1E35213C424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FEE4-4625-4978-989E-C848B3867EF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30240" y="79200"/>
            <a:ext cx="9815400" cy="44802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4065480" y="4095720"/>
            <a:ext cx="4926240" cy="21463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3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1640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7) Когда ствол, ветки и яблочки высохнут, приступаем к листочкам. Их мы сделали с помощью соли и  клея ПВА: обводим по контуру листочки клеем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Объект 5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22240"/>
            <a:ext cx="42400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8) Далее все листочки обильно посыпаем сверху солью. После чего рисунок нужно аккуратно наклонить и ссыпать лишнюю соль. В результате соль останется только там, где и было задумано, и обозначит детали рисунка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Объект 3" descr=""/>
          <p:cNvPicPr/>
          <p:nvPr/>
        </p:nvPicPr>
        <p:blipFill>
          <a:blip r:embed="rId2"/>
          <a:stretch/>
        </p:blipFill>
        <p:spPr>
          <a:xfrm>
            <a:off x="4970520" y="1722600"/>
            <a:ext cx="374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22240"/>
            <a:ext cx="42400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9) Когда соль высохнет, приступаем к раскрашиванию листочков. Рисуем по соли акварельными красками. На кисточку набираем как можно больше краски и слегка касаемся соли кончиком кисти. Делаем это аккуратно и наблюдаем, как краска сама растекается по солевому рисунку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4" name="Объект 2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22240"/>
            <a:ext cx="42400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0)Так как мы изображаем осеннюю яблоню из сказки В. Сутеева «Яблоко», листочки могут быть раскрашены  в разноцветных тона или можно сделать их однотонными. Всё зависит от желания детей, фантазии и воображения. Пусть экспериментирую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Объект 5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321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193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22240"/>
            <a:ext cx="42400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т такая яболня у нас получилась!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ак как мы использовали разные техники рисования и обрывную аппликацию, детям было действительно интересно и увлекательно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Объект 2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2170080"/>
          </a:xfrm>
          <a:prstGeom prst="rect">
            <a:avLst/>
          </a:prstGeom>
          <a:ln w="0">
            <a:noFill/>
          </a:ln>
        </p:spPr>
      </p:pic>
      <p:pic>
        <p:nvPicPr>
          <p:cNvPr id="342" name="Объект 5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0595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822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51912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азвивать художественно-творческие способности и фантазию дете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65920" indent="-5659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Учить нетрадиционным техникам рисования: с помощью клея пва и соли, методом выдувания, окрашивание салфеток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pic>
        <p:nvPicPr>
          <p:cNvPr id="307" name="Объект 2" descr=""/>
          <p:cNvPicPr/>
          <p:nvPr/>
        </p:nvPicPr>
        <p:blipFill>
          <a:blip r:embed="rId2"/>
          <a:stretch/>
        </p:blipFill>
        <p:spPr>
          <a:xfrm>
            <a:off x="365040" y="2077920"/>
            <a:ext cx="84549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1) На чистом листе А3 рисуем простым карандашом яблоню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технике «обрывная аппликация» сделаем почву, на которой будет стоять наша яблоня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0" name="Объект 4" descr=""/>
          <p:cNvPicPr/>
          <p:nvPr/>
        </p:nvPicPr>
        <p:blipFill>
          <a:blip r:embed="rId2"/>
          <a:stretch/>
        </p:blipFill>
        <p:spPr>
          <a:xfrm>
            <a:off x="4648320" y="194004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2) Берем цветную бумагу коричневого цвета и рвем ее маленькими кусочками. Затем приклеиваем их на фоновый рисунок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Объект 7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3) Ствол и ветки яблони выполнены в технике «выдувания трубочкой». Ставим небольшую цветную капельку в место, где будет начинаться ствол дерева.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Объект 7" descr=""/>
          <p:cNvPicPr/>
          <p:nvPr/>
        </p:nvPicPr>
        <p:blipFill>
          <a:blip r:embed="rId2"/>
          <a:stretch/>
        </p:blipFill>
        <p:spPr>
          <a:xfrm>
            <a:off x="4970520" y="17226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684360" y="1828440"/>
            <a:ext cx="38224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4) Затем трубочкой выдуваем кляксу снизу вверх по направлению роста ствола так, что бы её конец не касался ни пятна, ни бумаг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етки делаем точно также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Объект 6" descr=""/>
          <p:cNvPicPr/>
          <p:nvPr/>
        </p:nvPicPr>
        <p:blipFill>
          <a:blip r:embed="rId2"/>
          <a:stretch/>
        </p:blipFill>
        <p:spPr>
          <a:xfrm>
            <a:off x="4970520" y="17226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684360" y="2421000"/>
            <a:ext cx="382248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5)После этого катаем шарки из салфеток – это яблочки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Объект 4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403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684360" y="2349000"/>
            <a:ext cx="38224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6) Приклеиваем яблочки на фоновый рисунок и раскрашиваем акварельными краска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Объект 5" descr=""/>
          <p:cNvPicPr/>
          <p:nvPr/>
        </p:nvPicPr>
        <p:blipFill>
          <a:blip r:embed="rId2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17:24:44Z</dcterms:created>
  <dc:creator>Кудряшка</dc:creator>
  <dc:description/>
  <dc:language>en-US</dc:language>
  <cp:lastModifiedBy>Кудряшка</cp:lastModifiedBy>
  <dcterms:modified xsi:type="dcterms:W3CDTF">2020-03-29T12:33:54Z</dcterms:modified>
  <cp:revision>47</cp:revision>
  <dc:subject/>
  <dc:title>ГБОУ Школа № 2120  Продуктивная деятельность Книга «Времена года»</dc:title>
</cp:coreProperties>
</file>