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9F425-3F28-47C5-959D-2FDB0420B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16382-1601-41AC-8C56-2E7FD7931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446C8-60BE-4BDD-B8DA-BDB5EAD9E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FCCAD-573C-4F9A-A019-0BD723C95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75AA4-B4D7-43FF-AABA-24939F1CF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2048C-DE60-4394-AD73-9A4779C6A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59489-815C-47FC-89AE-D055946F2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52995-998C-47EA-A08B-A75171373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8483B-C2DE-4F4C-B71E-AEF4EC2E1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22F4E-346C-4D4D-A6F9-76192F746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263EA-0122-4E99-BDD8-9810AC9BF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8208C-BD0E-44D9-86BE-75E171A4B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FB6AC-CDD8-4483-97CE-BBC939EBB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87154-6822-436B-8E47-06E8EF321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31566-DC81-4167-A73C-DA47510F0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A21D5-18B1-4821-A078-4B11E0385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73520-F318-4FB3-AFB7-ECC90BCA7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ADE68A-987B-403C-931F-A8935EDF5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C30093-EC49-4654-B5A6-E76320F04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4D267D-6CFA-45B1-AC70-133C1A9CB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BA6C4B-7D92-41E0-BEB4-E693B43DD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4ACE9F-FDAC-4A89-8072-FC25FAB53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805DE-5D5C-424E-9B4D-066994AEC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E3E0F4-39D5-419D-ABF7-1C493BD76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B13AA9-893E-470D-8386-D3D53A99F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CB5935-BD83-4B05-9B30-C7BD532D3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567680-E139-44C6-A7D3-C57C9F233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DF67AD-2C20-4C60-88F9-7DAF7274A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EA092E-9683-474D-BC87-1E3BB22CF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5D7002-4050-4C4A-96CD-ADB57C2A2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7AAEC5-22ED-44D1-B914-6CC07F31D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39389F-D335-4BA8-8F15-C72FF815B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AED73B-4080-47E8-B867-09C6848EA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2482E-617F-4941-B9CE-09E0ECA18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B6CD5F-2E36-4726-BA52-1342E63FB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EA95D7-3066-448C-95CC-CBB913B14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5E34CB-B71C-4279-BEC4-3B0CC2480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CC29FF-5FD1-4BBE-82E1-BD70EE8C5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2ADF87-85F2-49C3-A68E-77425BCBE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371253-2813-4452-A4F5-0E9803CD5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691C6D-C9D4-48A7-9567-B4BB34F51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598B37-F59F-433E-B9B8-A12C4BC6C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09AA34-5C4E-4AD2-8F40-4C1025B32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8E9FF2-6194-4CB5-B6FD-4C94A5FF0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E61A8-83FD-49A4-8981-A19EAA248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2EA1F4-A169-4AD4-951D-4992DEDAB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6718F5-FD8C-42A6-A913-0EF101B16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CCB445-69D3-4948-B9A2-E119759E3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744000-BDC3-49F7-9BA3-873D1DA4B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2769D7-5ECB-434B-9E69-4D0DC0F55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F37F94-0A9B-4B5C-8AB0-E5C041A77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545445-CBF2-4130-BCBF-6E28C3FB7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B8E7A6-1CDA-4C25-A84A-00BD21CA7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0632F3-C831-40AD-B786-67DB867A1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B356AC-A455-4EBB-98A0-BD5EAB152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1AD0F-A890-4666-B59E-62B1E541B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71BA06-73AB-4208-BCB6-AAAE2E8BB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EAFDD0-14AE-4D33-990E-E230DA9E1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864440-33BD-44E4-8894-D7A45FA79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2931D9-CB4F-4F71-8FDF-BF1D0BD3E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B23B51-514F-4AFB-B61E-9A9371319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17925C-563A-4D90-ACCD-F8E1935EE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CB044B-7F6D-49C8-A30B-35E2BA21F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00594C-2EB9-4C9C-B447-534345128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E155D2-4F5F-4BAD-B2DF-C66F53D8E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C72C39-A5B1-42A3-96C1-EF0AD5702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BBC22-EC35-42FB-8F7A-347F9EBDE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FED949-5CB9-4829-B072-BAD29FC87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8E7DB9-A18D-4A15-824D-34616D082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5B8A79-D8A8-4B54-81A6-3E8CFBA30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EF0F3C-F7D7-4309-9C49-6EB24F005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544F16-6C6B-4AAF-B61E-81D33D255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A4BBD9-3AD0-42DD-AB24-7905F462F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8A6012-50AB-43DC-A83E-486EE872E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F0A1DA-C0C5-4162-B0D1-1E8CF892C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BBF2AD-FEDE-4965-8384-BB2481A3C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AF3995-F5A5-46E8-8BBC-DB550AF62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96406-EECE-47FC-A1D3-A728DA923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22222E-F91D-4B69-B476-CCBE31552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87E92E-0BB2-4DA0-AE8F-2D020F7AC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0A433F-8F7E-415A-A23F-F0F34C886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9159ED-362E-4B12-AC16-E5CE21994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DC74B4-37E7-46AF-993C-BA75C49F3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89F97-9F9D-4681-A557-5FFF91239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1FB54-186A-4234-967D-5759C77FC788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D06E7-48B2-443D-8C2A-601E9CDFF738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FEE95-3327-4350-9363-4B738E09CB26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AC04A-C661-4D8B-BF05-01EC5C4FADD4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BF302-00C6-43BF-B3CF-1077A13FB2ED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D0B29-1A99-4246-B2D3-609E69F2D779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647E2-F470-4CC0-A68B-3EBDAFDFDFDF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4033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ndara"/>
              </a:rPr>
              <a:t>ГБОУ Школа № 2120 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Candara"/>
              </a:rPr>
              <a:t>структурное подразделение №7</a:t>
            </a:r>
            <a:br>
              <a:rPr sz="3600"/>
            </a:br>
            <a:br>
              <a:rPr sz="3600"/>
            </a:br>
            <a:r>
              <a:rPr b="0" lang="ru-RU" sz="4000" spc="-1" strike="noStrike">
                <a:solidFill>
                  <a:srgbClr val="ffffff"/>
                </a:solidFill>
                <a:latin typeface="Candara"/>
              </a:rPr>
              <a:t>Продуктивная деятельность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Candara"/>
              </a:rPr>
              <a:t>«Цветик-семицветик»   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4067280" y="4149720"/>
            <a:ext cx="475272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ndara"/>
              </a:rPr>
              <a:t>Изготовили дети старшей группы и воспитатели: Ариткулова Д.В., Соколова Ю.Н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337" name="Рисунок 4" descr=""/>
          <p:cNvPicPr/>
          <p:nvPr/>
        </p:nvPicPr>
        <p:blipFill>
          <a:blip r:embed="rId1"/>
          <a:stretch/>
        </p:blipFill>
        <p:spPr>
          <a:xfrm>
            <a:off x="539640" y="3429000"/>
            <a:ext cx="3311640" cy="32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Этапы работы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677880" y="2349000"/>
            <a:ext cx="3819600" cy="37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6) Из полученных жгутиков делаем нашу аппликацию. Берем жгутик определенного цвета и по контуру, заранее нарисованному, выкладываем лепестки, стебель, листочки цветика-семицветика и траву. 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361" name="Объект 2" descr=""/>
          <p:cNvPicPr/>
          <p:nvPr/>
        </p:nvPicPr>
        <p:blipFill>
          <a:blip r:embed="rId1"/>
          <a:stretch/>
        </p:blipFill>
        <p:spPr>
          <a:xfrm>
            <a:off x="4932360" y="2611440"/>
            <a:ext cx="3672000" cy="39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ffff"/>
                </a:solidFill>
                <a:latin typeface="Candara"/>
              </a:rPr>
              <a:t>Итог</a:t>
            </a: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63" name="Объект 7" descr=""/>
          <p:cNvPicPr/>
          <p:nvPr/>
        </p:nvPicPr>
        <p:blipFill>
          <a:blip r:embed="rId1"/>
          <a:stretch/>
        </p:blipFill>
        <p:spPr>
          <a:xfrm>
            <a:off x="1619280" y="2637000"/>
            <a:ext cx="5335560" cy="370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ffff"/>
                </a:solidFill>
                <a:latin typeface="Candara"/>
              </a:rPr>
              <a:t>Цель</a:t>
            </a:r>
            <a:endParaRPr b="0" lang="en-US" sz="6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76080" y="2679480"/>
            <a:ext cx="8072280" cy="344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73e87"/>
                </a:solidFill>
                <a:latin typeface="Candara"/>
              </a:rPr>
              <a:t>Развивать художественно-творческие способности и фантазию детей, учить лепить новым способом лепки – жгутиковым.</a:t>
            </a:r>
            <a:endParaRPr b="0" lang="en-US" sz="40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Candara"/>
              </a:rPr>
              <a:t>Задачи</a:t>
            </a:r>
            <a:endParaRPr b="0" lang="en-US" sz="6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179280" y="2708280"/>
            <a:ext cx="8856720" cy="341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73e87"/>
                </a:solidFill>
                <a:latin typeface="Candara"/>
              </a:rPr>
              <a:t>Обучить новому приему работы с пластилином;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59200" indent="-25920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73e87"/>
                </a:solidFill>
                <a:latin typeface="Candara"/>
              </a:rPr>
              <a:t>Развивать познавательные и творческие способности детей, интерес, любознательность;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59200" indent="-25920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73e87"/>
                </a:solidFill>
                <a:latin typeface="Candara"/>
              </a:rPr>
              <a:t>Развивать мелкую моторику рук; 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59200" indent="-25920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73e87"/>
                </a:solidFill>
                <a:latin typeface="Candara"/>
              </a:rPr>
              <a:t>Воспитывать усидчивость, аккуратность, эстетический вкус.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59200" indent="-25920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Candara"/>
              </a:rPr>
              <a:t>Оборудование и материалы </a:t>
            </a:r>
            <a:endParaRPr b="0" lang="en-US" sz="48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43" name="Объект 2" descr=""/>
          <p:cNvPicPr/>
          <p:nvPr/>
        </p:nvPicPr>
        <p:blipFill>
          <a:blip r:embed="rId1"/>
          <a:stretch/>
        </p:blipFill>
        <p:spPr>
          <a:xfrm>
            <a:off x="371520" y="2401920"/>
            <a:ext cx="8448480" cy="42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Этапы работы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76440" y="2679480"/>
            <a:ext cx="3822480" cy="344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1) Берем пластилин 7 основных цветов и режем стекой пластилин на маленькие части, чтобы они убирались в шприц.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346" name="Объект 5" descr=""/>
          <p:cNvPicPr/>
          <p:nvPr/>
        </p:nvPicPr>
        <p:blipFill>
          <a:blip r:embed="rId1"/>
          <a:stretch/>
        </p:blipFill>
        <p:spPr>
          <a:xfrm>
            <a:off x="4500720" y="2852640"/>
            <a:ext cx="4452840" cy="33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Этапы работы 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676440" y="2679480"/>
            <a:ext cx="3822480" cy="344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2) Открываем поршень и помещаем пластилин в шприцы. 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349" name="Объект 5" descr=""/>
          <p:cNvPicPr/>
          <p:nvPr/>
        </p:nvPicPr>
        <p:blipFill>
          <a:blip r:embed="rId1"/>
          <a:stretch/>
        </p:blipFill>
        <p:spPr>
          <a:xfrm>
            <a:off x="4572000" y="2816280"/>
            <a:ext cx="4405320" cy="33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Этапы работы 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676440" y="2679480"/>
            <a:ext cx="3822480" cy="344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3) Далее помещаем шприцы в горячую воду, держим не слишком долго так как у пластилина есть свойство таять.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352" name="Объект 5" descr=""/>
          <p:cNvPicPr/>
          <p:nvPr/>
        </p:nvPicPr>
        <p:blipFill>
          <a:blip r:embed="rId1"/>
          <a:stretch/>
        </p:blipFill>
        <p:spPr>
          <a:xfrm>
            <a:off x="4500720" y="2781360"/>
            <a:ext cx="4452840" cy="33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Этапы работы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684360" y="2781000"/>
            <a:ext cx="3822480" cy="344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4) Затем медленно из шприца выдавливаем пластилин на гладкую поверхность.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355" name="Объект 7" descr=""/>
          <p:cNvPicPr/>
          <p:nvPr/>
        </p:nvPicPr>
        <p:blipFill>
          <a:blip r:embed="rId1"/>
          <a:stretch/>
        </p:blipFill>
        <p:spPr>
          <a:xfrm>
            <a:off x="4643280" y="2708280"/>
            <a:ext cx="3780000" cy="370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Этапы работы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57" name="Объект 9" descr=""/>
          <p:cNvPicPr/>
          <p:nvPr/>
        </p:nvPicPr>
        <p:blipFill>
          <a:blip r:embed="rId1"/>
          <a:stretch/>
        </p:blipFill>
        <p:spPr>
          <a:xfrm>
            <a:off x="4932360" y="2708280"/>
            <a:ext cx="3313080" cy="3963960"/>
          </a:xfrm>
          <a:prstGeom prst="rect">
            <a:avLst/>
          </a:prstGeom>
          <a:ln w="0">
            <a:noFill/>
          </a:ln>
        </p:spPr>
      </p:pic>
      <p:sp>
        <p:nvSpPr>
          <p:cNvPr id="358" name=""/>
          <p:cNvSpPr txBox="1"/>
          <p:nvPr/>
        </p:nvSpPr>
        <p:spPr>
          <a:xfrm>
            <a:off x="676440" y="2679480"/>
            <a:ext cx="3822480" cy="344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5) Получаются вот такие красивые и аккуратные жгутики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29T17:24:44Z</dcterms:created>
  <dc:creator>Кудряшка</dc:creator>
  <dc:description/>
  <dc:language>en-US</dc:language>
  <cp:lastModifiedBy>Кудряшка</cp:lastModifiedBy>
  <dcterms:modified xsi:type="dcterms:W3CDTF">2020-03-21T18:08:43Z</dcterms:modified>
  <cp:revision>34</cp:revision>
  <dc:subject/>
  <dc:title>ГБОУ Школа № 2120  Продуктивная деятельность Книга «Времена года»</dc:title>
</cp:coreProperties>
</file>