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10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ED5-902A-46F8-9A6A-5B66C396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B5F-E5A1-4223-B4B7-66214414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93E-6F87-48F9-BDB4-1670908B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6D3-04F2-456F-8492-BB8ACE2E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94B-FE2D-4363-B7A2-1B13D26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96F-A2E9-42BE-8B3C-D15AF21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6AF-43A8-4932-84C8-C46DDEE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E34-BFEA-4596-9532-7319CD15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861-F632-44BE-8594-BF00CC07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FD8-580C-4986-B0D9-FC756D0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930-BFB5-48CB-965E-2386A7A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C05-ACF3-486D-8C12-AC6A4B86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fa0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30F8-0C94-4D41-AF3C-9D31EFE71FA7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fa0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BEA2-345A-48DD-A27D-EE325706C209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lka.pub" TargetMode="External"/><Relationship Id="rId2" Type="http://schemas.openxmlformats.org/officeDocument/2006/relationships/hyperlink" Target="file:///sewernoe%20sianie.pub" TargetMode="External"/><Relationship Id="rId3" Type="http://schemas.openxmlformats.org/officeDocument/2006/relationships/hyperlink" Target="file:///korenie%20giteli%20zapadnoi%20sibiri.doc" TargetMode="External"/><Relationship Id="rId4" Type="http://schemas.openxmlformats.org/officeDocument/2006/relationships/hyperlink" Target="file:///mir%20givotnix%20i%20rasteni%20iugri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«Наша Родина –Югра»</a:t>
            </a:r>
            <a:endParaRPr b="0" lang="en-US" sz="6000" spc="-1" strike="noStrike">
              <a:solidFill>
                <a:srgbClr val="336600"/>
              </a:solidFill>
              <a:latin typeface="Calibri"/>
            </a:endParaRPr>
          </a:p>
        </p:txBody>
      </p:sp>
      <p:grpSp>
        <p:nvGrpSpPr>
          <p:cNvPr id="42" name="Прямоугольник 5"/>
          <p:cNvGrpSpPr/>
          <p:nvPr/>
        </p:nvGrpSpPr>
        <p:grpSpPr>
          <a:xfrm>
            <a:off x="-109440" y="-109440"/>
            <a:ext cx="9362880" cy="7076880"/>
            <a:chOff x="-109440" y="-109440"/>
            <a:chExt cx="9362880" cy="7076880"/>
          </a:xfrm>
        </p:grpSpPr>
        <p:pic>
          <p:nvPicPr>
            <p:cNvPr id="43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109440" y="-109440"/>
              <a:ext cx="9362880" cy="70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2920" y="142920"/>
              <a:ext cx="8858160" cy="65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"/>
              </a:endParaRPr>
            </a:p>
          </p:txBody>
        </p:sp>
      </p:grpSp>
      <p:sp>
        <p:nvSpPr>
          <p:cNvPr id="45" name="TextBox 6"/>
          <p:cNvSpPr/>
          <p:nvPr/>
        </p:nvSpPr>
        <p:spPr>
          <a:xfrm>
            <a:off x="1662840" y="2500200"/>
            <a:ext cx="65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зентация учебного проект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дошкольников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46" name="TextBox 7" descr=""/>
          <p:cNvPicPr/>
          <p:nvPr/>
        </p:nvPicPr>
        <p:blipFill>
          <a:blip r:embed="rId3"/>
          <a:stretch/>
        </p:blipFill>
        <p:spPr>
          <a:xfrm>
            <a:off x="353880" y="5430960"/>
            <a:ext cx="77835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Таисия Чучелина «Сказки Югры»  «наш современник», Москва 1995   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«Ханты-манси, кто мы?» издательство «Стерх» 1993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Привалова Р.В. «Лесные сказки»,  РИИЦ «Нефть Приобъя» Сургут 2001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«Мир животных и растений Югры»  «Сократ» Екатеринбург 2009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Сирелиус У.Т. «Путешествие к хантам», Томск 2001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Лукина Н.В. «Народы Северо-Западной Сибири», Томск 2002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Шешкин П.Е., Шабалина И.Д. «Мансийские орнаменты» Просвещение 2001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Харамзин Т.Г., Хайрулина Н.Г. «Традиционный уклад  и образ жизни обских угров» Москва, «Икор» 2002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Мещ В.А.«Здравствуй Югра!» Ханты – Мансийск 2000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ЛапинаМ.А. «Этика и этикет хантов», Томск 1998, стр.114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Сусой Е.Г. «Из глубины веков», Тюмень1994, стр.173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География Ханты-Мансийского автономного округа : учеб. пособие для 8-9 кл. / сост.: В. В. Бакулин и др. ; под ред.: Э. В. Ким и др. - М. : Экопрос, 1996. - 222с.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Жизнь реки // Сикорская Г. П. Экологическое сафари по Югорскому краю : кн. для доп. образования учащихся 7-9 кл. / Г. П. Сикорская, Г. И. Кушникова. - [Екатеринбург] : Аква-пресс, [2004]. – С. 36-41.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Банников В.Н. «Изобразительное искусство в национальной школе» (методическое пособие. Х.-М.»полиграфист» 2005, 62 стр.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Шесталов Ю . «Ханты. Манси. Кто мы?» Х.-М. «Стерх» 1993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«Лесные сказки» РИИЦ «Нефть Пр».2001 Сургут 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Тарханов А.С., Мартовский С.Б. «Уроки души» Сборник стихов, сказок, праздников Югры. 2005 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Журналы</a:t>
            </a: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: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«В мире растений»</a:t>
            </a: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 ,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«Флора»,«Дошкольное воспитание»,«Обруч»,«Ребенок в детском саду»</a:t>
            </a: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CB7C-C8A7-4D5E-A963-623F484D5D6B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2" descr=""/>
          <p:cNvPicPr/>
          <p:nvPr/>
        </p:nvPicPr>
        <p:blipFill>
          <a:blip r:embed="rId1"/>
          <a:stretch/>
        </p:blipFill>
        <p:spPr>
          <a:xfrm>
            <a:off x="3164040" y="2719440"/>
            <a:ext cx="6138720" cy="2932200"/>
          </a:xfrm>
          <a:prstGeom prst="rect">
            <a:avLst/>
          </a:prstGeom>
          <a:ln w="0">
            <a:noFill/>
          </a:ln>
        </p:spPr>
      </p:pic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078-35C9-4BAE-96FE-EEF22556C0FE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6D6B-2E38-437F-95E2-8CD85F6839B6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96" name="Picture 2" descr="D:\работа\оформление\анимация\607815457.gif"/>
          <p:cNvPicPr/>
          <p:nvPr/>
        </p:nvPicPr>
        <p:blipFill>
          <a:blip r:embed="rId2"/>
          <a:stretch/>
        </p:blipFill>
        <p:spPr>
          <a:xfrm>
            <a:off x="285840" y="285840"/>
            <a:ext cx="4357440" cy="35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ogo_phpBB"/>
          <p:cNvPicPr/>
          <p:nvPr/>
        </p:nvPicPr>
        <p:blipFill>
          <a:blip r:embed="rId3"/>
          <a:stretch/>
        </p:blipFill>
        <p:spPr>
          <a:xfrm>
            <a:off x="357120" y="5357880"/>
            <a:ext cx="84297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работа\оформление\изображения\ханты-манси\600x600,fs-KORCHENKIN-03,02,GK-021.jpg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28632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6" descr=""/>
          <p:cNvPicPr/>
          <p:nvPr/>
        </p:nvPicPr>
        <p:blipFill>
          <a:blip r:embed="rId2"/>
          <a:stretch/>
        </p:blipFill>
        <p:spPr>
          <a:xfrm>
            <a:off x="304920" y="3565440"/>
            <a:ext cx="8553240" cy="2938680"/>
          </a:xfrm>
          <a:prstGeom prst="rect">
            <a:avLst/>
          </a:prstGeom>
          <a:ln w="0">
            <a:noFill/>
          </a:ln>
        </p:spPr>
      </p:pic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915C-D449-4A55-A412-62B0E1851FC5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DBB9-9B7C-4191-8ED5-46D65D263E97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840" y="157176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336600"/>
                </a:solidFill>
                <a:latin typeface="Comic Sans MS"/>
              </a:rPr>
              <a:t>Югорская земля </a:t>
            </a:r>
            <a:r>
              <a:rPr b="1" i="1" lang="ru-RU" sz="2000" spc="-1" strike="noStrike">
                <a:solidFill>
                  <a:srgbClr val="336600"/>
                </a:solidFill>
                <a:latin typeface="Comic Sans MS"/>
              </a:rPr>
              <a:t>-</a:t>
            </a:r>
            <a:r>
              <a:rPr b="0" i="1" lang="ru-RU" sz="2000" spc="-1" strike="noStrike">
                <a:solidFill>
                  <a:srgbClr val="336600"/>
                </a:solidFill>
                <a:latin typeface="Calibri"/>
              </a:rPr>
              <a:t>   это край, удивляющий своей красотой, щедростью и величием. Богатая история Югры, сам дух этой земли, поистине философский и мудрый, располагают к неторопливому повествованию, размышлению о прошлом, настоящем и будущем. </a:t>
            </a:r>
            <a:br>
              <a:rPr sz="2000"/>
            </a:br>
            <a:r>
              <a:rPr b="0" i="1" lang="ru-RU" sz="2000" spc="-1" strike="noStrike">
                <a:solidFill>
                  <a:srgbClr val="336600"/>
                </a:solidFill>
                <a:latin typeface="Calibri"/>
              </a:rPr>
              <a:t>Мы обязаны сохранить для потомков это бесценное наследство, сделать его основой новейшей истории края, который мы с гордостью называем своей родиной. </a:t>
            </a:r>
            <a:br>
              <a:rPr sz="2000"/>
            </a:br>
            <a:r>
              <a:rPr b="0" i="1" lang="ru-RU" sz="2000" spc="-1" strike="noStrike">
                <a:solidFill>
                  <a:srgbClr val="336600"/>
                </a:solidFill>
                <a:latin typeface="Calibri"/>
              </a:rPr>
              <a:t>       Наш проект направлен на ознакомление детей с ЮГРОЙ, с родным краем, с малой Родиной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336600"/>
                </a:solidFill>
                <a:latin typeface="Calibri"/>
              </a:rPr>
              <a:t>Проект включает в себя материалы для занятий с детьми, множество консультаций для родителей, презентации и игры для детей. Дети узнают историю нашего края, города Сургута,  познакомятся с растениями и животными тайги, узнают много интересного о жизни и традициях коренных жителей – ханты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370D-7345-4702-B6DD-9C31C47DE3AC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4574-6D52-4878-9BD4-322C5B00AD0C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4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1"/>
          <a:stretch/>
        </p:blipFill>
        <p:spPr>
          <a:xfrm>
            <a:off x="8010360" y="103320"/>
            <a:ext cx="841680" cy="98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2"/>
          <a:stretch/>
        </p:blipFill>
        <p:spPr>
          <a:xfrm>
            <a:off x="4011480" y="103320"/>
            <a:ext cx="841680" cy="98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3"/>
          <a:stretch/>
        </p:blipFill>
        <p:spPr>
          <a:xfrm>
            <a:off x="5724360" y="103320"/>
            <a:ext cx="1266840" cy="105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4"/>
          <a:stretch/>
        </p:blipFill>
        <p:spPr>
          <a:xfrm>
            <a:off x="4797360" y="103320"/>
            <a:ext cx="974880" cy="76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5"/>
          <a:stretch/>
        </p:blipFill>
        <p:spPr>
          <a:xfrm>
            <a:off x="6724800" y="79200"/>
            <a:ext cx="147456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mic Sans MS"/>
              </a:rPr>
              <a:t>Цель проекта: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56800" y="2071800"/>
            <a:ext cx="73580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Формирование у детей старшего дошкольного возраста знаний о родном крае. Воспитание любви к малой родине, интереса к родному краю и искусству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 народов Севера.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FD16-B8F2-40FB-B1DF-DE78D0E5ED4E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EB63-EE8B-4B0E-82DC-69C634CB37C2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63" name="Picture 2" descr="D:\работа\оформление\изображения\ханты-манси\20050318200224_10-olen - копия (4).jpg"/>
          <p:cNvPicPr/>
          <p:nvPr/>
        </p:nvPicPr>
        <p:blipFill>
          <a:blip r:embed="rId1"/>
          <a:stretch/>
        </p:blipFill>
        <p:spPr>
          <a:xfrm>
            <a:off x="4992840" y="3992400"/>
            <a:ext cx="3608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mic Sans MS"/>
              </a:rPr>
              <a:t>Задачи проекта: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8568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Ознакомление детей с историей и культурой родного края.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Дать представление о растительном и животном мире Югры.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Развивать эстетический вкус, творческую активность.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00D6-9454-407A-AB1D-B6041D3C8670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BFF-1F11-4D3A-8D06-78B93E99E639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68" name="Picture 4" descr="D:\работа\оформление\картинки открытки\Мои рисунки\d6ea83844336c866d76cd6826b37b4bb.gif"/>
          <p:cNvPicPr/>
          <p:nvPr/>
        </p:nvPicPr>
        <p:blipFill>
          <a:blip r:embed="rId1"/>
          <a:stretch/>
        </p:blipFill>
        <p:spPr>
          <a:xfrm>
            <a:off x="6215040" y="3786120"/>
            <a:ext cx="2214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mic Sans MS"/>
              </a:rPr>
              <a:t>Основополагающий вопрос: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85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С чего начинается Родина?</a:t>
            </a: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0CF0-F763-446E-98B3-043A7E81C80B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249-9E0D-43F9-982D-BB2BFCCF3DDD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3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1"/>
          <a:stretch/>
        </p:blipFill>
        <p:spPr>
          <a:xfrm>
            <a:off x="4280040" y="2494080"/>
            <a:ext cx="43704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mic Sans MS"/>
              </a:rPr>
              <a:t>Проблемные вопросы: </a:t>
            </a:r>
            <a:br>
              <a:rPr sz="4000"/>
            </a:b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288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Что такое Родина? 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Что мы знаем о Родине? 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Чем мы отличаемся от ханты?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Кто основал наш город?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Растет ли пальма в тайге?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Что общего у хантыйских и русских сказок? 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E1EE-55EC-43E4-A36A-F006F2877F52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D32-F21C-41D3-A82D-57F2C0137AC7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78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1"/>
          <a:stretch/>
        </p:blipFill>
        <p:spPr>
          <a:xfrm>
            <a:off x="7223040" y="2176560"/>
            <a:ext cx="1976400" cy="1693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2"/>
          <a:stretch/>
        </p:blipFill>
        <p:spPr>
          <a:xfrm>
            <a:off x="7943760" y="3462480"/>
            <a:ext cx="1114560" cy="98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:\Documents and Settings\Aida\Рабочий стол\текстуры и фоны, клипарты\новеньки картинки\lily2.gif"/>
          <p:cNvPicPr/>
          <p:nvPr/>
        </p:nvPicPr>
        <p:blipFill>
          <a:blip r:embed="rId3"/>
          <a:stretch/>
        </p:blipFill>
        <p:spPr>
          <a:xfrm>
            <a:off x="8010360" y="1609560"/>
            <a:ext cx="104796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mic Sans MS"/>
              </a:rPr>
              <a:t>Этапы работы: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1. Изучение и анализ теоретических источников, освещающих темы: «Природа Югры», «Сказки Югры», «Искусство народов Севера»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2. Формулирование целей и задач исследования.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3. Разработка перспективного плана образовательной работы по теме «С чего начинается Родина?»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4. Разработка конспектов занятий и развлечений по теме, художественной литературы для детей.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5. Подборка и разработка консультаций для воспитателей и родителей.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6. Подборка видеофильмов,  наглядного материала к занятиям.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7. Разработка и изготовление дидактического материала к практическим занятиям.</a:t>
            </a:r>
            <a:br>
              <a:rPr sz="1800"/>
            </a:b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8. Разработка и планирование экскурсионных мероприятий.</a:t>
            </a:r>
            <a:br>
              <a:rPr sz="1800"/>
            </a:b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9.  Апробирование и корректировка перспективного плана.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10. Оформление выставки детских работ «Палитра Югры»</a:t>
            </a: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	</a:t>
            </a:r>
            <a:br>
              <a:rPr sz="1800"/>
            </a:br>
            <a:r>
              <a:rPr b="1" i="1" lang="ru-RU" sz="1800" spc="-1" strike="noStrike">
                <a:solidFill>
                  <a:srgbClr val="336600"/>
                </a:solidFill>
                <a:latin typeface="Calibri"/>
              </a:rPr>
              <a:t>11. Проведение праздника для детей с привлечением родителей «Моя малая Родина», создание книги «Сказки Югры».</a:t>
            </a: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DA3C-CFDC-4599-9AEE-548B4F5AD0A3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A18-D801-45D7-A58B-5DB41874F6BB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Материалы к учебному проекту: </a:t>
            </a:r>
            <a:br>
              <a:rPr sz="3600"/>
            </a:br>
            <a:endParaRPr b="0" lang="en-US" sz="36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6972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Визитка проекта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Презентация проекта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убликации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азета для родителей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онсультации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Презентации дл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едагогов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и детей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Игры, кроссворды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336600"/>
                </a:solidFill>
                <a:latin typeface="Calibri"/>
              </a:rPr>
              <a:t>Викторина</a:t>
            </a:r>
            <a:endParaRPr b="0" lang="en-US" sz="28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Галерея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Конспекты занятий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C2DE-C5E8-4098-A21A-E3EA915B390C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43:05Z</dcterms:created>
  <dc:creator>admin</dc:creator>
  <dc:description>http://aida.ucoz.ru</dc:description>
  <dc:language>en-US</dc:language>
  <cp:lastModifiedBy>1</cp:lastModifiedBy>
  <dcterms:modified xsi:type="dcterms:W3CDTF">2020-03-30T11:13:41Z</dcterms:modified>
  <cp:revision>33</cp:revision>
  <dc:subject/>
  <dc:title>«Наш край – Югра»</dc:title>
</cp:coreProperties>
</file>