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9C1-F8BE-4AFA-8E79-D215608B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58D-CD08-4C37-B19C-C3C90261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D6B-321D-4A2B-B0A9-45099513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32D-1D17-4EF4-AD3E-5744E555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AF86D-42C3-457B-B97F-D4F649A4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A6B77-90B3-4010-8D97-9DA6EAF2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B66AD-B3AD-429C-BEAE-EA79B432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1FDE1-20D9-421B-A6A4-DE4A0229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2391A-E2FC-4435-839E-8A4DB42A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4A66D-556C-456D-93E4-3D8363C2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8C7B3-9D61-4860-9D00-487658AE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BAA-40E0-4F86-8B9E-5360B03C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65E16-C9CF-49AF-93E9-A014F3A1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535D2-37E5-4E00-89D6-B6FB45D9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A4E3A-A551-4975-9C67-60A325B8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90E1C-AB21-4A09-A590-A26BF458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8CEF9-2247-432F-924C-324A16B9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43AC-F95C-42B7-81A0-6DFFB7F3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3DDA-68E3-4C17-889B-290CFC58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7F9A-2C53-4077-8381-3496C5BB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048B-5FBC-4EC7-A4DF-6DD52155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CBA9-8E53-4972-9C1C-46D18ED6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811-5DC7-4906-BA5D-5371673A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27CA-92A0-4CBF-9894-21B5830F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3642-61E3-401E-9A2F-BB40906F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E6A5-A7AA-4ABD-B069-A411E28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F2DA-E4FB-4D7A-891F-AD8379B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8D54-B6FF-47C5-8B18-FB5A713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E8CC-0869-4FBF-9C15-AC6F813C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350A-25D2-4FA2-A5CB-CC059419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833-C466-4DA3-9EA6-BC441E74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FD8-F9F0-4554-89D6-A07BF87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ECE-1BB8-4D71-A2B8-4EE8F8CB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76D-EABA-43F1-8668-4392827D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74D-5D61-4E89-ACA5-29F388A4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1B8-6EC1-43CD-A031-378D780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AB9536D-9B5D-4CA1-98F8-828E97DD45D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35FBE9E-61CF-4295-9DBC-C11DD78AFB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B45CDC-4244-4D80-8C2F-A5A80D8D78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08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 cap="small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 cap="small">
                <a:solidFill>
                  <a:srgbClr val="0070c0"/>
                </a:solidFill>
                <a:latin typeface="Century Schoolbook"/>
              </a:rPr>
              <a:t>МАДОУ ДСКВ «Сказка»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2015640" y="1412640"/>
            <a:ext cx="511236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«Ребёнок- главный пассажи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4865040" y="5214960"/>
            <a:ext cx="3993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втор:  Просекова Т.Г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"/>
          <p:cNvPicPr/>
          <p:nvPr/>
        </p:nvPicPr>
        <p:blipFill>
          <a:blip r:embed="rId1"/>
          <a:stretch/>
        </p:blipFill>
        <p:spPr>
          <a:xfrm>
            <a:off x="3062880" y="2952360"/>
            <a:ext cx="301752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Овал 1"/>
          <p:cNvSpPr/>
          <p:nvPr/>
        </p:nvSpPr>
        <p:spPr>
          <a:xfrm>
            <a:off x="323640" y="188640"/>
            <a:ext cx="3744000" cy="1151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4. Дидактически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23640" y="1628640"/>
            <a:ext cx="3600000" cy="4752000"/>
          </a:xfrm>
          <a:prstGeom prst="rect">
            <a:avLst/>
          </a:prstGeom>
          <a:solidFill>
            <a:schemeClr val="bg2"/>
          </a:solidFill>
          <a:ln>
            <a:solidFill>
              <a:srgbClr val="fff39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Законы улиц и доро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Летает, едет, плы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оставь нужный дорожный зн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Четвертый лишний» (транспорт, дорожные зна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Что ты будешь делать, есл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Угадай, какой зн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збука безопас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утешествие в Страну зна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3"/>
          <p:cNvSpPr/>
          <p:nvPr/>
        </p:nvSpPr>
        <p:spPr>
          <a:xfrm>
            <a:off x="5292000" y="188640"/>
            <a:ext cx="3456000" cy="1079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5. Сюжетно -ролевы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5292000" y="1484640"/>
            <a:ext cx="3456000" cy="2160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ешеходы и водите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Служба спас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Железнодорожный переез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Регулировщик и автомоби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втоб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Я шоф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5"/>
          <p:cNvSpPr/>
          <p:nvPr/>
        </p:nvSpPr>
        <p:spPr>
          <a:xfrm>
            <a:off x="5292000" y="3861000"/>
            <a:ext cx="3456000" cy="575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6. Развл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5292000" y="4725000"/>
            <a:ext cx="3456000" cy="1728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aebad5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риключения  смешариков на дор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Дорожные зна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Лучший пешех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1331640" y="260640"/>
            <a:ext cx="662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Ребёнок- главный пасса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719640" y="836640"/>
            <a:ext cx="770436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5"/>
          <p:cNvSpPr/>
          <p:nvPr/>
        </p:nvSpPr>
        <p:spPr>
          <a:xfrm>
            <a:off x="467640" y="548640"/>
            <a:ext cx="777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и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роект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ворческо –информ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448200" y="1010520"/>
            <a:ext cx="813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родолжительность проект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нтябрь – октябрь 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467640" y="2058480"/>
            <a:ext cx="8280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Участники проекта: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ти   группы «Мальвина», воспитатели, творческая группа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539640" y="4357800"/>
            <a:ext cx="2174760" cy="1856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"/>
          <p:cNvPicPr/>
          <p:nvPr/>
        </p:nvPicPr>
        <p:blipFill>
          <a:blip r:embed="rId2"/>
          <a:stretch/>
        </p:blipFill>
        <p:spPr>
          <a:xfrm>
            <a:off x="6500880" y="4214880"/>
            <a:ext cx="2083680" cy="19285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"/>
          <p:cNvPicPr/>
          <p:nvPr/>
        </p:nvPicPr>
        <p:blipFill>
          <a:blip r:embed="rId3"/>
          <a:stretch/>
        </p:blipFill>
        <p:spPr>
          <a:xfrm>
            <a:off x="3616200" y="3805920"/>
            <a:ext cx="1935720" cy="12787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"/>
          <p:cNvPicPr/>
          <p:nvPr/>
        </p:nvPicPr>
        <p:blipFill>
          <a:blip r:embed="rId4"/>
          <a:stretch/>
        </p:blipFill>
        <p:spPr>
          <a:xfrm>
            <a:off x="3591720" y="5229360"/>
            <a:ext cx="196020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4"/>
          <p:cNvSpPr/>
          <p:nvPr/>
        </p:nvSpPr>
        <p:spPr>
          <a:xfrm>
            <a:off x="251640" y="476640"/>
            <a:ext cx="8712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ть условия для обогащения детей знаниями о безопасном поведении на дороге;  развивать совместное творчество детей, родителей,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59640" y="2133000"/>
            <a:ext cx="84967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учение и закрепление элементарных правил дорожного       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ширение знаний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предметно-развивающей среды в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паганда знаний по безопасному поведению сред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411640" y="332640"/>
            <a:ext cx="410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Этапы работы над проек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350280" y="1163520"/>
            <a:ext cx="7560360" cy="57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Подготовительный  эта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Подбор материала по правилам дорожного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Рассматривание рисунков, фотографий  картин о дорожных  ситу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накомство с литературными произведениями: Б. Житков «Светоф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. Кончаловская «Самокат», О. Бедарев «Если бы», «Азбука безопас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Я. Пишумов «Песенка о правилах», «Машина моя», И. Лешкевич «Гололед», Н. Носов « Приключение незнайки и его друзей», И. Серя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« Улица, где все спеша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зготовление дидактических игр по ПД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спользование иг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дидактических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«Законы улиц и дорог», «Летает, едет, плывет», « Азбука безопасности»,  «Четвертый лишний» (транспорт, дорожные знаки), «Что ты будешь делать, если…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«Путешествие в Страну знаков», «Пройди по улицам го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одвижных: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«Воробышки и автомобиль», «Цветные автомобили», «Ловкий пешеход», «Пешеходы и транспорт»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 Просмотр передач «Азбука безопас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7.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Составление планов   авто горо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611640" y="548640"/>
            <a:ext cx="72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сновной этап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ведение мероприятий по  образовательной области «Безопасность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ыгрывание дидактических и подвижных игр по ПД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ешение игров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емонт велосип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формление фойе нижнего эта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611640" y="2565000"/>
            <a:ext cx="777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Заключительны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зентация авто городка и его обыгр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3" descr=""/>
          <p:cNvPicPr/>
          <p:nvPr/>
        </p:nvPicPr>
        <p:blipFill>
          <a:blip r:embed="rId1"/>
          <a:stretch/>
        </p:blipFill>
        <p:spPr>
          <a:xfrm>
            <a:off x="592560" y="3573000"/>
            <a:ext cx="3259080" cy="2484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5" descr=""/>
          <p:cNvPicPr/>
          <p:nvPr/>
        </p:nvPicPr>
        <p:blipFill>
          <a:blip r:embed="rId2"/>
          <a:stretch/>
        </p:blipFill>
        <p:spPr>
          <a:xfrm>
            <a:off x="5004000" y="3645000"/>
            <a:ext cx="3240000" cy="24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971640" y="116640"/>
            <a:ext cx="720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 ходе реализации проекта были использованы следующие форм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5"/>
          <p:cNvSpPr/>
          <p:nvPr/>
        </p:nvSpPr>
        <p:spPr>
          <a:xfrm>
            <a:off x="3129840" y="3539520"/>
            <a:ext cx="2884320" cy="791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1.Бесе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251640" y="1900800"/>
            <a:ext cx="1620000" cy="935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Азбука  пешех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7"/>
          <p:cNvSpPr/>
          <p:nvPr/>
        </p:nvSpPr>
        <p:spPr>
          <a:xfrm>
            <a:off x="3024000" y="5013000"/>
            <a:ext cx="2664000" cy="12679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Улица полна неожиданнос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51640" y="3299760"/>
            <a:ext cx="2124000" cy="15559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ак переходить дорогу зим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9"/>
          <p:cNvSpPr/>
          <p:nvPr/>
        </p:nvSpPr>
        <p:spPr>
          <a:xfrm>
            <a:off x="6948360" y="1772640"/>
            <a:ext cx="2016000" cy="935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ы транспор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0"/>
          <p:cNvSpPr/>
          <p:nvPr/>
        </p:nvSpPr>
        <p:spPr>
          <a:xfrm>
            <a:off x="7020360" y="3299760"/>
            <a:ext cx="1872000" cy="15559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пасные ситуации на дорог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1"/>
          <p:cNvSpPr/>
          <p:nvPr/>
        </p:nvSpPr>
        <p:spPr>
          <a:xfrm>
            <a:off x="3276000" y="1484640"/>
            <a:ext cx="2412000" cy="1223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ешеход на ули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2"/>
          <p:cNvSpPr/>
          <p:nvPr/>
        </p:nvSpPr>
        <p:spPr>
          <a:xfrm>
            <a:off x="503640" y="5393160"/>
            <a:ext cx="2138040" cy="1295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Безопасный перекрёс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3"/>
          <p:cNvSpPr/>
          <p:nvPr/>
        </p:nvSpPr>
        <p:spPr>
          <a:xfrm>
            <a:off x="6156000" y="5350320"/>
            <a:ext cx="2016000" cy="1367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ешеходы и водите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1"/>
          <p:cNvSpPr/>
          <p:nvPr/>
        </p:nvSpPr>
        <p:spPr>
          <a:xfrm>
            <a:off x="3059280" y="3557520"/>
            <a:ext cx="3094560" cy="187200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rgbClr val="ff0000"/>
              </a:solidFill>
              <a:latin typeface="Century Schoolbook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1403640" y="188640"/>
            <a:ext cx="6336360" cy="1439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7598d9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Познание ( ознакомление с окружающим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О чём говорят дорожные знаки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Улицы нашего  посёл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Улица полна неожиданност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равила и безопасность дорожного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3276000" y="1845000"/>
            <a:ext cx="2592000" cy="155340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Рис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Дорога и тротуа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Машины на дор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323640" y="4841280"/>
            <a:ext cx="2735280" cy="18000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solidFill>
              <a:srgbClr val="fff39d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по апплика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Мой любимый дорожный зн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втобус на нашей улиц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6114600" y="4841280"/>
            <a:ext cx="2838600" cy="1800000"/>
          </a:xfrm>
          <a:prstGeom prst="rect">
            <a:avLst/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по ручному тру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втобу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Автомоби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Пешеходная дорож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3276000" y="3717000"/>
            <a:ext cx="266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2. Непосредственная  образов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8"/>
          <p:cNvSpPr/>
          <p:nvPr/>
        </p:nvSpPr>
        <p:spPr>
          <a:xfrm>
            <a:off x="3207960" y="4547880"/>
            <a:ext cx="2799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Художественное твор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Овал 1"/>
          <p:cNvSpPr/>
          <p:nvPr/>
        </p:nvSpPr>
        <p:spPr>
          <a:xfrm>
            <a:off x="1763640" y="188640"/>
            <a:ext cx="5544360" cy="143964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.Непосредственная  образователь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1151640" y="1772640"/>
            <a:ext cx="6840360" cy="2304000"/>
          </a:xfrm>
          <a:prstGeom prst="rect">
            <a:avLst/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f5cd2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          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Коммуникация и 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Рассказывание по серии картинок «Улицы г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Сюжетный рассказ по картинам С. Волкова «Кропоткинская», Ю. Пименова «Новая Моск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Чтение стихотворений А. Суворин «По переходу», В. Семернин «Запрещается - разрешае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1121760" y="4869000"/>
            <a:ext cx="6900120" cy="15116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575f6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Schoolbook"/>
              </a:rPr>
              <a:t>	</a:t>
            </a:r>
            <a:r>
              <a:rPr b="0" lang="ru-RU" sz="1800" spc="-1" strike="noStrike">
                <a:solidFill>
                  <a:schemeClr val="lt1"/>
                </a:solidFill>
                <a:latin typeface="Century Schoolbook"/>
              </a:rPr>
              <a:t>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Познание (ФЭМ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Измерение тротуара и проезжей ч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Ориентировка на улицах г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«Решение задач «Машины в гараж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вал 1"/>
          <p:cNvSpPr/>
          <p:nvPr/>
        </p:nvSpPr>
        <p:spPr>
          <a:xfrm>
            <a:off x="2771640" y="2349000"/>
            <a:ext cx="3888000" cy="1944000"/>
          </a:xfrm>
          <a:prstGeom prst="ellipse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3. Чтение художестве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251640" y="1412640"/>
            <a:ext cx="1872000" cy="791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. Житков «Светоф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3564000" y="332640"/>
            <a:ext cx="2016000" cy="827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. Кончаловская «Сам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6721920" y="932040"/>
            <a:ext cx="2016000" cy="14162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. Бедарев «Если бы»,  «Азбука безопас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51640" y="3213000"/>
            <a:ext cx="2448000" cy="1079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Я. Пишумов «Песенка о правилах», «Машина мо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3384000" y="5324040"/>
            <a:ext cx="2376000" cy="791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. Лешкевич «Гололе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6721920" y="3213000"/>
            <a:ext cx="2098080" cy="1439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Schoolbook"/>
              </a:rPr>
              <a:t>Н. Но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Schoolbook"/>
              </a:rPr>
              <a:t>«Приключение незнайки и его друз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251640" y="4941000"/>
            <a:ext cx="2016000" cy="1007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. Серяков «Улица, где все спеш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6721920" y="5301360"/>
            <a:ext cx="2088000" cy="647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solidFill>
              <a:srgbClr val="777c84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. Маршак «Светоф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447</TotalTime>
  <Application>LibreOffice/7.4.7.2$Linux_X86_64 LibreOffice_project/40$Build-2</Application>
  <AppVersion>15.0000</AppVersion>
  <Words>720</Words>
  <Paragraphs>115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6:04:17Z</dcterms:created>
  <dc:creator>User</dc:creator>
  <dc:description/>
  <dc:language>en-US</dc:language>
  <cp:lastModifiedBy>1</cp:lastModifiedBy>
  <dcterms:modified xsi:type="dcterms:W3CDTF">2020-04-04T15:07:36Z</dcterms:modified>
  <cp:revision>53</cp:revision>
  <dc:subject/>
  <dc:title>МАДОУ детский сад № 37 «Журавлик» комбинированного вида г. Дрезна Орехово-Зуевский район Московской област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