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70D-C70B-4F88-B3E0-3069757F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BD9-EC18-42EE-8F44-AD95AC74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776-5D0B-4F4E-ACEF-CB544670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46B1-1795-4DF4-93CE-8921220B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77852-DDD0-4EAB-B22F-741520E7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363E6-4DFB-40C9-AD01-106AA28E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8EAED-52B5-4A74-B75A-C407355D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C1DDA-2E66-4C0D-B5C3-CD833A69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5C1AA-842C-4EB9-97EC-CD2467DF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2F251-1392-4775-97AD-C3871D4B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E120C-C962-4A8F-947E-4D7F2ECB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FAB-EAFE-4B05-BD99-80F58137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5694F-F5EB-485C-815A-2A6B1AD7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E87E0-D2F6-4341-8FE0-B88F42A3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7A541-F7ED-4FC8-BC20-1621AEC1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50E90-5C25-4C37-B896-F2C4B4E3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23067-0BC4-4130-9540-5C5F01CC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39192-26B2-41B2-8208-86FDFAC3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9789-0C34-43CD-87DA-9825F313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8C461-12F2-48D8-A6C8-F1DA1660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96886-F0AC-40C2-8F7D-A5708232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5D0E-6944-4029-9723-78367565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B79-BA91-42A1-9547-F3560C14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638E6-204C-48AC-ACDB-82E49477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BD92B-AC14-4CB6-ADFA-0AFE5B0A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CB8F8-1209-46AA-9B7F-DFE9AAB6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46233-972E-47F6-A1A4-16CC9267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2DBE-9CD3-48A4-AAEB-F3E88072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470FA-578B-42F8-BFBD-13BC94E1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7A5BF-352A-45FA-859F-903383BD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2AF-99F8-4049-9BE6-A47491CC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B36-9970-43FF-8CB0-37C0B382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526-4DB1-49C0-8A08-E6606427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C75-0080-46A0-83A3-99A5F78B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149-0278-406B-8907-BF76DC59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A2B-A0BE-48CC-9351-E07282A5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92F0054-0194-4486-9A9F-95ECD9261F6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7D05598-6966-4CEB-93D1-1A4588303CF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1A74D81-0B56-4CFF-9E94-AD87DDBA179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08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 cap="small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400" spc="-1" strike="noStrike" cap="small">
                <a:solidFill>
                  <a:srgbClr val="0070c0"/>
                </a:solidFill>
                <a:latin typeface="Century Schoolbook"/>
              </a:rPr>
              <a:t>МАДОУ ДСКВ «Сказка»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2015640" y="1412640"/>
            <a:ext cx="511236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«Ребёнок- главный пассажи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4865040" y="5214960"/>
            <a:ext cx="3993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втор:  Просекова Т.Г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4" descr=""/>
          <p:cNvPicPr/>
          <p:nvPr/>
        </p:nvPicPr>
        <p:blipFill>
          <a:blip r:embed="rId1"/>
          <a:stretch/>
        </p:blipFill>
        <p:spPr>
          <a:xfrm>
            <a:off x="3062880" y="2952360"/>
            <a:ext cx="3017520" cy="23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Овал 1"/>
          <p:cNvSpPr/>
          <p:nvPr/>
        </p:nvSpPr>
        <p:spPr>
          <a:xfrm>
            <a:off x="323640" y="188640"/>
            <a:ext cx="3744000" cy="1151640"/>
          </a:xfrm>
          <a:prstGeom prst="ellipse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4. Дидактические иг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323640" y="1628640"/>
            <a:ext cx="3600000" cy="4752000"/>
          </a:xfrm>
          <a:prstGeom prst="rect">
            <a:avLst/>
          </a:prstGeom>
          <a:solidFill>
            <a:schemeClr val="bg2"/>
          </a:solidFill>
          <a:ln>
            <a:solidFill>
              <a:srgbClr val="fff39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Законы улиц и доро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Летает, едет, плыв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Поставь нужный дорожный зна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Четвертый лишний» (транспорт, дорожные зна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Что ты будешь делать, если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Угадай, какой зна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Азбука безопас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Путешествие в Страну зна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3"/>
          <p:cNvSpPr/>
          <p:nvPr/>
        </p:nvSpPr>
        <p:spPr>
          <a:xfrm>
            <a:off x="5292000" y="188640"/>
            <a:ext cx="3456000" cy="1079640"/>
          </a:xfrm>
          <a:prstGeom prst="ellipse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5. Сюжетно -ролевые иг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"/>
          <p:cNvSpPr/>
          <p:nvPr/>
        </p:nvSpPr>
        <p:spPr>
          <a:xfrm>
            <a:off x="5292000" y="1484640"/>
            <a:ext cx="3456000" cy="2160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Пешеходы и водите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Служба спас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Железнодорожный переез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Регулировщик и автомоби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Автобу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Я шоф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5"/>
          <p:cNvSpPr/>
          <p:nvPr/>
        </p:nvSpPr>
        <p:spPr>
          <a:xfrm>
            <a:off x="5292000" y="3861000"/>
            <a:ext cx="3456000" cy="575640"/>
          </a:xfrm>
          <a:prstGeom prst="ellipse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6. Развле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6"/>
          <p:cNvSpPr/>
          <p:nvPr/>
        </p:nvSpPr>
        <p:spPr>
          <a:xfrm>
            <a:off x="5292000" y="4725000"/>
            <a:ext cx="3456000" cy="172800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aebad5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Приключения  смешариков на дорог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Дорожные зна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Лучший пешехо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"/>
          <p:cNvSpPr/>
          <p:nvPr/>
        </p:nvSpPr>
        <p:spPr>
          <a:xfrm>
            <a:off x="1331640" y="260640"/>
            <a:ext cx="662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Ребёнок- главный пассаж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719640" y="836640"/>
            <a:ext cx="7704360" cy="51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5"/>
          <p:cNvSpPr/>
          <p:nvPr/>
        </p:nvSpPr>
        <p:spPr>
          <a:xfrm>
            <a:off x="467640" y="548640"/>
            <a:ext cx="777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ид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проект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ворческо –информа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448200" y="1010520"/>
            <a:ext cx="8136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Продолжительность проект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нтябрь – октябрь 201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467640" y="2058480"/>
            <a:ext cx="8280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Участники проекта: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ти   группы «Мальвина», воспитатели, творческая группа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" descr=""/>
          <p:cNvPicPr/>
          <p:nvPr/>
        </p:nvPicPr>
        <p:blipFill>
          <a:blip r:embed="rId1"/>
          <a:stretch/>
        </p:blipFill>
        <p:spPr>
          <a:xfrm>
            <a:off x="539640" y="4357800"/>
            <a:ext cx="2174760" cy="18568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3" descr=""/>
          <p:cNvPicPr/>
          <p:nvPr/>
        </p:nvPicPr>
        <p:blipFill>
          <a:blip r:embed="rId2"/>
          <a:stretch/>
        </p:blipFill>
        <p:spPr>
          <a:xfrm>
            <a:off x="6500880" y="4214880"/>
            <a:ext cx="2083680" cy="19285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"/>
          <p:cNvPicPr/>
          <p:nvPr/>
        </p:nvPicPr>
        <p:blipFill>
          <a:blip r:embed="rId3"/>
          <a:stretch/>
        </p:blipFill>
        <p:spPr>
          <a:xfrm>
            <a:off x="3616200" y="3805920"/>
            <a:ext cx="1935720" cy="12787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"/>
          <p:cNvPicPr/>
          <p:nvPr/>
        </p:nvPicPr>
        <p:blipFill>
          <a:blip r:embed="rId4"/>
          <a:stretch/>
        </p:blipFill>
        <p:spPr>
          <a:xfrm>
            <a:off x="3591720" y="5229360"/>
            <a:ext cx="196020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4"/>
          <p:cNvSpPr/>
          <p:nvPr/>
        </p:nvSpPr>
        <p:spPr>
          <a:xfrm>
            <a:off x="251640" y="476640"/>
            <a:ext cx="8712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дать условия для обогащения детей знаниями о безопасном поведении на дороге;  развивать совместное творчество детей, родителей,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359640" y="2133000"/>
            <a:ext cx="84967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учение и закрепление элементарных правил дорожного       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ширение знаний по за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гащение предметно-развивающей среды в груп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паганда знаний по безопасному поведению среди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2411640" y="332640"/>
            <a:ext cx="4104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Этапы работы над проек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350280" y="1163520"/>
            <a:ext cx="7560360" cy="57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Подготовительный  эта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Подбор материала по правилам дорожного дви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Рассматривание рисунков, фотографий  картин о дорожных  ситуац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Знакомство с литературными произведениями: Б. Житков «Светоф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. Кончаловская «Самокат», О. Бедарев «Если бы», «Азбука безопас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Я. Пишумов «Песенка о правилах», «Машина моя», И. Лешкевич «Гололед», Н. Носов « Приключение незнайки и его друзей», И. Серя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« Улица, где все спеша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зготовление дидактических игр по ПД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спользование иг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дидактических: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«Законы улиц и дорог», «Летает, едет, плывет», « Азбука безопасности»,  «Четвертый лишний» (транспорт, дорожные знаки), «Что ты будешь делать, если…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«Путешествие в Страну знаков», «Пройди по улицам горо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подвижных: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«Воробышки и автомобиль», «Цветные автомобили», «Ловкий пешеход», «Пешеходы и транспорт»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. Просмотр передач «Азбука безопас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7.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 Составление планов   авто горо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611640" y="548640"/>
            <a:ext cx="720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сновной этап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ведение мероприятий по  образовательной области «Безопасность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быгрывание дидактических и подвижных игр по ПД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ешение игровых ситу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емонт велосипе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формление фойе нижнего этаж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611640" y="2565000"/>
            <a:ext cx="777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Заключительный эта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езентация авто городка и его обыгр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3" descr=""/>
          <p:cNvPicPr/>
          <p:nvPr/>
        </p:nvPicPr>
        <p:blipFill>
          <a:blip r:embed="rId1"/>
          <a:stretch/>
        </p:blipFill>
        <p:spPr>
          <a:xfrm>
            <a:off x="592560" y="3573000"/>
            <a:ext cx="3259080" cy="24840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5" descr=""/>
          <p:cNvPicPr/>
          <p:nvPr/>
        </p:nvPicPr>
        <p:blipFill>
          <a:blip r:embed="rId2"/>
          <a:stretch/>
        </p:blipFill>
        <p:spPr>
          <a:xfrm>
            <a:off x="5004000" y="3645000"/>
            <a:ext cx="3240000" cy="24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971640" y="116640"/>
            <a:ext cx="720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 ходе реализации проекта были использованы следующие форм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5"/>
          <p:cNvSpPr/>
          <p:nvPr/>
        </p:nvSpPr>
        <p:spPr>
          <a:xfrm>
            <a:off x="3129840" y="3539520"/>
            <a:ext cx="2884320" cy="791640"/>
          </a:xfrm>
          <a:prstGeom prst="ellipse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1.Бесе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251640" y="1900800"/>
            <a:ext cx="1620000" cy="935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Азбука  пешех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7"/>
          <p:cNvSpPr/>
          <p:nvPr/>
        </p:nvSpPr>
        <p:spPr>
          <a:xfrm>
            <a:off x="3024000" y="5013000"/>
            <a:ext cx="2664000" cy="126792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Улица полна неожиданност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251640" y="3299760"/>
            <a:ext cx="2124000" cy="155592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ак переходить дорогу зим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9"/>
          <p:cNvSpPr/>
          <p:nvPr/>
        </p:nvSpPr>
        <p:spPr>
          <a:xfrm>
            <a:off x="6948360" y="1772640"/>
            <a:ext cx="2016000" cy="935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иды транспор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0"/>
          <p:cNvSpPr/>
          <p:nvPr/>
        </p:nvSpPr>
        <p:spPr>
          <a:xfrm>
            <a:off x="7020360" y="3299760"/>
            <a:ext cx="1872000" cy="155592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пасные ситуации на дорог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1"/>
          <p:cNvSpPr/>
          <p:nvPr/>
        </p:nvSpPr>
        <p:spPr>
          <a:xfrm>
            <a:off x="3276000" y="1484640"/>
            <a:ext cx="2412000" cy="1223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ешеход на улиц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2"/>
          <p:cNvSpPr/>
          <p:nvPr/>
        </p:nvSpPr>
        <p:spPr>
          <a:xfrm>
            <a:off x="503640" y="5393160"/>
            <a:ext cx="2138040" cy="1295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Безопасный перекрёс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3"/>
          <p:cNvSpPr/>
          <p:nvPr/>
        </p:nvSpPr>
        <p:spPr>
          <a:xfrm>
            <a:off x="6156000" y="5350320"/>
            <a:ext cx="2016000" cy="1367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ешеходы и водите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1"/>
          <p:cNvSpPr/>
          <p:nvPr/>
        </p:nvSpPr>
        <p:spPr>
          <a:xfrm>
            <a:off x="3059280" y="3557520"/>
            <a:ext cx="3094560" cy="1872000"/>
          </a:xfrm>
          <a:prstGeom prst="ellipse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ff0000"/>
              </a:solidFill>
              <a:latin typeface="Century Schoolbook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1403640" y="188640"/>
            <a:ext cx="6336360" cy="1439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7598d9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Познание ( ознакомление с окружающим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О чём говорят дорожные знаки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Улицы нашего  посёл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Улица полна неожиданност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Правила и безопасность дорожного движ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3276000" y="1845000"/>
            <a:ext cx="2592000" cy="155340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Рис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Дорога и тротуа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Машины на дорог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4"/>
          <p:cNvSpPr/>
          <p:nvPr/>
        </p:nvSpPr>
        <p:spPr>
          <a:xfrm>
            <a:off x="323640" y="4841280"/>
            <a:ext cx="2735280" cy="1800000"/>
          </a:xfrm>
          <a:prstGeom prst="rect">
            <a:avLst/>
          </a:prstGeom>
          <a:solidFill>
            <a:schemeClr val="bg2">
              <a:lumMod val="75000"/>
            </a:schemeClr>
          </a:solidFill>
          <a:ln>
            <a:solidFill>
              <a:srgbClr val="fff39d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по апплика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Мой любимый дорожный зна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Автобус на нашей улиц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5"/>
          <p:cNvSpPr/>
          <p:nvPr/>
        </p:nvSpPr>
        <p:spPr>
          <a:xfrm>
            <a:off x="6114600" y="4841280"/>
            <a:ext cx="2838600" cy="1800000"/>
          </a:xfrm>
          <a:prstGeom prst="rect">
            <a:avLst/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по ручному тру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Автобу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Автомоби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Пешеходная дорож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7"/>
          <p:cNvSpPr/>
          <p:nvPr/>
        </p:nvSpPr>
        <p:spPr>
          <a:xfrm>
            <a:off x="3276000" y="3717000"/>
            <a:ext cx="2664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2. Непосредственная  образова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8"/>
          <p:cNvSpPr/>
          <p:nvPr/>
        </p:nvSpPr>
        <p:spPr>
          <a:xfrm>
            <a:off x="3207960" y="4547880"/>
            <a:ext cx="279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Художественное творч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Овал 1"/>
          <p:cNvSpPr/>
          <p:nvPr/>
        </p:nvSpPr>
        <p:spPr>
          <a:xfrm>
            <a:off x="1763640" y="188640"/>
            <a:ext cx="5544360" cy="1439640"/>
          </a:xfrm>
          <a:prstGeom prst="ellipse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2.Непосредственная  образовательн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1151640" y="1772640"/>
            <a:ext cx="6840360" cy="2304000"/>
          </a:xfrm>
          <a:prstGeom prst="rect">
            <a:avLst/>
          </a:prstGeom>
          <a:solidFill>
            <a:schemeClr val="accent4">
              <a:lumMod val="40000"/>
              <a:lumOff val="60000"/>
            </a:schemeClr>
          </a:solidFill>
          <a:ln>
            <a:solidFill>
              <a:srgbClr val="f5cd2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           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Коммуникация и чтение художественн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Рассказывание по серии картинок «Улицы гор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Сюжетный рассказ по картинам С. Волкова «Кропоткинская», Ю. Пименова «Новая Моск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Чтение стихотворений А. Суворин «По переходу», В. Семернин «Запрещается - разрешает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5"/>
          <p:cNvSpPr/>
          <p:nvPr/>
        </p:nvSpPr>
        <p:spPr>
          <a:xfrm>
            <a:off x="1121760" y="4869000"/>
            <a:ext cx="6900120" cy="15116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575f6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chemeClr val="lt1"/>
                </a:solidFill>
                <a:latin typeface="Century Schoolbook"/>
              </a:rPr>
              <a:t>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Познание (ФЭМ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Измерение тротуара и проезжей ч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Ориентировка на улицах гор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Решение задач «Машины в гараж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Овал 1"/>
          <p:cNvSpPr/>
          <p:nvPr/>
        </p:nvSpPr>
        <p:spPr>
          <a:xfrm>
            <a:off x="2771640" y="2349000"/>
            <a:ext cx="3888000" cy="1944000"/>
          </a:xfrm>
          <a:prstGeom prst="ellipse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3. Чтение художественной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251640" y="1412640"/>
            <a:ext cx="1872000" cy="791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Б. Житков «Светоф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3564000" y="332640"/>
            <a:ext cx="2016000" cy="827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. Кончаловская «Сам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6721920" y="932040"/>
            <a:ext cx="2016000" cy="14162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. Бедарев «Если бы»,  «Азбука безопас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51640" y="3213000"/>
            <a:ext cx="2448000" cy="1079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Я. Пишумов «Песенка о правилах», «Машина мо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3384000" y="5324040"/>
            <a:ext cx="2376000" cy="791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. Лешкевич «Гололе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6721920" y="3213000"/>
            <a:ext cx="2098080" cy="1439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Schoolbook"/>
              </a:rPr>
              <a:t>Н. Но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Schoolbook"/>
              </a:rPr>
              <a:t>«Приключение незнайки и его друз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251640" y="4941000"/>
            <a:ext cx="2016000" cy="1007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. Серяков «Улица, где все спеш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9"/>
          <p:cNvSpPr/>
          <p:nvPr/>
        </p:nvSpPr>
        <p:spPr>
          <a:xfrm>
            <a:off x="6721920" y="5301360"/>
            <a:ext cx="2088000" cy="647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. Маршак «Светоф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447</TotalTime>
  <Application>LibreOffice/7.4.7.2$Linux_X86_64 LibreOffice_project/40$Build-2</Application>
  <AppVersion>15.0000</AppVersion>
  <Words>720</Words>
  <Paragraphs>115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16:04:17Z</dcterms:created>
  <dc:creator>User</dc:creator>
  <dc:description/>
  <dc:language>en-US</dc:language>
  <cp:lastModifiedBy>1</cp:lastModifiedBy>
  <dcterms:modified xsi:type="dcterms:W3CDTF">2020-04-04T15:07:36Z</dcterms:modified>
  <cp:revision>53</cp:revision>
  <dc:subject/>
  <dc:title>МАДОУ детский сад № 37 «Журавлик» комбинированного вида г. Дрезна Орехово-Зуевский район Московской област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