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FE5-F51C-4E57-B974-7D95C667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3A3-A44C-4E7D-8726-1401C851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2A9-1993-45A0-98E8-19D9B920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6F3-96E0-409F-AEA7-ABE64003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E799-9FA5-4BF3-82BB-A34AA3B7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8B33-8B76-4F25-B92B-352A8537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D552-EF9A-47DB-A985-A6F0C3E9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9C58-84AD-4681-B1E1-5276E10E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3E0F-5E7F-423D-AA40-3594C889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381B-5064-4627-ABF3-34240353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06D4-E544-49E2-A3E4-9415C01E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7EE-6408-4371-BBF5-A0448513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97DB-6F30-4806-8028-10511012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5A36-8F05-4EA4-BFBA-186B33B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6D26-26F8-4B1B-871F-0BA293F0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C72A-53CD-4E86-9AA6-EF42E6A3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004E-5369-4EBC-8F0C-DFD8F9C0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AC4-FE8F-4B6F-BA62-F41A2739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C00-8F93-480D-9449-B6728E91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B8E-BAF0-4276-AAC6-796D568F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9B6-09A5-4506-A70C-A1B1675D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B5E-2FB1-4EC1-A066-AD165659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CC7-FDCC-44C1-83D3-FF52CFE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1B0-D13A-4034-BAEA-8FAA84B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2EEC-8BFC-4AAE-A2D4-2EB91A151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421E-44B9-4DD5-898F-8167AF0D9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Путешествие по Древней Рус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неклассное мероприятие для учащихся 6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нятийный диктан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Полюдье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Уроки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Смерды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Рядовичи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Летопись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«Русская правда»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Язычество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Погосты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Закупы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Холопы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Миниатюра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Зодчество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Тест: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В каком году произошло убийство Игор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912              б)945             в) 95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В X веке князь совершал полюдь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с лета до зим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 осенью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) с осени до вес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Уходя в 907 г. из Византии, Олег, согласно легенде, повесил на воротах Константинополя свой щит. Это был симво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примир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 подчинения Византии власти Олег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) победы Олега над город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Какой путь стал основной торговой дорогой Древней Рус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по Волге в Каспийское мор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 по Дону в Азовское мор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) из варяг в гре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Изначально религией восточных славян был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мусульманств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 инду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) язы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Отметьте наиболее точные ответы: князь Святослав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нанёс сокрушительное поражение печенег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 разгромил Хазарское царств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) победил Волжскую Булгари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) захватил Константинопо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Расположите в хронологической последовательности правление следующих первых русских князе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Олег; Б) Рюрик; В) Святослав; Г) Ольга; Д) Игорь; Е) Владимир; Ж) Яросла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Набеги печенегов на Русь прекратились при князе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Игоре           б) Святославе          в) Ярославе Мудр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 б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2. в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3. в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4. в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5. в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6. б,в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7. б,а,д,г,е,ж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8. 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692360" y="2060640"/>
            <a:ext cx="57592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новых встреч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Объясните, почему так важно знать историю своей Родины, Отечеств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из них вёл кочевой образ жизн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Хаза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Литов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Полов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Каре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Ава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Печене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из них вёл кочевой образ жизн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Хаза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Литов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Полов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Каре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Ава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Печене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де обитали эти племен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ляне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Дрегович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лочане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Ильменские словене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де обитали эти племен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ляне – «живущие в поля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Дреговичи – на боло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лочане – у реки По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Ильменские словене – на берегу озера Ильм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бота с документо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«…Собрав дань, он пошел в свой город. Когда он возвращался назад, то, раздумав, сказал дружине своей: «Идите с данью домой, а я возвращусь, похожу еще». Отпустил дружину свою домой, а сам с небольшой дружиной вернулся, желая ещё больше добычи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овите автора летопи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овите имя князя, о котором идёт ре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кажите. Что с ним произошло дальш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бота с документом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«…Когда князь вырос и возмужал, начал он воев собирать многих и храбрых; ходя легко, как барс, вёл он многие войны. В походах не возил за собой ни обозов, ни котлов, не варил мяса, но, тонко нарезав конину ли, или зверину, или говядину, жарил её на углях и ел. Не имел он походного шатра, но спал, постелив подклад и положив седло в головах… 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Назовите автора летопи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Назовите имя князя, о котором идёт ре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Какие человеческие качества характеризуют княз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. Нестор – летописец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. Князь Игорь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3. Древляне убивают Игоря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1. Нестор – летописец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. Князь Святослав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3. Сильный, мужественный, свирепый, презирал все удобств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6:16:17Z</dcterms:created>
  <dc:creator>Uuswer</dc:creator>
  <dc:description/>
  <dc:language>en-US</dc:language>
  <cp:lastModifiedBy>Uuswer</cp:lastModifiedBy>
  <dcterms:modified xsi:type="dcterms:W3CDTF">2010-03-19T04:51:56Z</dcterms:modified>
  <cp:revision>7</cp:revision>
  <dc:subject/>
  <dc:title>Путешествие по Древней Руси</dc:title>
</cp:coreProperties>
</file>