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A5D-A387-475E-AF81-256A059C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F96-9ED0-47C7-A2D8-56F75604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519-2E86-494A-8476-94C1FD75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AFD-C455-4AAA-8980-B8F7B0CC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70DF2-EBA8-4885-BB5F-A87440DB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F38DD-B2C6-4E71-870E-290EDD86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30E96-D549-4F4B-9A48-2D82DCA6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E69D1-A4B5-456E-942D-CFF54E93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124BD-A1CA-456E-8B11-FE1B4252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C4FB5-F45A-4F01-870C-B3AAB38A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4F2BD-E2EB-445C-8DBC-9FB87D61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A681-A77F-41C8-B4E4-9AFC7B5C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E5CA3-27DB-4EEB-9A18-BCD5E291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D7F41-4FDD-4387-8EFB-E301CD4E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D69B6-C10C-4900-A740-5CF5BF1C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04B9E-8A33-441C-90EF-AE86C19B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41E49-4FBC-4B39-93EF-2ECC8E11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7B37-CAFA-4D70-A6BD-AAB80BCC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4377-A133-4187-8EE3-4B0868E4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F61-76FC-4A55-9DA3-890D52A5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422A-6D19-4526-B7D4-8B817C9C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DE1-B3A0-4679-BADF-B3748574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5F1-D3CF-4789-9E0A-4D0E43CE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7D5F-EBC7-47CD-BF85-2EFDE737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AE90-9E65-41A0-A0E6-6CA6FF40FAB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41A0-7D08-415A-89DD-30796F1D5D6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holidays-tour.ru/main2/20.jpg" TargetMode="External"/><Relationship Id="rId2" Type="http://schemas.openxmlformats.org/officeDocument/2006/relationships/hyperlink" Target="http://img1.liveinternet.ru/images/foto/b/3/237/3162237/f_18113550.jpg" TargetMode="External"/><Relationship Id="rId3" Type="http://schemas.openxmlformats.org/officeDocument/2006/relationships/hyperlink" Target="http://img-2007-06.photosight.ru/18/2150966.jpg" TargetMode="External"/><Relationship Id="rId4" Type="http://schemas.openxmlformats.org/officeDocument/2006/relationships/hyperlink" Target="http://img0.liveinternet.ru/images/attach/c/0/38/154/38154324_1231947243_CH_20090104_045609_akry_00221.jpg" TargetMode="External"/><Relationship Id="rId5" Type="http://schemas.openxmlformats.org/officeDocument/2006/relationships/hyperlink" Target="http://www.poedem.ru/images/catalogs/kirghizia/Pic/Cities/centralnyjtyan-shan/TheViewFromTheSummitOfKhanTengri_PeakPobedaRisesInTheDistance.JPG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Рельеф и полезные ископаемые Евразии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3"/>
          <a:stretch/>
        </p:blipFill>
        <p:spPr>
          <a:xfrm>
            <a:off x="3635280" y="1700280"/>
            <a:ext cx="3240360" cy="2438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4"/>
          <a:stretch/>
        </p:blipFill>
        <p:spPr>
          <a:xfrm>
            <a:off x="6012000" y="3284640"/>
            <a:ext cx="2627280" cy="2835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250920" y="6234120"/>
            <a:ext cx="871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013 год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Ресурсы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179280" y="1268280"/>
            <a:ext cx="8713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holidays-tour.ru/main2/20.jpg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карта Евраз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img1.liveinternet.ru/images/foto/b/3/237/3162237/f_18113550.jpg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img-2007-06.photosight.ru/18/2150966.jpg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img0.liveinternet.ru/images/attach/c/0/38/154/38154324_1231947243_CH_20090104_045609_akry_00221.jpg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4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www.poedem.ru/images/catalogs/kirghizia/Pic/Cities/centralnyjtyan-shan/TheViewFromTheSummitOfKhanTengri_PeakPobedaRisesInTheDistance.JPG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sch1582.edusite.ru/images/obr55.jpg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полезные ископаемые (слайд «Содержание»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yaplakal.com/uploads/previews/post-1-12998529924230.jpg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encyclopaedia.biga.ru/uploads/enc/images/t24/123633006679c4.jpg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sakhvesti.ru/p/skr_07102009111336.jpg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unonthenet.in/images/stories/forwards/Dubai%20Palm%20Jumeirah/dubai-palm-jumeirah-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ифровой диктан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8000" y="228240"/>
            <a:ext cx="9036000" cy="3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Рельеф и полезные ископаемые Еврази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95280" y="1875960"/>
            <a:ext cx="813600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кеаны: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еверный Ледовитый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Атлантический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ндийский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ихий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 каким океанам принадлежат мор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1) Карское; 2) Берингово; 3) Аравийское; 4) Балтийское; 5) Черное; 6) Желтое; 7) Охотское; 8) Баренцево; 9) Белое; 10) Северное; 11) Средиземно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12) Лаптевых; 13) Японское; 14) Азовско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15) Восточно – Китайск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68360" y="1557360"/>
          <a:ext cx="8229600" cy="3876480"/>
        </p:xfrm>
        <a:graphic>
          <a:graphicData uri="http://schemas.openxmlformats.org/drawingml/2006/table">
            <a:tbl>
              <a:tblPr/>
              <a:tblGrid>
                <a:gridCol w="1511280"/>
                <a:gridCol w="3456000"/>
                <a:gridCol w="3262320"/>
              </a:tblGrid>
              <a:tr h="6404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оение земной кор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оответствующие формы рельефа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евние платфор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точно -Европейск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бирск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дийск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тайско - Корейск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ласти складчатост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евне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в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9036000" cy="3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Рельеф и полезные ископаемые Евразии</a:t>
            </a:r>
            <a:br>
              <a:rPr sz="3200"/>
            </a:br>
            <a:r>
              <a:rPr b="1" i="1" lang="ru-RU" sz="1800" spc="-1" strike="noStrike" u="sng">
                <a:solidFill>
                  <a:srgbClr val="e3e3ff"/>
                </a:solidFill>
                <a:uFillTx/>
                <a:latin typeface="Arial"/>
              </a:rPr>
              <a:t>Задание. </a:t>
            </a:r>
            <a:r>
              <a:rPr b="1" i="1" lang="ru-RU" sz="1800" spc="-1" strike="noStrike" u="sng">
                <a:solidFill>
                  <a:srgbClr val="e3e3ff"/>
                </a:solidFill>
                <a:uFillTx/>
                <a:latin typeface="Arial"/>
              </a:rPr>
              <a:t>Используя карты атласа</a:t>
            </a:r>
            <a:r>
              <a:rPr b="1" i="1" lang="ru-RU" sz="1800" spc="-1" strike="noStrike" u="sng">
                <a:solidFill>
                  <a:srgbClr val="e3e3ff"/>
                </a:solidFill>
                <a:uFillTx/>
                <a:latin typeface="Arial"/>
              </a:rPr>
              <a:t>, заполните таблицу: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34286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зув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Японские ост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дзия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луостров Камча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ючевская Соп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стров Сици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Апеннинский полуост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аката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ондские ост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79280" y="228240"/>
            <a:ext cx="87854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Рельеф и полезные ископаемые Еврази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68360" y="1052640"/>
            <a:ext cx="77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3e3ff"/>
                </a:solidFill>
                <a:uFillTx/>
                <a:latin typeface="Arial"/>
              </a:rPr>
              <a:t>Задание.</a:t>
            </a:r>
            <a:r>
              <a:rPr b="1" i="1" lang="ru-RU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складчатых поясах широко развит вулканиз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пользуя карту атласа, установите соответствие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15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2160720" cy="1255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7" name="Picture 2" descr="C:\Documents and Settings\Анна Локшина\Мои документы\Школа\география\7 класс\мои уроки\Евразия\AlpsWilderness.jpg"/>
          <p:cNvPicPr/>
          <p:nvPr/>
        </p:nvPicPr>
        <p:blipFill>
          <a:blip r:embed="rId2"/>
          <a:stretch/>
        </p:blipFill>
        <p:spPr>
          <a:xfrm>
            <a:off x="3276720" y="1844640"/>
            <a:ext cx="1942920" cy="149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8" name="Picture 2" descr="C:\Documents and Settings\Анна Локшина\Мои документы\Школа\география\7 класс\мои уроки\Евразия\AlpsWilderness.jpg"/>
          <p:cNvPicPr/>
          <p:nvPr/>
        </p:nvPicPr>
        <p:blipFill>
          <a:blip r:embed="rId3"/>
          <a:stretch/>
        </p:blipFill>
        <p:spPr>
          <a:xfrm>
            <a:off x="5003640" y="1773360"/>
            <a:ext cx="1944720" cy="137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9" name="Picture 2" descr="C:\Documents and Settings\Анна Локшина\Мои документы\Школа\география\7 класс\мои уроки\Евразия\AlpsWilderness.jpg"/>
          <p:cNvPicPr/>
          <p:nvPr/>
        </p:nvPicPr>
        <p:blipFill>
          <a:blip r:embed="rId4"/>
          <a:stretch/>
        </p:blipFill>
        <p:spPr>
          <a:xfrm>
            <a:off x="7093080" y="1700280"/>
            <a:ext cx="1474560" cy="103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0" name="Picture 5" descr="Картинка 20 из 8063"/>
          <p:cNvPicPr/>
          <p:nvPr/>
        </p:nvPicPr>
        <p:blipFill>
          <a:blip r:embed="rId5"/>
          <a:stretch/>
        </p:blipFill>
        <p:spPr>
          <a:xfrm>
            <a:off x="2050920" y="2276640"/>
            <a:ext cx="136872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94920" y="2133720"/>
            <a:ext cx="4608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Западно – Сибирская равн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Средне – Сибирское плоскогор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Восточно – Европейская равн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Прикаспийская низм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Уральские г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Нагорье Тиб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Иранское нагор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651640" y="1916280"/>
          <a:ext cx="2890800" cy="3085920"/>
        </p:xfrm>
        <a:graphic>
          <a:graphicData uri="http://schemas.openxmlformats.org/drawingml/2006/table">
            <a:tbl>
              <a:tblPr/>
              <a:tblGrid>
                <a:gridCol w="576000"/>
                <a:gridCol w="2314800"/>
              </a:tblGrid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52"/>
          <p:cNvSpPr/>
          <p:nvPr/>
        </p:nvSpPr>
        <p:spPr>
          <a:xfrm>
            <a:off x="248400" y="765000"/>
            <a:ext cx="875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3e3ff"/>
                </a:solidFill>
                <a:uFillTx/>
                <a:latin typeface="Arial"/>
              </a:rPr>
              <a:t>Задание.</a:t>
            </a:r>
            <a:r>
              <a:rPr b="1" i="1" lang="ru-RU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внины и горы Евразии имеют самую различную высот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становите правильную последовательность, пронумерова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анные территории по мере возрастания выс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79280" y="83880"/>
            <a:ext cx="87854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Рельеф и полезные ископаемые Еврази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rcRect l="10999" t="28591" r="7657" b="5147"/>
          <a:stretch/>
        </p:blipFill>
        <p:spPr>
          <a:xfrm>
            <a:off x="1116000" y="2133720"/>
            <a:ext cx="6913440" cy="41097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Рельеф и полезные ископаемые Еврази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43240" y="765000"/>
            <a:ext cx="85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3e3ff"/>
                </a:solidFill>
                <a:uFillTx/>
                <a:latin typeface="Arial"/>
              </a:rPr>
              <a:t>Задание.</a:t>
            </a:r>
            <a:r>
              <a:rPr b="1" i="1" lang="ru-RU" sz="1800" spc="-1" strike="noStrike">
                <a:solidFill>
                  <a:srgbClr val="e3e3ff"/>
                </a:solidFill>
                <a:latin typeface="Arial"/>
              </a:rPr>
              <a:t> Дополните кластер соответствующими формами рельеф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3e3ff"/>
                </a:solidFill>
                <a:latin typeface="Arial"/>
              </a:rPr>
              <a:t>               </a:t>
            </a:r>
            <a:r>
              <a:rPr b="1" i="1" lang="ru-RU" sz="1800" spc="-1" strike="noStrike">
                <a:solidFill>
                  <a:srgbClr val="e3e3ff"/>
                </a:solidFill>
                <a:latin typeface="Arial"/>
              </a:rPr>
              <a:t>Расположите значки полезных ископаемых в соответств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3e3ff"/>
                </a:solidFill>
                <a:latin typeface="Arial"/>
              </a:rPr>
              <a:t>               </a:t>
            </a:r>
            <a:r>
              <a:rPr b="1" i="1" lang="ru-RU" sz="1800" spc="-1" strike="noStrike">
                <a:solidFill>
                  <a:srgbClr val="e3e3ff"/>
                </a:solidFill>
                <a:latin typeface="Arial"/>
              </a:rPr>
              <a:t>с местами залег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rcRect l="1961" t="0" r="1961" b="6946"/>
          <a:stretch/>
        </p:blipFill>
        <p:spPr>
          <a:xfrm>
            <a:off x="684360" y="333360"/>
            <a:ext cx="7848360" cy="5700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468360" y="115920"/>
            <a:ext cx="82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льеф и полезные ископаемые Евраз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актическая раб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ни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спользуя карты атласа и текст учебника,                            дайте характеристику основных форм рельеф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плану учебника (приложение в конце учебни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яд – Западно – Сибирская равн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яд - горы Гимала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39640" y="333360"/>
            <a:ext cx="82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льеф и полезные ископаемые Евраз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флек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ое значение для тебя лично имеют знания и умения, полученные на урок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ы помогал другим или тебе помогали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вызвало наибольшие затруднени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оцениваешь полученные сегодня знания (осознанные, глубокие, предстоит осознать, неосознанные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85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Рельеф и полезные ископаемые Еврази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10:18:57Z</dcterms:created>
  <dc:creator>home</dc:creator>
  <dc:description/>
  <dc:language>en-US</dc:language>
  <cp:lastModifiedBy>Алёна Гурова</cp:lastModifiedBy>
  <dcterms:modified xsi:type="dcterms:W3CDTF">2020-04-04T13:42:45Z</dcterms:modified>
  <cp:revision>14</cp:revision>
  <dc:subject/>
  <dc:title>Слайд 1</dc:title>
</cp:coreProperties>
</file>