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D17-930F-43F1-90DE-DB82FE9F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7A9-AC2A-4704-A25B-7A7A7A2B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C30-9537-4BEC-87DE-6C0F1C72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E7F-17C1-46FB-9B12-99611E3A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189-4145-4CC9-96D2-ACCDF3B5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D95-8F06-49A9-9C96-026EB8A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D4B-47CC-4542-B4B9-25371B74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08C-E4DF-4005-A10A-C4A1907A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0B0-833D-4F6D-8A07-99CE348E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5C1-310F-4089-8CA1-971E64F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167-AF38-42F4-ACC6-2B2A4F89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33E-8DA1-46C7-9907-6F338DD9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df1"/>
            </a:gs>
            <a:gs pos="100000">
              <a:srgbClr val="fdf2b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E940-ADDC-44DA-81B8-4787DB6BC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rageswar.com/uploads/posts/2010-06/1276517929_ma-72-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alenik.ru/vsesvit/vidvs/s/su/suvorov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-xc-nika.ru/texts/2009/oct/pavel_borovikovskiy1_550_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ntre.smr.ru/images/books/bog_zapis/gallery/port_rad_420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arketsystem.ru/files/a6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tehistory.ru/img_lib/persons/suvorov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pravoslavie.ucoz.net/_nw/0/48531743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42/42861_or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dic.academic.ru/pictures/wiki/files/71/General%2C_Officer_d%27Legere%2C_Soldat_d%27Ligne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useum.ru/1812/persons/France/pic/moro.gif" TargetMode="Externa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a-divane.kiev.ua/2009_Switherland/stgotthard/MG_4146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bda0459351c7cfc08376351f06bb7e6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611280" y="333360"/>
            <a:ext cx="78483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Россия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онце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18 века</a:t>
            </a:r>
            <a:endParaRPr b="1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нешняя политика Павла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62064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овременно с действиями Суворова в Италии объединенная русско-турецкая эскадра  под командовани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Ушаков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нес французам поражения у берегов Греции и Италии, освободил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 французов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апол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им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Картинка 4 из 7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276640"/>
            <a:ext cx="2721240" cy="4376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1258920" y="6237360"/>
            <a:ext cx="468144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мя русской армии 1797-1800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24000" y="2708280"/>
            <a:ext cx="54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ухода русских войск                     из Италии французы быстро вернули себе все утраченные территории благодаря победам Наполе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нешняя политика Павл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Suvorov-Ital-Switz"/>
          <p:cNvPicPr/>
          <p:nvPr/>
        </p:nvPicPr>
        <p:blipFill>
          <a:blip r:embed="rId1"/>
          <a:stretch/>
        </p:blipFill>
        <p:spPr>
          <a:xfrm>
            <a:off x="0" y="620640"/>
            <a:ext cx="4354560" cy="6048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89" name="Picture 4" descr="yshakov"/>
          <p:cNvPicPr/>
          <p:nvPr/>
        </p:nvPicPr>
        <p:blipFill>
          <a:blip r:embed="rId2"/>
          <a:stretch/>
        </p:blipFill>
        <p:spPr>
          <a:xfrm>
            <a:off x="4381560" y="620640"/>
            <a:ext cx="4762440" cy="4897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0" name="Text Box 5"/>
          <p:cNvSpPr/>
          <p:nvPr/>
        </p:nvSpPr>
        <p:spPr>
          <a:xfrm>
            <a:off x="4716360" y="5589720"/>
            <a:ext cx="403380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ходы Суворова и Уш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нешняя политика Павл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Картинка 19 из 509"/>
          <p:cNvPicPr/>
          <p:nvPr/>
        </p:nvPicPr>
        <p:blipFill>
          <a:blip r:embed="rId1"/>
          <a:stretch/>
        </p:blipFill>
        <p:spPr>
          <a:xfrm>
            <a:off x="539640" y="3213000"/>
            <a:ext cx="2776680" cy="3449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93" name="Text Box 9"/>
          <p:cNvSpPr/>
          <p:nvPr/>
        </p:nvSpPr>
        <p:spPr>
          <a:xfrm>
            <a:off x="395280" y="76500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авел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читал, что Австрия и Англия решают с помощью русских солдат свои проблемы и вышел из антифранцузской коалиции. Его симпатии резко переменились в пользу Франции.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авел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же совместно с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полеоном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ланировал отобрать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Англии Индию и даже отправил казаков в по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Картинка 17 из 60"/>
          <p:cNvPicPr/>
          <p:nvPr/>
        </p:nvPicPr>
        <p:blipFill>
          <a:blip r:embed="rId2"/>
          <a:stretch/>
        </p:blipFill>
        <p:spPr>
          <a:xfrm>
            <a:off x="3564000" y="3213000"/>
            <a:ext cx="5076720" cy="34671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Переворот 1801 г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Картинка 2 из 3405"/>
          <p:cNvPicPr/>
          <p:nvPr/>
        </p:nvPicPr>
        <p:blipFill>
          <a:blip r:embed="rId1"/>
          <a:stretch/>
        </p:blipFill>
        <p:spPr>
          <a:xfrm>
            <a:off x="179280" y="765000"/>
            <a:ext cx="2973600" cy="35942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97" name="Text Box 6"/>
          <p:cNvSpPr/>
          <p:nvPr/>
        </p:nvSpPr>
        <p:spPr>
          <a:xfrm>
            <a:off x="3419640" y="692280"/>
            <a:ext cx="547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ближение с Наполеоном и разрыв отношений с Англией окончательно решили дальнейшую судьбу Павла.               Зрел дворянский заговор в котором приняли участие высшее командование гвардией, сын Павла – Александр, английский посол в России. Заговорщики планировали захватить Павл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заставить его отречься                         от престола в пользу сы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0920" y="515772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ночь с 11 на 12 марта  1801 г. группа высших офицеров прорвалась в Михайловский замок.         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вел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казался отречься от престола и был убит.                   На престол вступил его сын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лександр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55640" y="4437000"/>
            <a:ext cx="187164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лександр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86840" y="33336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 и Обществ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87200" y="3284640"/>
            <a:ext cx="8705880" cy="3097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и истории открытого банка заданий ФИП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арты по Всеобщей истории 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Картинка 12 из 415"/>
          <p:cNvPicPr/>
          <p:nvPr/>
        </p:nvPicPr>
        <p:blipFill>
          <a:blip r:embed="rId1"/>
          <a:stretch/>
        </p:blipFill>
        <p:spPr>
          <a:xfrm>
            <a:off x="0" y="0"/>
            <a:ext cx="51609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5292720" y="18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292720" y="765000"/>
            <a:ext cx="36720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зучить параграф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ить на вопросы               на стр. 238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учить основные д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a1adf902a3806e69f5dc5d052819dd1d_big"/>
          <p:cNvPicPr/>
          <p:nvPr/>
        </p:nvPicPr>
        <p:blipFill>
          <a:blip r:embed="rId2"/>
          <a:stretch/>
        </p:blipFill>
        <p:spPr>
          <a:xfrm>
            <a:off x="5651640" y="4691160"/>
            <a:ext cx="2962080" cy="216684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Личность Павл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еятельность Павл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нешняя политика Павл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ереворот 180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Картинка 1 из 2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3413160"/>
            <a:ext cx="4392360" cy="344484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Личность Павл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avel_borovikovskiy1_550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692280"/>
            <a:ext cx="2895840" cy="3809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48" name="Text Box 6"/>
          <p:cNvSpPr/>
          <p:nvPr/>
        </p:nvSpPr>
        <p:spPr>
          <a:xfrm>
            <a:off x="3203640" y="549360"/>
            <a:ext cx="56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вел воспитывался в отчуждении от матери. Получил хорошее образование (Панин Н.И.)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о путешествовал по Европе, увлекался либеральными идеями, сочувствовал польским борцам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 не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50920" y="4581360"/>
            <a:ext cx="266544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вел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(1796-18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276720" y="3141720"/>
            <a:ext cx="554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л обособленную жизнь                       в Гатчине под Петербургом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ел сложные отношения                        с сыновьями Александром                         и Константином. Екатерина планировала передачу власти Александру, минуя неугодного               ей сына Павла. Это еще больше обостряло отношения внутри императорской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Деятельность Павл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24000" y="8366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енью 1796 г. у Екатерины случился приступ и вскоре она скончалась. Ее бумаги были опечатаны, ближайшее окружение отстранено от дел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 власти пришел Павел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2708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вел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хотел быстро навести порядок в стране, преодолеть пороки прошлого царствования, наладить дисциплину в ар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4000" y="4076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приказу Павла были помилованы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Радищев, Новиков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пущен из Росси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Т.Костю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5300640"/>
            <a:ext cx="8209080" cy="1191240"/>
          </a:xfrm>
          <a:prstGeom prst="rect">
            <a:avLst/>
          </a:prstGeom>
          <a:noFill/>
          <a:ln w="3492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Вместе с тем была ужесточена цензура, закрыты частные типографии, преследовалось все француз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Картинка 7 из 219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65000"/>
            <a:ext cx="3565440" cy="4457880"/>
          </a:xfrm>
          <a:prstGeom prst="rect">
            <a:avLst/>
          </a:prstGeom>
          <a:ln w="34920">
            <a:solidFill>
              <a:srgbClr val="ff6600"/>
            </a:solidFill>
            <a:miter/>
          </a:ln>
        </p:spPr>
      </p:pic>
      <p:pic>
        <p:nvPicPr>
          <p:cNvPr id="57" name="Picture 11" descr="200px-Jablonski_kosciuszko"/>
          <p:cNvPicPr/>
          <p:nvPr/>
        </p:nvPicPr>
        <p:blipFill>
          <a:blip r:embed="rId3"/>
          <a:stretch/>
        </p:blipFill>
        <p:spPr>
          <a:xfrm>
            <a:off x="4716360" y="692280"/>
            <a:ext cx="3805200" cy="4470120"/>
          </a:xfrm>
          <a:prstGeom prst="rect">
            <a:avLst/>
          </a:prstGeom>
          <a:ln w="3492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Деятельность Павл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8366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приказу императора рабочий день чиновников начинался в 6 утра, в 10 вечера надлежало ложиться спать. За дурное обращение с солдатами офицеров наказывали, лишали званий и ссылали в Сиб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24000" y="2492280"/>
            <a:ext cx="8353440" cy="4162680"/>
          </a:xfrm>
          <a:prstGeom prst="rect">
            <a:avLst/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авел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I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частично ограничил крепостное пра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менил очередной рекрутский н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менил недоимки по подушной под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естьянам разрешили жаловаться на гос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97 г. запретил продавать крестьян без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ретил заставлять крестьян работать в праз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граничил барщину тремя днями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4000" y="4076640"/>
            <a:ext cx="8351640" cy="137376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Эти меры означали начало правительственной политики по раскрепощению кресть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Деятельность Павл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836640"/>
            <a:ext cx="8569080" cy="1191240"/>
          </a:xfrm>
          <a:prstGeom prst="rect">
            <a:avLst/>
          </a:prstGeom>
          <a:solidFill>
            <a:srgbClr val="ffff99"/>
          </a:solidFill>
          <a:ln w="349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стокая и деспотичная политика Павла настроила против него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ворянскую элиту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вардейское офицерств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йскую бюрократию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Картинка 12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39920"/>
            <a:ext cx="6048720" cy="4618080"/>
          </a:xfrm>
          <a:prstGeom prst="rect">
            <a:avLst/>
          </a:prstGeom>
          <a:ln w="3492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нешняя политика Павла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Картинка 21 из 4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349360"/>
            <a:ext cx="2928960" cy="3778560"/>
          </a:xfrm>
          <a:prstGeom prst="rect">
            <a:avLst/>
          </a:prstGeom>
          <a:ln w="34920">
            <a:solidFill>
              <a:srgbClr val="3366ff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324000" y="62064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ссия вступает в антифранцузскую коалицию (Австрия и Англия) и направляет войска в Европу и флот в Средиземное море. Командующим войсками был назначен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уворов А.В.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лотом –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Ушаков Ф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Картинка 2 из 34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2349360"/>
            <a:ext cx="2743200" cy="38102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>
            <a:off x="3203640" y="2421000"/>
            <a:ext cx="28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вел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не доверял Суворову как близкому                       к Екатерине человеку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признавал его полководческий тал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нешняя политика Павла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62064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98 г. русско-австрийские войска под командованием А.В.Суворова нанесли французам ряд поражений и заняли Милан, Турин и всю Северную Италию. Суворов разбил прославленных французских полководцев Моро, Макдона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ртинка 19 из 2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565360"/>
            <a:ext cx="2684520" cy="3780000"/>
          </a:xfrm>
          <a:prstGeom prst="rect">
            <a:avLst/>
          </a:prstGeom>
          <a:ln w="34920">
            <a:solidFill>
              <a:srgbClr val="3366ff"/>
            </a:solidFill>
            <a:miter/>
          </a:ln>
        </p:spPr>
      </p:pic>
      <p:pic>
        <p:nvPicPr>
          <p:cNvPr id="73" name="Picture 8" descr="Картинка 14 из 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4960" y="2565360"/>
            <a:ext cx="3029040" cy="3800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74" name="Picture 10" descr="Картинка 2 из 3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2565360"/>
            <a:ext cx="2943000" cy="3809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75" name="Text Box 11"/>
          <p:cNvSpPr/>
          <p:nvPr/>
        </p:nvSpPr>
        <p:spPr>
          <a:xfrm>
            <a:off x="179280" y="6461280"/>
            <a:ext cx="24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солд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156360" y="646128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узский солд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419640" y="646128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л Мо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Внешняя политика Павла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24000" y="620640"/>
            <a:ext cx="83516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799 г. русские войска под командованием А.В.Суворова перешли Альпы и нанесли французам тяжелые поражения в Швейцарии (Швейцарский поход). Австрийцы срывали снабжение русской армии и отозвали свои войска.                                     Павел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тозвал русские войска на родину и разорвал союз с Австрией.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уворов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лучил титул князя Италийского и звани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ЕНЕРАЛИССИМУС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843280" y="64612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ажение за Чертов м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MG_41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671400"/>
            <a:ext cx="856908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1:11:02Z</dcterms:created>
  <dc:creator>Нафор Маточ</dc:creator>
  <dc:description/>
  <dc:language>en-US</dc:language>
  <cp:lastModifiedBy>Администратор</cp:lastModifiedBy>
  <dcterms:modified xsi:type="dcterms:W3CDTF">2020-04-04T18:53:36Z</dcterms:modified>
  <cp:revision>54</cp:revision>
  <dc:subject/>
  <dc:title>Россия в конце 18 века</dc:title>
</cp:coreProperties>
</file>