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2C3-B925-4A95-908A-BB491495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0A5-39E2-4B84-82E7-B7DBAB47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2BA-3489-4FDB-AE96-97E13A3B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6BB-5EF1-41B3-AE08-674C1648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6BB-88E7-4843-BB8A-E01A8F8C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753-C60A-4AFF-BE3C-7D0CD1AA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26B-2DCA-4888-A13A-58DB6D3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159-B45E-4648-BE19-E6A1FA7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168-4DDC-433A-AEBE-B11B27DF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654-C720-49C3-B4E5-5469E46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DA3-F794-47BC-805D-C2ABB20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660-1AE8-4602-AAB4-1CE293D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5B8-F5DC-4E50-871B-B2DABCEDF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Александра\Desktop\Сайт книги\oformlenie-prezentatsiy-dlya-detey-22203-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ашего урока сегодня звучит так </a:t>
            </a:r>
            <a:r>
              <a:rPr b="0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ьный карнавал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espana-live.com/wp-content/uploads/2015/02/2018-espana-carnival-foto.jpg"/>
          <p:cNvPicPr/>
          <p:nvPr/>
        </p:nvPicPr>
        <p:blipFill>
          <a:blip r:embed="rId2"/>
          <a:stretch/>
        </p:blipFill>
        <p:spPr>
          <a:xfrm>
            <a:off x="2143080" y="1643040"/>
            <a:ext cx="6048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Александра\Desktop\Сайт книги\oformlenie-prezentatsiy-dlya-detey-22203-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428400"/>
            <a:ext cx="9144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навал- любимый праздник многих народов. Может быть, по­этому слово «карнавал» на всех языках звучит одинаково? Произошло оно от латинского слова «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rus navalis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что означает «потешная колесница», то есть корабль праздничных процесс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2.bp.blogspot.com/-L5I2Y8_4foc/UMjBoZ-wmsI/AAAAAAAAAQc/TkLp4AQfeh4/s1600/%D0%B8%D1%81%D0%BF%D0%B0%D0%BD%D0%B8%D1%8F.jpg"/>
          <p:cNvPicPr/>
          <p:nvPr/>
        </p:nvPicPr>
        <p:blipFill>
          <a:blip r:embed="rId2"/>
          <a:stretch/>
        </p:blipFill>
        <p:spPr>
          <a:xfrm>
            <a:off x="4000680" y="3429000"/>
            <a:ext cx="3429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знаменитый карнавал в мире проводится в Рио-де-Жанейр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fototelegraf.ru/wp-content/uploads/2015/02/karnaval-18-39-990x674.jpg"/>
          <p:cNvPicPr/>
          <p:nvPr/>
        </p:nvPicPr>
        <p:blipFill>
          <a:blip r:embed="rId1"/>
          <a:stretch/>
        </p:blipFill>
        <p:spPr>
          <a:xfrm>
            <a:off x="357120" y="407196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s://travelify.ru/wp-content/uploads/2016/09/57.4.jpg"/>
          <p:cNvPicPr/>
          <p:nvPr/>
        </p:nvPicPr>
        <p:blipFill>
          <a:blip r:embed="rId2"/>
          <a:stretch/>
        </p:blipFill>
        <p:spPr>
          <a:xfrm>
            <a:off x="4500720" y="3948120"/>
            <a:ext cx="4143240" cy="29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media.publika.md/ru/image/201501/oar_full/346_35485100.jpg"/>
          <p:cNvPicPr/>
          <p:nvPr/>
        </p:nvPicPr>
        <p:blipFill>
          <a:blip r:embed="rId3"/>
          <a:stretch/>
        </p:blipFill>
        <p:spPr>
          <a:xfrm>
            <a:off x="357120" y="1428840"/>
            <a:ext cx="414360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intravell.ru/wp-content/uploads/2016/12/1-min-2-768x576.jpg"/>
          <p:cNvPicPr/>
          <p:nvPr/>
        </p:nvPicPr>
        <p:blipFill>
          <a:blip r:embed="rId4"/>
          <a:stretch/>
        </p:blipFill>
        <p:spPr>
          <a:xfrm>
            <a:off x="4500720" y="1428840"/>
            <a:ext cx="41432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егодня мы рисуем карнавальный костю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1376280"/>
            <a:ext cx="730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64000" cy="299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4133880" cy="287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3833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1T13:36:37Z</dcterms:created>
  <dc:creator>Александра</dc:creator>
  <dc:description/>
  <dc:language>en-US</dc:language>
  <cp:lastModifiedBy>Пользователь Windows</cp:lastModifiedBy>
  <dcterms:modified xsi:type="dcterms:W3CDTF">2020-04-04T13:37:40Z</dcterms:modified>
  <cp:revision>7</cp:revision>
  <dc:subject/>
  <dc:title>Слайд 1</dc:title>
</cp:coreProperties>
</file>