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08A-81F6-438F-87A8-E6356E34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AA4-16E0-4DF2-80C3-4D398E41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A72-41F0-4BAE-8878-BF0A37C2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81A-EA50-4543-950B-54589EC3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412-9F64-46C6-8A08-9FC5B122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7AC-D4A7-471D-B815-ECF99FAD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EB7-970B-4D53-BB90-9EC80960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530-C4E7-4630-9FB0-05E10249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8C7-2B94-4405-B70B-4C8B0F72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304-15A9-4BD2-B181-18B2993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7CE-5D25-484D-B6C1-5D88A20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08F-73D1-4F9C-B0EA-266F122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BCC0-E25E-44F6-A30B-3E906F9A7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Александра\Desktop\Сайт книги\oformlenie-prezentatsiy-dlya-detey-22203-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нашего урока сегодня звучит так </a:t>
            </a: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ьный карнавал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espana-live.com/wp-content/uploads/2015/02/2018-espana-carnival-foto.jpg"/>
          <p:cNvPicPr/>
          <p:nvPr/>
        </p:nvPicPr>
        <p:blipFill>
          <a:blip r:embed="rId2"/>
          <a:stretch/>
        </p:blipFill>
        <p:spPr>
          <a:xfrm>
            <a:off x="2143080" y="1643040"/>
            <a:ext cx="60483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Александра\Desktop\Сайт книги\oformlenie-prezentatsiy-dlya-detey-22203-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428400"/>
            <a:ext cx="91440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навал- любимый праздник многих народов. Может быть, по­этому слово «карнавал» на всех языках звучит одинаково? Произошло оно от латинского слова «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rus navalis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что означает «потешная колесница», то есть корабль праздничных процесси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2.bp.blogspot.com/-L5I2Y8_4foc/UMjBoZ-wmsI/AAAAAAAAAQc/TkLp4AQfeh4/s1600/%D0%B8%D1%81%D0%BF%D0%B0%D0%BD%D0%B8%D1%8F.jpg"/>
          <p:cNvPicPr/>
          <p:nvPr/>
        </p:nvPicPr>
        <p:blipFill>
          <a:blip r:embed="rId2"/>
          <a:stretch/>
        </p:blipFill>
        <p:spPr>
          <a:xfrm>
            <a:off x="4000680" y="3429000"/>
            <a:ext cx="3429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знаменитый карнавал в мире проводится в Рио-де-Жанейро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fototelegraf.ru/wp-content/uploads/2015/02/karnaval-18-39-990x674.jpg"/>
          <p:cNvPicPr/>
          <p:nvPr/>
        </p:nvPicPr>
        <p:blipFill>
          <a:blip r:embed="rId1"/>
          <a:stretch/>
        </p:blipFill>
        <p:spPr>
          <a:xfrm>
            <a:off x="357120" y="4071960"/>
            <a:ext cx="4214880" cy="27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s://travelify.ru/wp-content/uploads/2016/09/57.4.jpg"/>
          <p:cNvPicPr/>
          <p:nvPr/>
        </p:nvPicPr>
        <p:blipFill>
          <a:blip r:embed="rId2"/>
          <a:stretch/>
        </p:blipFill>
        <p:spPr>
          <a:xfrm>
            <a:off x="4500720" y="3948120"/>
            <a:ext cx="4143240" cy="29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media.publika.md/ru/image/201501/oar_full/346_35485100.jpg"/>
          <p:cNvPicPr/>
          <p:nvPr/>
        </p:nvPicPr>
        <p:blipFill>
          <a:blip r:embed="rId3"/>
          <a:stretch/>
        </p:blipFill>
        <p:spPr>
          <a:xfrm>
            <a:off x="357120" y="1428840"/>
            <a:ext cx="4143600" cy="27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intravell.ru/wp-content/uploads/2016/12/1-min-2-768x576.jpg"/>
          <p:cNvPicPr/>
          <p:nvPr/>
        </p:nvPicPr>
        <p:blipFill>
          <a:blip r:embed="rId4"/>
          <a:stretch/>
        </p:blipFill>
        <p:spPr>
          <a:xfrm>
            <a:off x="4500720" y="1428840"/>
            <a:ext cx="41432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егодня мы рисуем карнавальный костю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1376280"/>
            <a:ext cx="7309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64000" cy="299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4133880" cy="2874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4000" y="383364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1T13:36:37Z</dcterms:created>
  <dc:creator>Александра</dc:creator>
  <dc:description/>
  <dc:language>en-US</dc:language>
  <cp:lastModifiedBy>Пользователь Windows</cp:lastModifiedBy>
  <dcterms:modified xsi:type="dcterms:W3CDTF">2020-04-04T13:37:40Z</dcterms:modified>
  <cp:revision>7</cp:revision>
  <dc:subject/>
  <dc:title>Слайд 1</dc:title>
</cp:coreProperties>
</file>