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F87-25DF-47C1-9E82-81B2E0C0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3D5-03A4-49A2-9F87-1B8400F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91B-1B69-42B0-A544-4C57B1A5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F8A-7DD9-40BE-8F6E-B4C8EB53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61B6-FE65-4287-8B6A-47144B22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C7D3-590B-47DE-BE49-7957639E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10D4-1E46-4D03-84AB-2FEC2A2E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D978-2197-40FF-98B1-65B5F764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45B0-151F-431E-B779-5C3A1CF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1D7A-422A-48AB-9BAB-36F85D8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7E8F-4B49-4F17-87E0-9E2814F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79E-7772-4ABC-8069-C02EB86D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54E7-D471-4F5B-A358-C0D823C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D1D1-9014-47A1-B42F-C6D86F24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F722-7D04-4E10-AD89-A3D44194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74F-2AEE-4858-99FE-1F02BCBB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243B-1546-4126-AF0C-B34AD418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4C8-7361-40C4-BF7B-B76E565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459-517B-433F-B750-6C8D92C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06F-99EA-4A67-AA24-BA796CC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61E-BFB3-41F9-B668-0A28996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38C-A5F8-4ABA-B32A-EFFA223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910-9294-4478-8C0A-2CE08DE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AFE-0B3E-446E-8F0E-4CFD159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96E7-6A0E-4844-8D00-E2E88DAF4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9DDF-F2A7-4775-93FB-6BF65D41EC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Arial"/>
              </a:rPr>
              <a:t>В поисках идеала</a:t>
            </a:r>
            <a:br>
              <a:rPr sz="4000"/>
            </a:br>
            <a:br>
              <a:rPr sz="2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ульптура Древней Гре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8000" y="220500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ного есть славных сил в природе, но славней человека нет ничего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фок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МХК 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Разработал уч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Левыкина Наталья Юр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МКОУ «СОШ №7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г. Ефре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544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икий Фид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 его душе жил тот прообраз красоты, который и воплощён им в материи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Цицерон о Фи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581120" cy="208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2771640" y="2276640"/>
            <a:ext cx="1581120" cy="208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1619280" cy="19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{03D3C5C7-E6F8-491E-BDB3-CC9AF8F35DBE}"/>
          <p:cNvPicPr/>
          <p:nvPr/>
        </p:nvPicPr>
        <p:blipFill>
          <a:blip r:embed="rId4"/>
          <a:stretch/>
        </p:blipFill>
        <p:spPr>
          <a:xfrm>
            <a:off x="6877080" y="4149720"/>
            <a:ext cx="1333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дняя класси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копа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ова раненого во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5" descr="скопас менада"/>
          <p:cNvPicPr/>
          <p:nvPr/>
        </p:nvPicPr>
        <p:blipFill>
          <a:blip r:embed="rId1"/>
          <a:stretch/>
        </p:blipFill>
        <p:spPr>
          <a:xfrm>
            <a:off x="684360" y="1700280"/>
            <a:ext cx="1996920" cy="3821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589560" cy="218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8480" y="5805360"/>
            <a:ext cx="69595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а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азонамах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17" descr="скопас голова раненого воина"/>
          <p:cNvPicPr/>
          <p:nvPr/>
        </p:nvPicPr>
        <p:blipFill>
          <a:blip r:embed="rId3"/>
          <a:stretch/>
        </p:blipFill>
        <p:spPr>
          <a:xfrm>
            <a:off x="6877080" y="620640"/>
            <a:ext cx="19000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1148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исип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3" descr="лисипп портрет сократа"/>
          <p:cNvPicPr/>
          <p:nvPr/>
        </p:nvPicPr>
        <p:blipFill>
          <a:blip r:embed="rId1"/>
          <a:stretch/>
        </p:blipFill>
        <p:spPr>
          <a:xfrm>
            <a:off x="3995640" y="4365720"/>
            <a:ext cx="16750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лисипп голова алкс македонск из пергама"/>
          <p:cNvPicPr/>
          <p:nvPr/>
        </p:nvPicPr>
        <p:blipFill>
          <a:blip r:embed="rId2"/>
          <a:stretch/>
        </p:blipFill>
        <p:spPr>
          <a:xfrm>
            <a:off x="395280" y="54936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лисипп голова александра македонского"/>
          <p:cNvPicPr/>
          <p:nvPr/>
        </p:nvPicPr>
        <p:blipFill>
          <a:blip r:embed="rId3"/>
          <a:srcRect l="0" t="0" r="0" b="24932"/>
          <a:stretch/>
        </p:blipFill>
        <p:spPr>
          <a:xfrm>
            <a:off x="1835280" y="2133720"/>
            <a:ext cx="1985760" cy="2184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659640" y="549360"/>
            <a:ext cx="2197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акс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фродита Книд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аморная римская копия. Середи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до н. 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афродита книдская Пракситель"/>
          <p:cNvPicPr/>
          <p:nvPr/>
        </p:nvPicPr>
        <p:blipFill>
          <a:blip r:embed="rId1"/>
          <a:stretch/>
        </p:blipFill>
        <p:spPr>
          <a:xfrm>
            <a:off x="1979640" y="1268280"/>
            <a:ext cx="1828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к уроку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кладывалась судьба древнегреческой скульптур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ешалась проблема красоты и проблема человека в греческой скульпту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чего и к чему пришли гре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хаика</a:t>
            </a:r>
            <a:br>
              <a:rPr sz="4000"/>
            </a:br>
            <a:br>
              <a:rPr sz="2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рос                     К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2541600" cy="44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курос3"/>
          <p:cNvPicPr/>
          <p:nvPr/>
        </p:nvPicPr>
        <p:blipFill>
          <a:blip r:embed="rId2"/>
          <a:srcRect l="18748" t="0" r="0" b="16873"/>
          <a:stretch/>
        </p:blipFill>
        <p:spPr>
          <a:xfrm>
            <a:off x="971640" y="1773360"/>
            <a:ext cx="3305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атуях куросов чувствуется влияние монументальной египетской скульп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288px-MenkauraAndQueen_MuseumOfFineArtsBoston"/>
          <p:cNvPicPr/>
          <p:nvPr/>
        </p:nvPicPr>
        <p:blipFill>
          <a:blip r:embed="rId1"/>
          <a:stretch/>
        </p:blipFill>
        <p:spPr>
          <a:xfrm>
            <a:off x="5508720" y="1700280"/>
            <a:ext cx="2181240" cy="454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курос3"/>
          <p:cNvPicPr/>
          <p:nvPr/>
        </p:nvPicPr>
        <p:blipFill>
          <a:blip r:embed="rId2"/>
          <a:srcRect l="18748" t="0" r="0" b="16873"/>
          <a:stretch/>
        </p:blipFill>
        <p:spPr>
          <a:xfrm>
            <a:off x="971640" y="177336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нняя классика – переход от статичности к движени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2147760" cy="364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rcRect l="0" t="0" r="0" b="56096"/>
          <a:stretch/>
        </p:blipFill>
        <p:spPr>
          <a:xfrm>
            <a:off x="5435640" y="4581360"/>
            <a:ext cx="3433680" cy="1687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мосхофор"/>
          <p:cNvPicPr/>
          <p:nvPr/>
        </p:nvPicPr>
        <p:blipFill>
          <a:blip r:embed="rId3"/>
          <a:stretch/>
        </p:blipFill>
        <p:spPr>
          <a:xfrm>
            <a:off x="1042920" y="1628640"/>
            <a:ext cx="27892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сокая класс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мирон дискобол2"/>
          <p:cNvPicPr/>
          <p:nvPr/>
        </p:nvPicPr>
        <p:blipFill>
          <a:blip r:embed="rId1"/>
          <a:stretch/>
        </p:blipFill>
        <p:spPr>
          <a:xfrm>
            <a:off x="1547640" y="1413000"/>
            <a:ext cx="2973600" cy="5038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88000" y="1483920"/>
            <a:ext cx="40384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р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кобол.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о н.э. Римская копия с бронзового оригина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1640" y="620640"/>
            <a:ext cx="3754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оликлет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рифор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до н. э. Реконструкция в бронзе с мраморной римской ко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поликлет дорифор"/>
          <p:cNvPicPr/>
          <p:nvPr/>
        </p:nvPicPr>
        <p:blipFill>
          <a:blip r:embed="rId1"/>
          <a:stretch/>
        </p:blipFill>
        <p:spPr>
          <a:xfrm>
            <a:off x="1258920" y="907920"/>
            <a:ext cx="25225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нон Поликл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figure_gips2"/>
          <p:cNvPicPr/>
          <p:nvPr/>
        </p:nvPicPr>
        <p:blipFill>
          <a:blip r:embed="rId1"/>
          <a:stretch/>
        </p:blipFill>
        <p:spPr>
          <a:xfrm>
            <a:off x="5148360" y="1628640"/>
            <a:ext cx="2846160" cy="459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image050"/>
          <p:cNvPicPr/>
          <p:nvPr/>
        </p:nvPicPr>
        <p:blipFill>
          <a:blip r:embed="rId2"/>
          <a:stretch/>
        </p:blipFill>
        <p:spPr>
          <a:xfrm>
            <a:off x="1547640" y="1700280"/>
            <a:ext cx="22780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вните «Дискабола» Мирона и «Дорифора» Поликлета, найдите максимальное количество общих и отличительных че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мирон дискобол2"/>
          <p:cNvPicPr/>
          <p:nvPr/>
        </p:nvPicPr>
        <p:blipFill>
          <a:blip r:embed="rId1"/>
          <a:stretch/>
        </p:blipFill>
        <p:spPr>
          <a:xfrm>
            <a:off x="1042920" y="1844640"/>
            <a:ext cx="2602080" cy="4408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поликлет дорифор"/>
          <p:cNvPicPr/>
          <p:nvPr/>
        </p:nvPicPr>
        <p:blipFill>
          <a:blip r:embed="rId2"/>
          <a:srcRect l="0" t="6749" r="0" b="3374"/>
          <a:stretch/>
        </p:blipFill>
        <p:spPr>
          <a:xfrm>
            <a:off x="5435640" y="1773360"/>
            <a:ext cx="2382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51:19Z</dcterms:created>
  <dc:creator>home</dc:creator>
  <dc:description/>
  <dc:language>en-US</dc:language>
  <cp:lastModifiedBy>HOME</cp:lastModifiedBy>
  <dcterms:modified xsi:type="dcterms:W3CDTF">2020-04-04T08:43:17Z</dcterms:modified>
  <cp:revision>9</cp:revision>
  <dc:subject/>
  <dc:title>Слайд 1</dc:title>
</cp:coreProperties>
</file>