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ACF-BAD6-41B3-B340-A635B4F97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FFE-48F8-45AE-8F25-EB94E1981A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DFD-1386-4E6C-8463-2993EBF8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FB9-B982-4349-AA2B-84E30EEE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F84-5772-40BB-8ECD-7A60248A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C9F-457A-4242-86AE-E5748C49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3864-DA5D-4AC2-AA79-A68EF525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CB2B-5A35-4F91-A245-D5FEC95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1F65-9548-4042-BF89-B64BDB9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4B55E-4C7F-4C02-9AE3-E97FFFD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7C4A2-9BBF-4F48-AED0-8B228375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D8CA3-9957-46C4-9792-DA0475C6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3FAC8-CBA8-49C1-B570-CB631269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8AB-64DE-4A43-9578-787E173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2275-F2A9-42FA-99EC-4D8C80AE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AEEB-64CD-416D-A859-FFB27607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976E3-F32A-42A3-BAB3-7E7AE76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D67AA-94F0-4EA7-8BBA-7A77FE4D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79ED-021C-490D-A887-DA6FCCCA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A1C-17C1-4FAF-A0AA-0B6B37F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3A0-BA96-451E-94F1-888B245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6EA-3470-4CDD-AE70-3A2128D2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887-927E-43D5-A71B-6A2DC575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A8D-7315-440F-BF6F-12BC9FA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4D8-7973-446C-A80E-94281A4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A0A-BB8C-454A-B4E6-CC8B678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90D-54D8-4C7C-9833-2FA2D355D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B86-AB66-40EF-9040-B8E6C9B355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21364200">
            <a:off x="-16200" y="-733320"/>
            <a:ext cx="8947080" cy="30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0"/>
            </a:br>
            <a:r>
              <a:rPr b="1" lang="ru-RU" sz="15000" spc="-1" strike="noStrike">
                <a:solidFill>
                  <a:srgbClr val="ffff00"/>
                </a:solidFill>
                <a:latin typeface="Monotype Corsiva"/>
              </a:rPr>
              <a:t>Вулканы</a:t>
            </a:r>
            <a:br>
              <a:rPr sz="15000"/>
            </a:br>
            <a:endParaRPr b="0" lang="en-US" sz="15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3e3ff"/>
                </a:solidFill>
                <a:uFillTx/>
                <a:latin typeface="Times New Roman"/>
                <a:ea typeface="Times New Roman"/>
              </a:rPr>
              <a:t>Вулканическая деятельность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9" descr="tolb1"/>
          <p:cNvPicPr/>
          <p:nvPr/>
        </p:nvPicPr>
        <p:blipFill>
          <a:blip r:embed="rId1"/>
          <a:stretch/>
        </p:blipFill>
        <p:spPr>
          <a:xfrm>
            <a:off x="5214960" y="1052640"/>
            <a:ext cx="3643200" cy="47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357120" y="107172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адание в легкие мельчайших частиц пепла приводит к гибели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435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зучение  вулкан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840" y="857160"/>
            <a:ext cx="4281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ы - это окна в глубины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звержениям ученые изучают состав, свойства веществ, находящихся в земной коре на большой глубине. Открываются тайны образования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2920" y="260280"/>
            <a:ext cx="403884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0" descr="Karim4c"/>
          <p:cNvPicPr/>
          <p:nvPr/>
        </p:nvPicPr>
        <p:blipFill>
          <a:blip r:embed="rId1"/>
          <a:stretch/>
        </p:blipFill>
        <p:spPr>
          <a:xfrm>
            <a:off x="4572000" y="285840"/>
            <a:ext cx="4286160" cy="5664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516720" y="2637000"/>
            <a:ext cx="26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ёных, которые следят за состоянием вулканов и часто могут предсказать начало их извержений называют вулканол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 настоящее время специальные люди-ученые изучают вулканы и сообщают об извержениях заранее. И если в этом месте есть жители, то они смогут покинуть город и спастись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C:\Users\Оксана\Desktop\----77~1.JPG"/>
          <p:cNvPicPr/>
          <p:nvPr/>
        </p:nvPicPr>
        <p:blipFill>
          <a:blip r:embed="rId2"/>
          <a:srcRect l="9837" t="6557" r="0" b="0"/>
          <a:stretch/>
        </p:blipFill>
        <p:spPr>
          <a:xfrm>
            <a:off x="0" y="2276640"/>
            <a:ext cx="3301920" cy="227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Users\Оксана\Pictures\1371750987_278992766.jpg"/>
          <p:cNvPicPr/>
          <p:nvPr/>
        </p:nvPicPr>
        <p:blipFill>
          <a:blip r:embed="rId3"/>
          <a:srcRect l="8612" t="15322" r="16326" b="5938"/>
          <a:stretch/>
        </p:blipFill>
        <p:spPr>
          <a:xfrm>
            <a:off x="1187280" y="4437000"/>
            <a:ext cx="316872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Оксана\Desktop\untitled.bmp"/>
          <p:cNvPicPr/>
          <p:nvPr/>
        </p:nvPicPr>
        <p:blipFill>
          <a:blip r:embed="rId1"/>
          <a:stretch/>
        </p:blipFill>
        <p:spPr>
          <a:xfrm>
            <a:off x="0" y="1125360"/>
            <a:ext cx="4073400" cy="2806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й пепел – удобрение для растен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й туф (горная порода)- возводят зда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Picture 3" descr="C:\Users\Оксана\Desktop\untid.bmp"/>
          <p:cNvPicPr/>
          <p:nvPr/>
        </p:nvPicPr>
        <p:blipFill>
          <a:blip r:embed="rId2"/>
          <a:stretch/>
        </p:blipFill>
        <p:spPr>
          <a:xfrm>
            <a:off x="611280" y="3716280"/>
            <a:ext cx="4068720" cy="2982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Оксана\Desktop\unled.bmp"/>
          <p:cNvPicPr/>
          <p:nvPr/>
        </p:nvPicPr>
        <p:blipFill>
          <a:blip r:embed="rId3"/>
          <a:stretch/>
        </p:blipFill>
        <p:spPr>
          <a:xfrm>
            <a:off x="5226120" y="1125360"/>
            <a:ext cx="3917880" cy="293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Оксана\Desktop\unti.bmp"/>
          <p:cNvPicPr/>
          <p:nvPr/>
        </p:nvPicPr>
        <p:blipFill>
          <a:blip r:embed="rId4"/>
          <a:stretch/>
        </p:blipFill>
        <p:spPr>
          <a:xfrm>
            <a:off x="4643280" y="3681360"/>
            <a:ext cx="39610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Оксана\Desktop\mayon-volc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199200" y="1989000"/>
            <a:ext cx="29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лканы кажутся красивыми, но они очень опасны. Ведь огненная каша-ла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ливаясь из горы, может разрушить города, где живут люди, устроить пожар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улканы кажутся красивыми, но они очень опасны. Ведь огненная каша-лава, выливаясь из горы, может разрушить города, где живут люди, устроить пожар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Оксан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у картину написал художник Карл Павлович Брюллов. Она называется «Последний день Помпеи». Извергающийся вулкан разрушает древний город и мужественные люди пытаются спаст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ту картину написал художник карл павлович брюллов. Она называется «последний день помпеи». Извергающийся вулкан разрушает древний город и мужественные люди пытаются спастись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опросы и задания для закрепления материал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840" y="1600200"/>
            <a:ext cx="86439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то такое вулк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ак образуются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ие виды вулканов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чему и как изучают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 rot="21092400">
            <a:off x="436320" y="10137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СПАСИБО  ЗА  ВНИМАНИЕ!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img 5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то такое вулкан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125360"/>
            <a:ext cx="8607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 - это геологическое образование, возникающее над трещинами в земной коре и по форме напоминающее гор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285920" y="5214960"/>
            <a:ext cx="6572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римской мифологии слово «вулкан» означает – Бог ог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840" y="1267920"/>
            <a:ext cx="4429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ившаяся на поверхность Земли магма называется -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схема"/>
          <p:cNvPicPr/>
          <p:nvPr/>
        </p:nvPicPr>
        <p:blipFill>
          <a:blip r:embed="rId1"/>
          <a:stretch/>
        </p:blipFill>
        <p:spPr>
          <a:xfrm>
            <a:off x="4859280" y="1000080"/>
            <a:ext cx="4284720" cy="5572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85840" y="214200"/>
            <a:ext cx="857232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язевые потоки со временем уплотняются и образуется особый вид твердой породы -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улканический ту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mg 4"/>
          <p:cNvPicPr/>
          <p:nvPr/>
        </p:nvPicPr>
        <p:blipFill>
          <a:blip r:embed="rId1"/>
          <a:stretch/>
        </p:blipFill>
        <p:spPr>
          <a:xfrm>
            <a:off x="4714920" y="3214800"/>
            <a:ext cx="4429080" cy="36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etna1999"/>
          <p:cNvPicPr/>
          <p:nvPr/>
        </p:nvPicPr>
        <p:blipFill>
          <a:blip r:embed="rId2"/>
          <a:stretch/>
        </p:blipFill>
        <p:spPr>
          <a:xfrm>
            <a:off x="0" y="3213000"/>
            <a:ext cx="44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Стро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648320" y="1000080"/>
            <a:ext cx="4138560" cy="5143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213840" y="928440"/>
            <a:ext cx="4281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л, по которому поднимается магма, называется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жер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еобразное углубление на вершине вулкана – это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кра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продукты извержения, поднявшиеся и выброшенные из жерла вулкана, образуют гору -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нус вулк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928800"/>
            <a:ext cx="41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извержения куски раскаленной лавы  выбрасываются на большую высоту -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pumic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416"/>
                </a:solidFill>
                <a:latin typeface="Arial"/>
              </a:rPr>
              <a:t>Кусочки застывшей лавы - пемза. Посмотрте какая она интересная. Внутри этого камешка пузырьки воздуха. Это потому, что лава кипела и бурлила, а потом так и засты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усочки застывшей лавы - пемза. Посмотри какая она интересная. Внутри этого камешка пузырьки воздуха. Это потому, что лава кипела и бурлила, а потом так и застыла! (Если пемза есть у вас дома, рассмотрите её.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иды вулканов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йствующ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которые извергаются  регуляр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тухш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действие которых прекратилось и они больше не изверг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снувш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которые считались потухшими, но вдруг начали действ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улканическая  деятельность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3840" y="999720"/>
            <a:ext cx="42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ржения вулканов угрожают жизни людей и наносят материальный ущер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90756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img 2"/>
          <p:cNvPicPr/>
          <p:nvPr/>
        </p:nvPicPr>
        <p:blipFill>
          <a:blip r:embed="rId1"/>
          <a:stretch/>
        </p:blipFill>
        <p:spPr>
          <a:xfrm>
            <a:off x="4643280" y="907920"/>
            <a:ext cx="4500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Алёна Гурова</cp:lastModifiedBy>
  <dcterms:modified xsi:type="dcterms:W3CDTF">2020-04-04T13:24:57Z</dcterms:modified>
  <cp:revision>28</cp:revision>
  <dc:subject/>
  <dc:title>ВУЛКА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b0000000000010243100207f6000400038000</vt:lpwstr>
  </property>
</Properties>
</file>