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sound001.wav" ContentType="audio/x-wav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9932-91E8-4D7A-A811-05C038B48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006D-8EDA-4942-A3A0-27EF6EA43E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129-6196-46DE-B918-0E424DF3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EAC-DE51-4164-BD42-A17792DE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3F9-5E86-4302-B3EA-B44A8291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E21-CDB3-4EA9-8FD4-2AEB4AFE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0F555-6983-4AE1-B886-037A2B83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2C476-56AB-4340-968A-26B62465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C9B5D-F67B-4A0C-8B64-290506C0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B6F1F-6F72-4E7A-AC0F-D74E6C09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04E02-C10A-45AF-819D-9C66F8CE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80D02-9864-4E85-83D7-B23F94E4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FCEA1-4B87-460F-A236-F9F6E4B8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39F-B889-4BB8-A3C4-23BDDCB6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509DC-7251-4FDC-A6DC-0F131091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B0963-F159-434C-90B8-0E9FE2B1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1C729-D083-4F09-87BC-3607F4B0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6F40A-A4C9-41E9-95F6-DAF3E689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9802B-4240-4A23-9EB9-7D90BAF7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C8B-1D4A-466A-A905-73091DA7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3AA-2E8D-462E-AC27-EEB0BEE6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3F5-9ACB-4C71-93A3-98AAAAA4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A44-B632-4379-818E-2DB9830D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8E9-1384-48D1-A83F-0D6B47A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61D-A9D2-4CF6-A665-F8639812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CC6-D7BE-496C-9D71-4EB3E4F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BB4A-5854-4665-A50F-FB6D48C76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5EDE-754E-488E-A2FC-A05EE9A40C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 rot="21364200">
            <a:off x="-16200" y="-733320"/>
            <a:ext cx="8947080" cy="30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0"/>
            </a:br>
            <a:r>
              <a:rPr b="1" lang="ru-RU" sz="15000" spc="-1" strike="noStrike">
                <a:solidFill>
                  <a:srgbClr val="ffff00"/>
                </a:solidFill>
                <a:latin typeface="Monotype Corsiva"/>
              </a:rPr>
              <a:t>Вулканы</a:t>
            </a:r>
            <a:br>
              <a:rPr sz="15000"/>
            </a:br>
            <a:endParaRPr b="0" lang="en-US" sz="15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3e3ff"/>
                </a:solidFill>
                <a:uFillTx/>
                <a:latin typeface="Times New Roman"/>
                <a:ea typeface="Times New Roman"/>
              </a:rPr>
              <a:t>Вулканическая деятельность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9" descr="tolb1"/>
          <p:cNvPicPr/>
          <p:nvPr/>
        </p:nvPicPr>
        <p:blipFill>
          <a:blip r:embed="rId1"/>
          <a:stretch/>
        </p:blipFill>
        <p:spPr>
          <a:xfrm>
            <a:off x="5214960" y="1052640"/>
            <a:ext cx="3643200" cy="473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1" name="Rectangle 6"/>
          <p:cNvSpPr/>
          <p:nvPr/>
        </p:nvSpPr>
        <p:spPr>
          <a:xfrm>
            <a:off x="357120" y="1071720"/>
            <a:ext cx="442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ледствие вулканических извержений на крышах зданий накапливаются мощные слои пепла, что грозит их обруш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адание в легкие мельчайших частиц пепла приводит к гибели ск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есь пепла в воздухе представляет опасность для автомобильного и воздушного транспо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43574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зучение  вулканов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13840" y="857160"/>
            <a:ext cx="4281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каны - это окна в глубины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извержениям ученые изучают состав, свойства веществ, находящихся в земной коре на большой глубине. Открываются тайны образования полезных ископаем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2920" y="260280"/>
            <a:ext cx="4038840" cy="58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0" descr="Karim4c"/>
          <p:cNvPicPr/>
          <p:nvPr/>
        </p:nvPicPr>
        <p:blipFill>
          <a:blip r:embed="rId1"/>
          <a:stretch/>
        </p:blipFill>
        <p:spPr>
          <a:xfrm>
            <a:off x="4572000" y="285840"/>
            <a:ext cx="4286160" cy="5664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516720" y="2637000"/>
            <a:ext cx="262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чёных, которые следят за состоянием вулканов и часто могут предсказать начало их извержений называют вулканол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 настоящее время специальные люди-ученые изучают вулканы и сообщают об извержениях заранее. И если в этом месте есть жители, то они смогут покинуть город и спастись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7" descr="C:\Users\Оксана\Desktop\----77~1.JPG"/>
          <p:cNvPicPr/>
          <p:nvPr/>
        </p:nvPicPr>
        <p:blipFill>
          <a:blip r:embed="rId2"/>
          <a:srcRect l="9837" t="6557" r="0" b="0"/>
          <a:stretch/>
        </p:blipFill>
        <p:spPr>
          <a:xfrm>
            <a:off x="0" y="2276640"/>
            <a:ext cx="3301920" cy="227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Users\Оксана\Pictures\1371750987_278992766.jpg"/>
          <p:cNvPicPr/>
          <p:nvPr/>
        </p:nvPicPr>
        <p:blipFill>
          <a:blip r:embed="rId3"/>
          <a:srcRect l="8612" t="15322" r="16326" b="5938"/>
          <a:stretch/>
        </p:blipFill>
        <p:spPr>
          <a:xfrm>
            <a:off x="1187280" y="4437000"/>
            <a:ext cx="316872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Оксана\Desktop\untitled.bmp"/>
          <p:cNvPicPr/>
          <p:nvPr/>
        </p:nvPicPr>
        <p:blipFill>
          <a:blip r:embed="rId1"/>
          <a:stretch/>
        </p:blipFill>
        <p:spPr>
          <a:xfrm>
            <a:off x="0" y="1125360"/>
            <a:ext cx="4073400" cy="2806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канический пепел – удобрение для растен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канический туф (горная порода)- возводят здани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3" name="Picture 3" descr="C:\Users\Оксана\Desktop\untid.bmp"/>
          <p:cNvPicPr/>
          <p:nvPr/>
        </p:nvPicPr>
        <p:blipFill>
          <a:blip r:embed="rId2"/>
          <a:stretch/>
        </p:blipFill>
        <p:spPr>
          <a:xfrm>
            <a:off x="611280" y="3716280"/>
            <a:ext cx="4068720" cy="2982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Оксана\Desktop\unled.bmp"/>
          <p:cNvPicPr/>
          <p:nvPr/>
        </p:nvPicPr>
        <p:blipFill>
          <a:blip r:embed="rId3"/>
          <a:stretch/>
        </p:blipFill>
        <p:spPr>
          <a:xfrm>
            <a:off x="5226120" y="1125360"/>
            <a:ext cx="3917880" cy="293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Оксана\Desktop\unti.bmp"/>
          <p:cNvPicPr/>
          <p:nvPr/>
        </p:nvPicPr>
        <p:blipFill>
          <a:blip r:embed="rId4"/>
          <a:stretch/>
        </p:blipFill>
        <p:spPr>
          <a:xfrm>
            <a:off x="4643280" y="3681360"/>
            <a:ext cx="39610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:\Users\Оксана\Desktop\mayon-volca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6199200" y="1989000"/>
            <a:ext cx="29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лканы кажутся красивыми, но они очень опасны. Ведь огненная каша-ла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ливаясь из горы, может разрушить города, где живут люди, устроить пожар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улканы кажутся красивыми, но они очень опасны. Ведь огненная каша-лава, выливаясь из горы, может разрушить города, где живут люди, устроить пожар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Оксана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у картину написал художник Карл Павлович Брюллов. Она называется «Последний день Помпеи». Извергающийся вулкан разрушает древний город и мужественные люди пытаются спаст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Эту картину написал художник карл павлович брюллов. Она называется «последний день помпеи». Извергающийся вулкан разрушает древний город и мужественные люди пытаются спастись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Вопросы и задания для закрепления материал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3840" y="1600200"/>
            <a:ext cx="86439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Что такое вулка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ак образуются вулка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акие виды вулканов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чему и как изучают вулка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 rot="21092400">
            <a:off x="436320" y="10137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Monotype Corsiva"/>
              </a:rPr>
              <a:t>СПАСИБО  ЗА  ВНИМАНИЕ!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img 5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Что такое вулкан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125360"/>
            <a:ext cx="8607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кан - это геологическое образование, возникающее над трещинами в земной коре и по форме напоминающее гор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1285920" y="5214960"/>
            <a:ext cx="65721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еримской мифологии слово «вулкан» означает – Бог ог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ние вулк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3840" y="1267920"/>
            <a:ext cx="4429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ctr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ящаяся на глубине огненно-жидкая масса при вскипании и под большим давлением, расширяя трещину в земной коре, устремляется вверх. Это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г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ctr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ившаяся на поверхность Земли магма называется -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схема"/>
          <p:cNvPicPr/>
          <p:nvPr/>
        </p:nvPicPr>
        <p:blipFill>
          <a:blip r:embed="rId1"/>
          <a:stretch/>
        </p:blipFill>
        <p:spPr>
          <a:xfrm>
            <a:off x="4859280" y="1000080"/>
            <a:ext cx="4284720" cy="5572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5"/>
          <p:cNvSpPr/>
          <p:nvPr/>
        </p:nvSpPr>
        <p:spPr>
          <a:xfrm>
            <a:off x="7596360" y="51577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0"/>
          <p:cNvSpPr/>
          <p:nvPr/>
        </p:nvSpPr>
        <p:spPr>
          <a:xfrm rot="1857600">
            <a:off x="7164000" y="213372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-0.01337 0.10833 C -0.01563 0.13171 -0.02535 0.15972 -0.0401 0.18403 C -0.05677 0.21181 -0.07431 0.22963 -0.09097 0.23773 L -0.16754 0.27893 E">
                                      <p:cBhvr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85840" y="214200"/>
            <a:ext cx="857232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до извержения вершина вулкана была покрыта снегом и льдом, то раскаленная лава растапливает 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, смешанная с пеплом и камнями, образует грязевые потоки, которые несутся вниз, опустошая все на своем пу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язевые потоки со временем уплотняются и образуется особый вид твердой породы - 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улканический ту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mg 4"/>
          <p:cNvPicPr/>
          <p:nvPr/>
        </p:nvPicPr>
        <p:blipFill>
          <a:blip r:embed="rId1"/>
          <a:stretch/>
        </p:blipFill>
        <p:spPr>
          <a:xfrm>
            <a:off x="4714920" y="3214800"/>
            <a:ext cx="4429080" cy="36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etna1999"/>
          <p:cNvPicPr/>
          <p:nvPr/>
        </p:nvPicPr>
        <p:blipFill>
          <a:blip r:embed="rId2"/>
          <a:stretch/>
        </p:blipFill>
        <p:spPr>
          <a:xfrm>
            <a:off x="0" y="3213000"/>
            <a:ext cx="44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Строение вулк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4648320" y="1000080"/>
            <a:ext cx="4138560" cy="5143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5" name=""/>
          <p:cNvSpPr txBox="1"/>
          <p:nvPr/>
        </p:nvSpPr>
        <p:spPr>
          <a:xfrm>
            <a:off x="213840" y="928440"/>
            <a:ext cx="4281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ал, по которому поднимается магма, называется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жер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еобразное углубление на вершине вулкана – это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крат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продукты извержения, поднявшиеся и выброшенные из жерла вулкана, образуют гору -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онус вулк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Извержение вулк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928800"/>
            <a:ext cx="41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ржение вулкана сопровождается подземным гулом, иногда землетрясением, лив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время извержения куски раскаленной лавы  выбрасываются на большую высоту - это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улканические бом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pumice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51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416"/>
                </a:solidFill>
                <a:latin typeface="Arial"/>
              </a:rPr>
              <a:t>Кусочки застывшей лавы - пемза. Посмотрте какая она интересная. Внутри этого камешка пузырьки воздуха. Это потому, что лава кипела и бурлила, а потом так и засты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усочки застывшей лавы - пемза. Посмотри какая она интересная. Внутри этого камешка пузырьки воздуха. Это потому, что лава кипела и бурлила, а потом так и застыла! (Если пемза есть у вас дома, рассмотрите её.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иды вулканов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йствующие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улканы, которые извергаются  регуляр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тухшие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улканы, действие которых прекратилось и они больше не извергаю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снувшие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улканы, которые считались потухшими, но вдруг начали действов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Вулканическая  деятельность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3840" y="999720"/>
            <a:ext cx="4281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ржения вулканов угрожают жизни людей и наносят материальный ущер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вовые потоки разрушают здания, перекрывают дороги и сельскохозяйственные земли, которые на много столетий исключаются из хозяйственного использования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90756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img 2"/>
          <p:cNvPicPr/>
          <p:nvPr/>
        </p:nvPicPr>
        <p:blipFill>
          <a:blip r:embed="rId1"/>
          <a:stretch/>
        </p:blipFill>
        <p:spPr>
          <a:xfrm>
            <a:off x="4643280" y="907920"/>
            <a:ext cx="4500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21:36:49Z</dcterms:created>
  <dc:creator>koor</dc:creator>
  <dc:description>школы №1732 
Г. Москвы СВАО 
Дубовицкой Ирины Юрьевны
</dc:description>
  <dc:language>en-US</dc:language>
  <cp:lastModifiedBy>Алёна Гурова</cp:lastModifiedBy>
  <dcterms:modified xsi:type="dcterms:W3CDTF">2020-04-04T13:24:57Z</dcterms:modified>
  <cp:revision>28</cp:revision>
  <dc:subject/>
  <dc:title>ВУЛКА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b0000000000010243100207f6000400038000</vt:lpwstr>
  </property>
</Properties>
</file>