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coin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6858000" cy="9144000"/>
  <p:custShowLst>
    <p:custShow name="Произвольный показ 1" id="0">
      <p:sldLst>
        <p:sld r:id="rId5"/>
        <p:sld r:id="rId7"/>
        <p:sld r:id="rId10"/>
        <p:sld r:id="rId9"/>
        <p:sld r:id="rId6"/>
        <p:sld r:id="rId13"/>
        <p:sld r:id="rId12"/>
        <p:sld r:id="rId16"/>
        <p:sld r:id="rId15"/>
        <p:sld r:id="rId14"/>
        <p:sld r:id="rId11"/>
        <p:sld r:id="rId17"/>
        <p:sld r:id="rId18"/>
        <p:sld r:id="rId9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D1F3-9BCE-454A-9B6B-AD5552966B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5386-7893-4032-AFE8-CE417BE87D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2610-F716-4978-AAF9-2DD5EF51F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1107-76AF-4924-981A-E57C9D6A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13EB-E6A7-4CB6-BFBF-8F27399B1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DFDB-3EA9-43B7-A273-3A5AA484E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5AF3-72EB-4DF0-9C92-B0CA75366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05C4-9B81-48E0-81CF-01D3D780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7C19-47AF-4462-A6D9-90E2C989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5B3C-CEDC-4B26-9A84-2BB4B5B8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7387-3784-4559-BA7B-844902AF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A92E-FB97-4770-B40B-C315C4AC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E555-47DC-48B2-988C-57429A35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4EAD-DBAD-421B-801D-42267019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2DA1-D887-4873-B5EE-4FDAA270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C19B-8C1A-4E06-AE6B-E97AC7D8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4EF61-BC98-46C4-9593-CF402570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C98D8-3424-4941-A304-B83A9DDF7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1BA6-D3C0-4EA7-BBE4-DD4BB2989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137A-2B4D-45A7-905D-06C5CEFE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8F51-734A-4806-A602-DFE000E2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6F65-41F7-428C-8129-2D428561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B5E7-E3AE-47A8-8E16-C0FE87AC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8553-338A-4A16-B7F0-924E50B9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3BC8-57DD-4E4A-BE9C-C7B3C2C0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0B98-A915-4D1E-B4AF-A66DE376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7b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7b5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7b5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7b5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64AA-2FDC-4234-AA43-A6B409C7D48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utoShape 13">
            <a:hlinkClick r:id="rId3" action="ppaction://hlinksldjump"/>
          </p:cNvPr>
          <p:cNvSpPr/>
          <p:nvPr/>
        </p:nvSpPr>
        <p:spPr>
          <a:xfrm>
            <a:off x="5943600" y="304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7b5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AutoShape 14">
            <a:hlinkClick r:id="" action="ppaction://hlinkshowjump?jump=endshow"/>
          </p:cNvPr>
          <p:cNvSpPr/>
          <p:nvPr/>
        </p:nvSpPr>
        <p:spPr>
          <a:xfrm>
            <a:off x="7315200" y="30492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7b5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AutoShape 15">
            <a:hlinkClick r:id="" action="ppaction://hlinkshowjump?jump=lastslide"/>
          </p:cNvPr>
          <p:cNvSpPr/>
          <p:nvPr/>
        </p:nvSpPr>
        <p:spPr>
          <a:xfrm>
            <a:off x="6629400" y="304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c7b5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0" y="0"/>
            <a:ext cx="1752480" cy="4876920"/>
          </a:xfrm>
          <a:prstGeom prst="rect">
            <a:avLst/>
          </a:prstGeom>
          <a:solidFill>
            <a:srgbClr val="c7b5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4952880"/>
            <a:ext cx="9144000" cy="16002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228600" y="5181480"/>
            <a:ext cx="866772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635040" y="533520"/>
            <a:ext cx="8077320" cy="304560"/>
            <a:chOff x="635040" y="533520"/>
            <a:chExt cx="8077320" cy="304560"/>
          </a:xfrm>
        </p:grpSpPr>
        <p:sp>
          <p:nvSpPr>
            <p:cNvPr id="54" name="Rectangle 9"/>
            <p:cNvSpPr/>
            <p:nvPr/>
          </p:nvSpPr>
          <p:spPr>
            <a:xfrm>
              <a:off x="6273720" y="533520"/>
              <a:ext cx="2438640" cy="304560"/>
            </a:xfrm>
            <a:prstGeom prst="rect">
              <a:avLst/>
            </a:prstGeom>
            <a:solidFill>
              <a:srgbClr val="a0c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0"/>
            <p:cNvSpPr/>
            <p:nvPr/>
          </p:nvSpPr>
          <p:spPr>
            <a:xfrm>
              <a:off x="635040" y="685800"/>
              <a:ext cx="8077320" cy="0"/>
            </a:xfrm>
            <a:prstGeom prst="line">
              <a:avLst/>
            </a:prstGeom>
            <a:ln w="442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7b5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7b5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7b5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0536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7A94-8764-4B2B-972E-2DB02ADAE7E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15.xml"/><Relationship Id="rId3" Type="http://schemas.openxmlformats.org/officeDocument/2006/relationships/slide" Target="slide26.xml"/><Relationship Id="rId4" Type="http://schemas.openxmlformats.org/officeDocument/2006/relationships/slide" Target="slide39.xml"/><Relationship Id="rId5" Type="http://schemas.openxmlformats.org/officeDocument/2006/relationships/slide" Target="slide3.xml"/><Relationship Id="rId6" Type="http://schemas.openxmlformats.org/officeDocument/2006/relationships/slide" Target="slide59.xml"/><Relationship Id="rId7" Type="http://schemas.openxmlformats.org/officeDocument/2006/relationships/slide" Target="slide70.xml"/><Relationship Id="rId8" Type="http://schemas.openxmlformats.org/officeDocument/2006/relationships/slide" Target="slide81.xml"/><Relationship Id="rId9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hyperlink" Target="file:///tmp/home/.config/libreoffice/4/user/gallery/drumroll.wav" TargetMode="External"/><Relationship Id="rId10" Type="http://schemas.openxmlformats.org/officeDocument/2006/relationships/hyperlink" Target="file:///tmp/home/.config/libreoffice/4/user/gallery/drumroll.wav" TargetMode="Externa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drumroll.wav" TargetMode="External"/><Relationship Id="rId3" Type="http://schemas.openxmlformats.org/officeDocument/2006/relationships/hyperlink" Target="file:///tmp/home/.config/libreoffice/4/user/gallery/drumroll.wav" TargetMode="External"/><Relationship Id="rId4" Type="http://schemas.openxmlformats.org/officeDocument/2006/relationships/hyperlink" Target="file:///tmp/home/.config/libreoffice/4/user/gallery/drumroll.wav" TargetMode="External"/><Relationship Id="rId5" Type="http://schemas.openxmlformats.org/officeDocument/2006/relationships/hyperlink" Target="file:///tmp/home/.config/libreoffice/4/user/gallery/drumroll.wav" TargetMode="External"/><Relationship Id="rId6" Type="http://schemas.openxmlformats.org/officeDocument/2006/relationships/hyperlink" Target="file:///tmp/home/.config/libreoffice/4/user/gallery/drumroll.wav" TargetMode="External"/><Relationship Id="rId7" Type="http://schemas.openxmlformats.org/officeDocument/2006/relationships/hyperlink" Target="file:///tmp/home/.config/libreoffice/4/user/gallery/drumroll.wav" TargetMode="External"/><Relationship Id="rId8" Type="http://schemas.openxmlformats.org/officeDocument/2006/relationships/hyperlink" Target="file:///tmp/home/.config/libreoffice/4/user/gallery/drumroll.wav" TargetMode="External"/><Relationship Id="rId9" Type="http://schemas.openxmlformats.org/officeDocument/2006/relationships/hyperlink" Target="file:///tmp/home/.config/libreoffice/4/user/gallery/drumroll.wav" TargetMode="External"/><Relationship Id="rId10" Type="http://schemas.openxmlformats.org/officeDocument/2006/relationships/hyperlink" Target="file:///tmp/home/.config/libreoffice/4/user/gallery/drumroll.wav" TargetMode="Externa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drumroll.wav" TargetMode="External"/><Relationship Id="rId3" Type="http://schemas.openxmlformats.org/officeDocument/2006/relationships/hyperlink" Target="file:///tmp/home/.config/libreoffice/4/user/gallery/drumroll.wav" TargetMode="External"/><Relationship Id="rId4" Type="http://schemas.openxmlformats.org/officeDocument/2006/relationships/hyperlink" Target="file:///tmp/home/.config/libreoffice/4/user/gallery/drumroll.wav" TargetMode="External"/><Relationship Id="rId5" Type="http://schemas.openxmlformats.org/officeDocument/2006/relationships/hyperlink" Target="file:///tmp/home/.config/libreoffice/4/user/gallery/drumroll.wav" TargetMode="External"/><Relationship Id="rId6" Type="http://schemas.openxmlformats.org/officeDocument/2006/relationships/hyperlink" Target="file:///tmp/home/.config/libreoffice/4/user/gallery/drumroll.wav" TargetMode="External"/><Relationship Id="rId7" Type="http://schemas.openxmlformats.org/officeDocument/2006/relationships/hyperlink" Target="file:///tmp/home/.config/libreoffice/4/user/gallery/drumroll.wav" TargetMode="External"/><Relationship Id="rId8" Type="http://schemas.openxmlformats.org/officeDocument/2006/relationships/hyperlink" Target="file:///tmp/home/.config/libreoffice/4/user/gallery/drumroll.wav" TargetMode="External"/><Relationship Id="rId9" Type="http://schemas.openxmlformats.org/officeDocument/2006/relationships/hyperlink" Target="file:///tmp/home/.config/libreoffice/4/user/gallery/drumroll.wav" TargetMode="External"/><Relationship Id="rId10" Type="http://schemas.openxmlformats.org/officeDocument/2006/relationships/hyperlink" Target="file:///tmp/home/.config/libreoffice/4/user/gallery/drumroll.wav" TargetMode="Externa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100" spc="-1" strike="noStrike">
                <a:solidFill>
                  <a:srgbClr val="009999"/>
                </a:solidFill>
                <a:latin typeface="Vivaldi"/>
              </a:rPr>
              <a:t>Тренажёр Таблица умножения</a:t>
            </a:r>
            <a:endParaRPr b="0" lang="en-US" sz="101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9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1">
            <a:hlinkClick r:id="rId9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4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6">
            <a:hlinkClick r:id="rId4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2">
            <a:hlinkClick r:id="rId10" action="ppaction://hlinksldjump"/>
          </p:cNvPr>
          <p:cNvSpPr/>
          <p:nvPr/>
        </p:nvSpPr>
        <p:spPr>
          <a:xfrm>
            <a:off x="30492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8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0">
            <a:hlinkClick r:id="rId8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73152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400" spc="-1" strike="noStrike">
                <a:solidFill>
                  <a:srgbClr val="009999"/>
                </a:solidFill>
                <a:latin typeface="Goudy Stout"/>
              </a:rPr>
              <a:t>Поздравляю,            вы запомнили таблицу умножения на 2!</a:t>
            </a:r>
            <a:endParaRPr b="0" lang="en-US" sz="8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newsflash/>
    <p:sndAc>
      <p:stSnd>
        <p:snd r:embed="rId1" name="coin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1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4">
            <a:hlinkClick r:id="rId2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5">
            <a:hlinkClick r:id="rId3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5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7">
            <a:hlinkClick r:id="rId5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4">
            <a:hlinkClick r:id="rId2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5">
            <a:hlinkClick r:id="rId3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7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9">
            <a:hlinkClick r:id="rId7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1676520" y="914400"/>
            <a:ext cx="7467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9999"/>
                </a:solidFill>
                <a:latin typeface="Bradley Hand ITC"/>
              </a:rPr>
              <a:t>Какую таблицу </a:t>
            </a:r>
            <a:endParaRPr b="0" i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9999"/>
                </a:solidFill>
                <a:latin typeface="Bradley Hand ITC"/>
              </a:rPr>
              <a:t>вы хотели бы </a:t>
            </a:r>
            <a:endParaRPr b="0" i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9999"/>
                </a:solidFill>
                <a:latin typeface="Bradley Hand ITC"/>
              </a:rPr>
              <a:t>выучить?</a:t>
            </a:r>
            <a:endParaRPr b="0" i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914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>
            <a:hlinkClick r:id="rId2" action="ppaction://hlinksldjump"/>
          </p:cNvPr>
          <p:cNvSpPr/>
          <p:nvPr/>
        </p:nvSpPr>
        <p:spPr>
          <a:xfrm>
            <a:off x="1752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5">
            <a:hlinkClick r:id="rId3" action="ppaction://hlinksldjump"/>
          </p:cNvPr>
          <p:cNvSpPr/>
          <p:nvPr/>
        </p:nvSpPr>
        <p:spPr>
          <a:xfrm>
            <a:off x="2590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6">
            <a:hlinkClick r:id="rId4" action="ppaction://hlinksldjump"/>
          </p:cNvPr>
          <p:cNvSpPr/>
          <p:nvPr/>
        </p:nvSpPr>
        <p:spPr>
          <a:xfrm>
            <a:off x="3429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7">
            <a:hlinkClick r:id="rId5" action="ppaction://hlinksldjump"/>
          </p:cNvPr>
          <p:cNvSpPr/>
          <p:nvPr/>
        </p:nvSpPr>
        <p:spPr>
          <a:xfrm>
            <a:off x="4267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8">
            <a:hlinkClick r:id="rId6" action="ppaction://hlinksldjump"/>
          </p:cNvPr>
          <p:cNvSpPr/>
          <p:nvPr/>
        </p:nvSpPr>
        <p:spPr>
          <a:xfrm>
            <a:off x="5105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9">
            <a:hlinkClick r:id="rId7" action="ppaction://hlinksldjump"/>
          </p:cNvPr>
          <p:cNvSpPr/>
          <p:nvPr/>
        </p:nvSpPr>
        <p:spPr>
          <a:xfrm>
            <a:off x="5943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0">
            <a:hlinkClick r:id="rId8" action="ppaction://hlinksldjump"/>
          </p:cNvPr>
          <p:cNvSpPr/>
          <p:nvPr/>
        </p:nvSpPr>
        <p:spPr>
          <a:xfrm>
            <a:off x="67816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6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8">
            <a:hlinkClick r:id="rId6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9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11">
            <a:hlinkClick r:id="rId9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4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6">
            <a:hlinkClick r:id="rId4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12">
            <a:hlinkClick r:id="rId10" action="ppaction://hlinksldjump"/>
          </p:cNvPr>
          <p:cNvSpPr/>
          <p:nvPr/>
        </p:nvSpPr>
        <p:spPr>
          <a:xfrm>
            <a:off x="30492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8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0">
            <a:hlinkClick r:id="rId8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0" y="73152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400" spc="-1" strike="noStrike">
                <a:solidFill>
                  <a:srgbClr val="009999"/>
                </a:solidFill>
                <a:latin typeface="Goudy Stout"/>
              </a:rPr>
              <a:t>Поздравляю,            вы запомнили таблицу умножения на 3!</a:t>
            </a:r>
            <a:endParaRPr b="0" lang="en-US" sz="8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newsflash/>
    <p:sndAc>
      <p:stSnd>
        <p:snd r:embed="rId1" name="coin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1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4">
            <a:hlinkClick r:id="rId2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5">
            <a:hlinkClick r:id="rId3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WordArt 14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5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7">
            <a:hlinkClick r:id="rId5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4">
            <a:hlinkClick r:id="rId2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5">
            <a:hlinkClick r:id="rId3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731520"/>
            <a:ext cx="838224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200" spc="-1" strike="noStrike">
                <a:solidFill>
                  <a:srgbClr val="009999"/>
                </a:solidFill>
                <a:latin typeface="Matura MT Script Capitals"/>
              </a:rPr>
              <a:t>Обидно,               но вы ошиблись!</a:t>
            </a:r>
            <a:endParaRPr b="0" lang="en-US" sz="9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7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9">
            <a:hlinkClick r:id="rId7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6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8">
            <a:hlinkClick r:id="rId6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9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11">
            <a:hlinkClick r:id="rId9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4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6">
            <a:hlinkClick r:id="rId4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8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10">
            <a:hlinkClick r:id="rId8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12">
            <a:hlinkClick r:id="rId10" action="ppaction://hlinksldjump"/>
          </p:cNvPr>
          <p:cNvSpPr/>
          <p:nvPr/>
        </p:nvSpPr>
        <p:spPr>
          <a:xfrm>
            <a:off x="30492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73152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400" spc="-1" strike="noStrike">
                <a:solidFill>
                  <a:srgbClr val="009999"/>
                </a:solidFill>
                <a:latin typeface="Goudy Stout"/>
              </a:rPr>
              <a:t>Поздравляю,            вы запомнили таблицу умножения на 4!</a:t>
            </a:r>
            <a:endParaRPr b="0" lang="en-US" sz="8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newsflash/>
    <p:sndAc>
      <p:stSnd>
        <p:snd r:embed="rId1" name="coin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4">
            <a:hlinkClick r:id="rId2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5">
            <a:hlinkClick r:id="rId3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5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7">
            <a:hlinkClick r:id="rId5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1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1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7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9">
            <a:hlinkClick r:id="rId7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4">
            <a:hlinkClick r:id="rId2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5">
            <a:hlinkClick r:id="rId3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6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8">
            <a:hlinkClick r:id="rId6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9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11">
            <a:hlinkClick r:id="rId9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4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6">
            <a:hlinkClick r:id="rId4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8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10">
            <a:hlinkClick r:id="rId8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12">
            <a:hlinkClick r:id="rId10" action="ppaction://hlinksldjump"/>
          </p:cNvPr>
          <p:cNvSpPr/>
          <p:nvPr/>
        </p:nvSpPr>
        <p:spPr>
          <a:xfrm>
            <a:off x="30492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0" y="73152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400" spc="-1" strike="noStrike">
                <a:solidFill>
                  <a:srgbClr val="009999"/>
                </a:solidFill>
                <a:latin typeface="Goudy Stout"/>
              </a:rPr>
              <a:t>Поздравляю,            вы запомнили таблицу умножения на 5!</a:t>
            </a:r>
            <a:endParaRPr b="0" lang="en-US" sz="8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newsflash/>
    <p:sndAc>
      <p:stSnd>
        <p:snd r:embed="rId1" name="coin.wav"/>
      </p:stSnd>
    </p:sndAc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6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8">
            <a:hlinkClick r:id="rId6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1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5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7">
            <a:hlinkClick r:id="rId5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4">
            <a:hlinkClick r:id="rId2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5">
            <a:hlinkClick r:id="rId3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5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utoShape 7">
            <a:hlinkClick r:id="rId5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4">
            <a:hlinkClick r:id="rId2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5">
            <a:hlinkClick r:id="rId3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7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9">
            <a:hlinkClick r:id="rId7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9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AutoShape 11">
            <a:hlinkClick r:id="rId9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4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AutoShape 6">
            <a:hlinkClick r:id="rId4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8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AutoShape 10">
            <a:hlinkClick r:id="rId8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AutoShape 12">
            <a:hlinkClick r:id="rId10" action="ppaction://hlinksldjump"/>
          </p:cNvPr>
          <p:cNvSpPr/>
          <p:nvPr/>
        </p:nvSpPr>
        <p:spPr>
          <a:xfrm>
            <a:off x="30492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0" y="73152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400" spc="-1" strike="noStrike">
                <a:solidFill>
                  <a:srgbClr val="009999"/>
                </a:solidFill>
                <a:latin typeface="Goudy Stout"/>
              </a:rPr>
              <a:t>Поздравляю,            вы запомнили таблицу умножения на 6!</a:t>
            </a:r>
            <a:endParaRPr b="0" lang="en-US" sz="8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newsflash/>
    <p:sndAc>
      <p:stSnd>
        <p:snd r:embed="rId1" name="coin.wav"/>
      </p:stSnd>
    </p:sndAc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7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6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AutoShape 8">
            <a:hlinkClick r:id="rId6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3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">
            <a:hlinkClick r:id="rId3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7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1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7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AutoShape 4">
            <a:hlinkClick r:id="rId2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AutoShape 5">
            <a:hlinkClick r:id="rId3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7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5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AutoShape 7">
            <a:hlinkClick r:id="rId5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7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AutoShape 4">
            <a:hlinkClick r:id="rId2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AutoShape 5">
            <a:hlinkClick r:id="rId3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7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7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utoShape 9">
            <a:hlinkClick r:id="rId7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7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9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AutoShape 11">
            <a:hlinkClick r:id="rId9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7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4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AutoShape 6">
            <a:hlinkClick r:id="rId4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7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8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AutoShape 10">
            <a:hlinkClick r:id="rId8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7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AutoShape 12">
            <a:hlinkClick r:id="rId10" action="ppaction://hlinksldjump"/>
          </p:cNvPr>
          <p:cNvSpPr/>
          <p:nvPr/>
        </p:nvSpPr>
        <p:spPr>
          <a:xfrm>
            <a:off x="30492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0" y="73152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400" spc="-1" strike="noStrike">
                <a:solidFill>
                  <a:srgbClr val="009999"/>
                </a:solidFill>
                <a:latin typeface="Goudy Stout"/>
              </a:rPr>
              <a:t>Поздравляю,            вы запомнили таблицу умножения на 7!</a:t>
            </a:r>
            <a:endParaRPr b="0" lang="en-US" sz="8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newsflash/>
    <p:sndAc>
      <p:stSnd>
        <p:snd r:embed="rId1" name="coin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2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4">
            <a:hlinkClick r:id="rId2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8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6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AutoShape 8">
            <a:hlinkClick r:id="rId6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8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1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8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AutoShape 4">
            <a:hlinkClick r:id="rId2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AutoShape 5">
            <a:hlinkClick r:id="rId3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8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5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AutoShape 7">
            <a:hlinkClick r:id="rId5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8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AutoShape 4">
            <a:hlinkClick r:id="rId2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AutoShape 5">
            <a:hlinkClick r:id="rId3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8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7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AutoShape 9">
            <a:hlinkClick r:id="rId7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8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9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AutoShape 11">
            <a:hlinkClick r:id="rId9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8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4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AutoShape 6">
            <a:hlinkClick r:id="rId4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8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8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AutoShape 10">
            <a:hlinkClick r:id="rId8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8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AutoShape 12">
            <a:hlinkClick r:id="rId10" action="ppaction://hlinksldjump"/>
          </p:cNvPr>
          <p:cNvSpPr/>
          <p:nvPr/>
        </p:nvSpPr>
        <p:spPr>
          <a:xfrm>
            <a:off x="30492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7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9">
            <a:hlinkClick r:id="rId7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0" y="73152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400" spc="-1" strike="noStrike">
                <a:solidFill>
                  <a:srgbClr val="009999"/>
                </a:solidFill>
                <a:latin typeface="Goudy Stout"/>
              </a:rPr>
              <a:t>Поздравляю,            вы запомнили таблицу умножения на 8!</a:t>
            </a:r>
            <a:endParaRPr b="0" lang="en-US" sz="8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newsflash/>
    <p:sndAc>
      <p:stSnd>
        <p:snd r:embed="rId1" name="coin.wav"/>
      </p:stSnd>
    </p:sndAc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9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6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AutoShape 8">
            <a:hlinkClick r:id="rId6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9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1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9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AutoShape 4">
            <a:hlinkClick r:id="rId2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AutoShape 5">
            <a:hlinkClick r:id="rId3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9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5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AutoShape 7">
            <a:hlinkClick r:id="rId5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9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AutoShape 4">
            <a:hlinkClick r:id="rId2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AutoShape 5">
            <a:hlinkClick r:id="rId3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9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7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AutoShape 9">
            <a:hlinkClick r:id="rId7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9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9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AutoShape 11">
            <a:hlinkClick r:id="rId9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9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4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AutoShape 6">
            <a:hlinkClick r:id="rId4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AutoShape 11">
            <a:hlinkClick r:id="rId9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AutoShape 12">
            <a:hlinkClick r:id="rId10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9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8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AutoShape 4">
            <a:hlinkClick r:id="rId2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AutoShape 5">
            <a:hlinkClick r:id="rId3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AutoShape 6">
            <a:hlinkClick r:id="rId4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AutoShape 7">
            <a:hlinkClick r:id="rId5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AutoShape 8">
            <a:hlinkClick r:id="rId6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AutoShape 9">
            <a:hlinkClick r:id="rId7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AutoShape 10">
            <a:hlinkClick r:id="rId8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AutoShape 11">
            <a:hlinkClick r:id="rId9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AutoShape 12">
            <a:hlinkClick r:id="rId10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6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8">
            <a:hlinkClick r:id="rId6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9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AutoShape 4">
            <a:hlinkClick r:id="rId2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AutoShape 5">
            <a:hlinkClick r:id="rId3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AutoShape 6">
            <a:hlinkClick r:id="rId4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AutoShape 7">
            <a:hlinkClick r:id="rId5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AutoShape 8">
            <a:hlinkClick r:id="rId6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AutoShape 9">
            <a:hlinkClick r:id="rId7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AutoShape 10">
            <a:hlinkClick r:id="rId8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AutoShape 11">
            <a:hlinkClick r:id="rId9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AutoShape 12">
            <a:hlinkClick r:id="rId10"/>
          </p:cNvPr>
          <p:cNvSpPr/>
          <p:nvPr/>
        </p:nvSpPr>
        <p:spPr>
          <a:xfrm>
            <a:off x="30492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0" y="73152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400" spc="-1" strike="noStrike">
                <a:solidFill>
                  <a:srgbClr val="009999"/>
                </a:solidFill>
                <a:latin typeface="Goudy Stout"/>
              </a:rPr>
              <a:t>Поздравляю,            вы запомнили таблицу умножения на 9!</a:t>
            </a:r>
            <a:endParaRPr b="0" lang="en-US" sz="8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newsflash/>
    <p:sndAc>
      <p:stSnd>
        <p:snd r:embed="rId1" name="coin.wav"/>
      </p:stSnd>
    </p:sndAc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00476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9999"/>
                </a:solidFill>
                <a:latin typeface="Times New Roman"/>
              </a:rPr>
              <a:t>Презентацию выполнила:</a:t>
            </a:r>
            <a:endParaRPr b="0" lang="en-US" sz="5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914400" y="30477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7b505"/>
                </a:solidFill>
                <a:latin typeface="Arial"/>
              </a:rPr>
              <a:t>Харинова Нина Николаевн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7b505"/>
                </a:solidFill>
                <a:latin typeface="Arial"/>
              </a:rPr>
              <a:t>учитель начальных клас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7b505"/>
                </a:solidFill>
                <a:latin typeface="Arial"/>
              </a:rPr>
              <a:t>МБОУ «СОШ №2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7b505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c7b505"/>
                </a:solidFill>
                <a:latin typeface="Arial"/>
              </a:rPr>
              <a:t>г.Тарко-Са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7b505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горь</cp:lastModifiedBy>
  <dcterms:modified xsi:type="dcterms:W3CDTF">2020-04-04T09:02:3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