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coin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6858000" cy="9144000"/>
  <p:custShowLst>
    <p:custShow name="Произвольный показ 1" id="0">
      <p:sldLst>
        <p:sld r:id="rId5"/>
        <p:sld r:id="rId7"/>
        <p:sld r:id="rId10"/>
        <p:sld r:id="rId9"/>
        <p:sld r:id="rId6"/>
        <p:sld r:id="rId13"/>
        <p:sld r:id="rId12"/>
        <p:sld r:id="rId16"/>
        <p:sld r:id="rId15"/>
        <p:sld r:id="rId14"/>
        <p:sld r:id="rId11"/>
        <p:sld r:id="rId17"/>
        <p:sld r:id="rId18"/>
        <p:sld r:id="rId9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CB72-2AA1-483A-8E74-160427BC2B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A8A1-4B61-4C7A-9679-F57E29A7C4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0AC-30EC-48CF-BA43-009E0615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7BC-AF44-4138-A927-91B78962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27A-E6F8-4472-9A5C-4EE2D613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0FF-7D17-4775-B39F-22D076EE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C116-703A-4973-8784-2467A99C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1617-2B75-424F-BA60-B0392FAB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F93A-2052-47B1-86A1-27F65706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1CE4-E298-4A72-8646-47F8E7E2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BB16-D436-4F16-854F-B1F510C7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AF0D-CC3D-4B8C-ACD1-026A5D4B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6914-62A6-4C7D-98D5-51426D43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782-E217-4292-9955-147E0E85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8BFC-E1AB-410A-97B6-0506A5DF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5728-17A3-440E-8114-B5A3BAC9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417A-3DE9-437E-819B-4E516167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C353-ABDA-4D0F-A01E-C5E2C2F6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B9FC-014B-47A8-A5F7-DD78AE0D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76E-67E8-498D-A97B-A7E31525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29B-4E6C-4F01-A82F-54EA1DC3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854-3432-40E6-98D4-5BD226A1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F15-76C3-4DE9-B221-C6D97B75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48C-A867-45BF-8A90-C8FDC0F9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F9D-6300-49D1-B8CE-CB168BD8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7DB-551A-4BDD-8B17-C98DAB51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DD91-75E6-486C-8CBC-6B8C189A312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>
            <a:hlinkClick r:id="rId3" action="ppaction://hlinksldjump"/>
          </p:cNvPr>
          <p:cNvSpPr/>
          <p:nvPr/>
        </p:nvSpPr>
        <p:spPr>
          <a:xfrm>
            <a:off x="5943600" y="304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7b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14">
            <a:hlinkClick r:id="" action="ppaction://hlinkshowjump?jump=endshow"/>
          </p:cNvPr>
          <p:cNvSpPr/>
          <p:nvPr/>
        </p:nvSpPr>
        <p:spPr>
          <a:xfrm>
            <a:off x="7315200" y="30492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5">
            <a:hlinkClick r:id="" action="ppaction://hlinkshowjump?jump=lastslide"/>
          </p:cNvPr>
          <p:cNvSpPr/>
          <p:nvPr/>
        </p:nvSpPr>
        <p:spPr>
          <a:xfrm>
            <a:off x="6629400" y="304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7b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c7b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4952880"/>
            <a:ext cx="914400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28600" y="5181480"/>
            <a:ext cx="866772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54" name="Rectangle 9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a0c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053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69C7-1CB1-40CE-8B89-AA0F0125D6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15.xml"/><Relationship Id="rId3" Type="http://schemas.openxmlformats.org/officeDocument/2006/relationships/slide" Target="slide26.xml"/><Relationship Id="rId4" Type="http://schemas.openxmlformats.org/officeDocument/2006/relationships/slide" Target="slide39.xml"/><Relationship Id="rId5" Type="http://schemas.openxmlformats.org/officeDocument/2006/relationships/slide" Target="slide3.xml"/><Relationship Id="rId6" Type="http://schemas.openxmlformats.org/officeDocument/2006/relationships/slide" Target="slide59.xml"/><Relationship Id="rId7" Type="http://schemas.openxmlformats.org/officeDocument/2006/relationships/slide" Target="slide70.xml"/><Relationship Id="rId8" Type="http://schemas.openxmlformats.org/officeDocument/2006/relationships/slide" Target="slide81.xml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hyperlink" Target="file:///tmp/home/.config/libreoffice/4/user/gallery/drumroll.wav" TargetMode="Externa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hyperlink" Target="file:///tmp/home/.config/libreoffice/4/user/gallery/drumroll.wav" TargetMode="External"/><Relationship Id="rId5" Type="http://schemas.openxmlformats.org/officeDocument/2006/relationships/hyperlink" Target="file:///tmp/home/.config/libreoffice/4/user/gallery/drumroll.wav" TargetMode="External"/><Relationship Id="rId6" Type="http://schemas.openxmlformats.org/officeDocument/2006/relationships/hyperlink" Target="file:///tmp/home/.config/libreoffice/4/user/gallery/drumroll.wav" TargetMode="External"/><Relationship Id="rId7" Type="http://schemas.openxmlformats.org/officeDocument/2006/relationships/hyperlink" Target="file:///tmp/home/.config/libreoffice/4/user/gallery/drumroll.wav" TargetMode="External"/><Relationship Id="rId8" Type="http://schemas.openxmlformats.org/officeDocument/2006/relationships/hyperlink" Target="file:///tmp/home/.config/libreoffice/4/user/gallery/drumroll.wav" TargetMode="Externa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hyperlink" Target="file:///tmp/home/.config/libreoffice/4/user/gallery/drumroll.wav" TargetMode="Externa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hyperlink" Target="file:///tmp/home/.config/libreoffice/4/user/gallery/drumroll.wav" TargetMode="External"/><Relationship Id="rId5" Type="http://schemas.openxmlformats.org/officeDocument/2006/relationships/hyperlink" Target="file:///tmp/home/.config/libreoffice/4/user/gallery/drumroll.wav" TargetMode="External"/><Relationship Id="rId6" Type="http://schemas.openxmlformats.org/officeDocument/2006/relationships/hyperlink" Target="file:///tmp/home/.config/libreoffice/4/user/gallery/drumroll.wav" TargetMode="External"/><Relationship Id="rId7" Type="http://schemas.openxmlformats.org/officeDocument/2006/relationships/hyperlink" Target="file:///tmp/home/.config/libreoffice/4/user/gallery/drumroll.wav" TargetMode="External"/><Relationship Id="rId8" Type="http://schemas.openxmlformats.org/officeDocument/2006/relationships/hyperlink" Target="file:///tmp/home/.config/libreoffice/4/user/gallery/drumroll.wav" TargetMode="Externa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hyperlink" Target="file:///tmp/home/.config/libreoffice/4/user/gallery/drumroll.wav" TargetMode="Externa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100" spc="-1" strike="noStrike">
                <a:solidFill>
                  <a:srgbClr val="009999"/>
                </a:solidFill>
                <a:latin typeface="Vivaldi"/>
              </a:rPr>
              <a:t>Тренажёр Таблица умножения</a:t>
            </a:r>
            <a:endParaRPr b="0" lang="en-US" sz="101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2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676520" y="914400"/>
            <a:ext cx="7467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Bradley Hand ITC"/>
              </a:rPr>
              <a:t>Какую таблицу 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Bradley Hand ITC"/>
              </a:rPr>
              <a:t>вы хотели бы 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Bradley Hand ITC"/>
              </a:rPr>
              <a:t>выучить?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914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2" action="ppaction://hlinksldjump"/>
          </p:cNvPr>
          <p:cNvSpPr/>
          <p:nvPr/>
        </p:nvSpPr>
        <p:spPr>
          <a:xfrm>
            <a:off x="1752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>
            <a:hlinkClick r:id="rId3" action="ppaction://hlinksldjump"/>
          </p:cNvPr>
          <p:cNvSpPr/>
          <p:nvPr/>
        </p:nvSpPr>
        <p:spPr>
          <a:xfrm>
            <a:off x="2590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>
            <a:hlinkClick r:id="rId4" action="ppaction://hlinksldjump"/>
          </p:cNvPr>
          <p:cNvSpPr/>
          <p:nvPr/>
        </p:nvSpPr>
        <p:spPr>
          <a:xfrm>
            <a:off x="3429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>
            <a:hlinkClick r:id="rId5" action="ppaction://hlinksldjump"/>
          </p:cNvPr>
          <p:cNvSpPr/>
          <p:nvPr/>
        </p:nvSpPr>
        <p:spPr>
          <a:xfrm>
            <a:off x="4267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>
            <a:hlinkClick r:id="rId6" action="ppaction://hlinksldjump"/>
          </p:cNvPr>
          <p:cNvSpPr/>
          <p:nvPr/>
        </p:nvSpPr>
        <p:spPr>
          <a:xfrm>
            <a:off x="5105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>
            <a:hlinkClick r:id="rId7" action="ppaction://hlinksldjump"/>
          </p:cNvPr>
          <p:cNvSpPr/>
          <p:nvPr/>
        </p:nvSpPr>
        <p:spPr>
          <a:xfrm>
            <a:off x="5943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>
            <a:hlinkClick r:id="rId8" action="ppaction://hlinksldjump"/>
          </p:cNvPr>
          <p:cNvSpPr/>
          <p:nvPr/>
        </p:nvSpPr>
        <p:spPr>
          <a:xfrm>
            <a:off x="6781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3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14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73152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200" spc="-1" strike="noStrike">
                <a:solidFill>
                  <a:srgbClr val="009999"/>
                </a:solidFill>
                <a:latin typeface="Matura MT Script Capitals"/>
              </a:rPr>
              <a:t>Обидно,               но вы ошиблись!</a:t>
            </a:r>
            <a:endParaRPr b="0" lang="en-US" sz="9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4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5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6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7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8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AutoShape 11">
            <a:hlinkClick r:id="rId9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12">
            <a:hlinkClick r:id="rId10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AutoShape 4">
            <a:hlinkClick r:id="rId2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5">
            <a:hlinkClick r:id="rId3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6">
            <a:hlinkClick r:id="rId4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7">
            <a:hlinkClick r:id="rId5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8">
            <a:hlinkClick r:id="rId6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9">
            <a:hlinkClick r:id="rId7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10">
            <a:hlinkClick r:id="rId8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11">
            <a:hlinkClick r:id="rId9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12">
            <a:hlinkClick r:id="rId10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4">
            <a:hlinkClick r:id="rId2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5">
            <a:hlinkClick r:id="rId3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6">
            <a:hlinkClick r:id="rId4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7">
            <a:hlinkClick r:id="rId5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8">
            <a:hlinkClick r:id="rId6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9">
            <a:hlinkClick r:id="rId7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AutoShape 10">
            <a:hlinkClick r:id="rId8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AutoShape 11">
            <a:hlinkClick r:id="rId9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12">
            <a:hlinkClick r:id="rId10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9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00476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999"/>
                </a:solidFill>
                <a:latin typeface="Times New Roman"/>
              </a:rPr>
              <a:t>Презентацию выполнила:</a:t>
            </a:r>
            <a:endParaRPr b="0" lang="en-US" sz="5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Харинова Нина Николаев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учитель начальных клас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МБОУ «СОШ №2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г.Тарко-Са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20-04-04T09:02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