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5.jpeg" ContentType="image/jpeg"/>
  <Override PartName="/ppt/media/image35.png" ContentType="image/png"/>
  <Override PartName="/ppt/media/image26.jpeg" ContentType="image/jpeg"/>
  <Override PartName="/ppt/media/image8.png" ContentType="image/png"/>
  <Override PartName="/ppt/media/image30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png" ContentType="image/png"/>
  <Override PartName="/ppt/media/image33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7.png" ContentType="image/png"/>
  <Override PartName="/ppt/media/image12.png" ContentType="image/png"/>
  <Override PartName="/ppt/media/image36.png" ContentType="image/png"/>
  <Override PartName="/ppt/media/image14.png" ContentType="image/png"/>
  <Override PartName="/ppt/media/image10.jpeg" ContentType="image/jpeg"/>
  <Override PartName="/ppt/media/image29.jpeg" ContentType="image/jpeg"/>
  <Override PartName="/ppt/media/image3.wmf" ContentType="image/x-wmf"/>
  <Override PartName="/ppt/media/image1.png" ContentType="image/png"/>
  <Override PartName="/ppt/media/image13.png" ContentType="image/png"/>
  <Override PartName="/ppt/media/image15.png" ContentType="image/png"/>
  <Override PartName="/ppt/media/apert.wav" ContentType="audio/x-wav"/>
  <Override PartName="/ppt/media/image24.jpeg" ContentType="image/jpeg"/>
  <Override PartName="/ppt/media/image22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8840" y="933480"/>
            <a:ext cx="434016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756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1158840" y="933480"/>
            <a:ext cx="43480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158840" y="933480"/>
            <a:ext cx="43480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158840" y="933480"/>
            <a:ext cx="434988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5990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7A9-A1A1-4B29-9793-06561836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F65-3AE0-40E0-8E48-E07FDCF3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87B-8D2E-44AE-A124-5D8F1601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31E-45A2-45FD-82B0-80B76E2E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CEDB-69A2-4246-AB8B-3C357B85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20B-EBD0-4613-81B7-1E1D6AFD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1A30-326B-4BC3-B0D8-1AA50D0E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A4A6-20DE-49F8-9E1E-33F8536A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3929-920B-45AA-AF19-0484A148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1877-0EA5-4AD6-A948-F4BE24A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1B52-60A9-4109-A06B-4F9C687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737-A3AB-4164-9974-A3596112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4FBE-EDB6-4BFF-BD08-840C73E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2A3D-8C48-453A-9209-CF363ECA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BD01-54A9-48C8-A4D4-CF97308B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7E6F-A29F-4F3C-9FBB-45FB98A8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6E6D-AEE7-46F4-89E3-A954A96E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608F-398D-427E-83BE-D9C0A9A3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7F82-29E9-49BE-85F6-0D1840AD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75C9-4F7C-4C68-8A1F-44DD9E2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E874-7A39-4C22-ACC9-8601D73D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A010-F5E1-4E23-9089-C52262C7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D82-0D18-4268-AF0F-FDA47FC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32C4-257E-4080-A536-EA1D0800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C6E4-B719-4D09-8D48-CD52FF49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D26B-885A-487B-8A23-9CDF1E0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26CD-26BB-4770-BA63-15D271B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ACA7-E11D-4760-A478-94C00227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0B41A-7A8E-4FD2-8140-BCAA3C4B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AF08-27B4-4D3B-9F1B-DF997CE6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CD2D-F197-41A1-BD95-D9ADE2A9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560A-3CFC-4AB1-B6DE-E7C5AF4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25E3-5398-4F38-B650-CD29C352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FA9-1662-47DE-905B-6A632AEC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A860D-8133-407E-8F0E-F0795E36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D695E-460A-455C-84B7-1FDB71E8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A4D2-09EF-4E67-B711-A7F78E9B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87C5A-918F-4ECC-BFA2-A805AC4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9F88-F5BD-418D-A66E-701C821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066B-FD0D-4E7C-9AFC-28A87BD7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5C79-979C-4797-ABCA-BB8CB36C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04A4-5293-470E-91FA-0C170A32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D0DB-24F6-423E-88E6-481343B1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5A80-9198-46E5-9BD2-67F2C028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A1C-BE90-4F5F-8566-E59BBCD7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30AC5-975A-4DAD-A078-F7AFC11A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CC33-D0A0-491B-808B-44A3198C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E195-A7F8-4A79-B78C-25220F94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863CB-287D-4333-8D7A-152FB252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A05E2-499A-4AD3-B177-7D81EBB6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1A00-A9A6-4DD1-85B2-52A88A0A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6699-5F03-40D0-A07E-B9A250AD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54BC8-4995-4E91-8953-33519813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00369-9F1C-4EDB-853B-2E3210D2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7FFFB-2E28-44EA-B475-B33F2CF1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3C1-43A4-4AD8-A7BD-24C6E43F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760A-69C6-4216-8020-18332014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A63-8009-4781-8470-F9EA82F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02E-87BF-42F9-9219-6377829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030-6CA8-43B9-B2C6-8E9B3560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261D1C-E0E0-431F-918F-BA8882094C0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753B3E-273F-4D7C-9A71-57394CDE323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67CACF-2427-404D-94E2-6EFF170EE2A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4E5D83-99CC-48BD-8759-20328C1A14E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410E37-7A06-44B0-B02C-C11793BF1B8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ert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ape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audio" Target="../media/apert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ape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psy.su/feed/5169/" TargetMode="External"/><Relationship Id="rId2" Type="http://schemas.openxmlformats.org/officeDocument/2006/relationships/hyperlink" Target="http://ladytoday.ru/problema-emocionalnogo-vygoraniya-osobennosti-sindroma/2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285840" y="307440"/>
            <a:ext cx="8858160" cy="62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lvl="1" marL="209520"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Comic Sans MS"/>
                <a:ea typeface="Times New Roman"/>
              </a:rPr>
              <a:t>«Я – родитель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Comic Sans MS"/>
                <a:ea typeface="Times New Roman"/>
              </a:rPr>
              <a:t>Внутренние ресурсы родителя.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ctr">
              <a:lnSpc>
                <a:spcPct val="93000"/>
              </a:lnSpc>
              <a:spcBef>
                <a:spcPts val="1001"/>
              </a:spcBef>
              <a:spcAft>
                <a:spcPts val="1412"/>
              </a:spcAft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( </a:t>
            </a:r>
            <a:r>
              <a:rPr b="1" lang="en-GB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Практико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ориентированное 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занятие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,</a:t>
            </a:r>
            <a:r>
              <a:rPr b="1" lang="en-GB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ctr">
              <a:lnSpc>
                <a:spcPct val="93000"/>
              </a:lnSpc>
              <a:spcBef>
                <a:spcPts val="1001"/>
              </a:spcBef>
              <a:spcAft>
                <a:spcPts val="1412"/>
              </a:spcAft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 элементами 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тренинга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r">
              <a:lnSpc>
                <a:spcPct val="93000"/>
              </a:lnSpc>
              <a:spcBef>
                <a:spcPts val="1001"/>
              </a:spcBef>
              <a:spcAft>
                <a:spcPts val="1412"/>
              </a:spcAft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r">
              <a:lnSpc>
                <a:spcPct val="93000"/>
              </a:lnSpc>
              <a:spcBef>
                <a:spcPts val="1001"/>
              </a:spcBef>
              <a:spcAft>
                <a:spcPts val="1412"/>
              </a:spcAft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212d32"/>
                </a:solidFill>
                <a:latin typeface="Comic Sans MS"/>
                <a:ea typeface="Times New Roman"/>
              </a:rPr>
              <a:t>Подготовила</a:t>
            </a:r>
            <a:r>
              <a:rPr b="1" lang="ru-RU" sz="2400" spc="-1" strike="noStrike">
                <a:solidFill>
                  <a:srgbClr val="212d32"/>
                </a:solidFill>
                <a:latin typeface="Comic Sans MS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212d32"/>
                </a:solidFill>
                <a:latin typeface="Comic Sans MS"/>
                <a:ea typeface="Times New Roman"/>
              </a:rPr>
              <a:t> педагог-психолог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r">
              <a:lnSpc>
                <a:spcPct val="93000"/>
              </a:lnSpc>
              <a:spcBef>
                <a:spcPts val="1001"/>
              </a:spcBef>
              <a:spcAft>
                <a:spcPts val="1412"/>
              </a:spcAft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212d32"/>
                </a:solidFill>
                <a:latin typeface="Comic Sans MS"/>
                <a:ea typeface="Times New Roman"/>
              </a:rPr>
              <a:t>Кострова О.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ctr">
              <a:lnSpc>
                <a:spcPct val="93000"/>
              </a:lnSpc>
              <a:spcBef>
                <a:spcPts val="1001"/>
              </a:spcBef>
              <a:spcAft>
                <a:spcPts val="1412"/>
              </a:spcAft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7"/>
          <p:cNvSpPr/>
          <p:nvPr/>
        </p:nvSpPr>
        <p:spPr>
          <a:xfrm>
            <a:off x="284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ГБОУ  «Республиканский центр образовани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8" descr="MC900439308[1]"/>
          <p:cNvPicPr/>
          <p:nvPr/>
        </p:nvPicPr>
        <p:blipFill>
          <a:blip r:embed="rId2"/>
          <a:stretch/>
        </p:blipFill>
        <p:spPr>
          <a:xfrm>
            <a:off x="539640" y="4064040"/>
            <a:ext cx="2016360" cy="2565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MC900230502[1]"/>
          <p:cNvPicPr/>
          <p:nvPr/>
        </p:nvPicPr>
        <p:blipFill>
          <a:blip r:embed="rId3"/>
          <a:stretch/>
        </p:blipFill>
        <p:spPr>
          <a:xfrm>
            <a:off x="7164360" y="514440"/>
            <a:ext cx="1843200" cy="16383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2"/>
          <p:cNvSpPr/>
          <p:nvPr/>
        </p:nvSpPr>
        <p:spPr>
          <a:xfrm flipV="1" rot="10800000">
            <a:off x="2916000" y="6195600"/>
            <a:ext cx="39970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Северобайкальск 20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Дыхательная гимнасти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357200"/>
            <a:ext cx="45435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 «1-2-3-4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счет 1-4 вдох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держать дыхание1-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дох 1-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ажнение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 Цветное дыхание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1"/>
          <a:stretch/>
        </p:blipFill>
        <p:spPr>
          <a:xfrm>
            <a:off x="3929040" y="1071720"/>
            <a:ext cx="4983120" cy="37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395280" y="1927080"/>
            <a:ext cx="73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MS P ゴシック"/>
              </a:rPr>
              <a:t>Упр. «Термометр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MS P ゴシック"/>
              </a:rPr>
              <a:t>Работа в пар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MS P ゴシック"/>
              </a:rPr>
              <a:t>Этап 1.Один участник закрывает глаза и пытается ,используя визуализацию, вызвать ощущение тепла в своей руке. Когда ощущение тепла становится, с точки зрения участника, действительно ощутимым, он кладет свои руки в ладони другого участника. Задача второго определить, какая рука более тепл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MS P ゴシック"/>
              </a:rPr>
              <a:t>Этап 2 – вызвать ощущение  тяже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MS P ゴシック"/>
              </a:rPr>
              <a:t>Смена ролей в пар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Заголовок 2"/>
          <p:cNvSpPr/>
          <p:nvPr/>
        </p:nvSpPr>
        <p:spPr>
          <a:xfrm>
            <a:off x="609480" y="60948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Comic Sans MS"/>
                <a:ea typeface="MS P ゴシック"/>
              </a:rPr>
              <a:t>Визуализация</a:t>
            </a:r>
            <a:r>
              <a:rPr b="0" lang="ru-RU" sz="3600" spc="-1" strike="noStrike">
                <a:solidFill>
                  <a:srgbClr val="90c226"/>
                </a:solidFill>
                <a:latin typeface="Comic Sans MS"/>
                <a:ea typeface="MS P ゴシック"/>
              </a:rPr>
              <a:t> (представление образов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aper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31480" y="236520"/>
            <a:ext cx="6643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omic Sans MS"/>
              </a:rPr>
              <a:t>Физиологическая</a:t>
            </a:r>
            <a:r>
              <a:rPr b="1" i="1" lang="en-GB" sz="4000" spc="-1" strike="noStrike">
                <a:solidFill>
                  <a:srgbClr val="00b05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00b050"/>
                </a:solidFill>
                <a:latin typeface="Comic Sans MS"/>
              </a:rPr>
              <a:t>саморегуляци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85480" y="2338200"/>
            <a:ext cx="8643960" cy="38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lvl="1" marL="209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omic Sans MS"/>
              </a:rPr>
              <a:t>«Болезни души неотделимы от болезней тела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omic Sans MS"/>
              </a:rPr>
              <a:t>Спутник стресса – это мышечный зажим. Мышечный зажим – остаточное явление напряжения, появившееся из-за отрицательных эмоций и нереализованных жела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i="1" lang="en-GB" sz="5400" spc="-1" strike="noStrike">
                <a:solidFill>
                  <a:srgbClr val="2c3c43"/>
                </a:solidFill>
                <a:latin typeface="Comic Sans MS"/>
              </a:rPr>
              <a:t> </a:t>
            </a:r>
            <a:r>
              <a:rPr b="1" i="1" lang="en-GB" sz="5400" spc="-1" strike="noStrike">
                <a:solidFill>
                  <a:srgbClr val="2c3c43"/>
                </a:solidFill>
                <a:latin typeface="Comic Sans MS"/>
              </a:rPr>
              <a:t>«мышечный панцирь».</a:t>
            </a:r>
            <a:r>
              <a:rPr b="1" i="1" lang="en-GB" sz="5400" spc="-1" strike="noStrike">
                <a:solidFill>
                  <a:srgbClr val="2c3c43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omic Sans MS"/>
              </a:rPr>
              <a:t>Он образуется у людей, не умеющих отдыхать, то есть снимать стресс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7740720" y="360360"/>
            <a:ext cx="761760" cy="1076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2"/>
          <a:stretch/>
        </p:blipFill>
        <p:spPr>
          <a:xfrm>
            <a:off x="5894280" y="-87480"/>
            <a:ext cx="1963800" cy="275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aper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50560" y="246240"/>
            <a:ext cx="3971880" cy="18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54a021"/>
                </a:solidFill>
                <a:latin typeface="Comic Sans MS"/>
              </a:rPr>
              <a:t>Упражнение</a:t>
            </a:r>
            <a:br>
              <a:rPr sz="48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78920" y="1665360"/>
            <a:ext cx="6985080" cy="47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lvl="1" marL="209520" indent="0" algn="just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omic Sans MS"/>
              </a:rPr>
              <a:t>Встаньте прямо, руки свободно висят вдоль туловищ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just">
              <a:lnSpc>
                <a:spcPct val="95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omic Sans MS"/>
              </a:rPr>
              <a:t>Представьте, что к вашему темени прикреплена ниточка, за которую вас не сильно, но уверенно тянут ввер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just">
              <a:lnSpc>
                <a:spcPct val="95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omic Sans MS"/>
              </a:rPr>
              <a:t>Позвольте голове последовать за направлением силы натяжения. Понемногу вытягивайте ше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just">
              <a:lnSpc>
                <a:spcPct val="95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omic Sans MS"/>
              </a:rPr>
              <a:t>Затем начинайте вытягивать позвоночник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algn="just">
              <a:lnSpc>
                <a:spcPct val="95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omic Sans MS"/>
              </a:rPr>
              <a:t>Когда почувствуете, что позвоночник </a:t>
            </a:r>
            <a:r>
              <a:rPr b="0" i="1" lang="en-GB" sz="2400" spc="-1" strike="noStrike">
                <a:solidFill>
                  <a:srgbClr val="404040"/>
                </a:solidFill>
                <a:latin typeface="Comic Sans MS"/>
              </a:rPr>
              <a:t>выпрямился, встаньте на цыпоч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5"/>
          <a:stretch/>
        </p:blipFill>
        <p:spPr>
          <a:xfrm>
            <a:off x="324000" y="17928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6"/>
          <a:stretch/>
        </p:blipFill>
        <p:spPr>
          <a:xfrm>
            <a:off x="7812000" y="24300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7"/>
          <a:stretch/>
        </p:blipFill>
        <p:spPr>
          <a:xfrm>
            <a:off x="1647720" y="720720"/>
            <a:ext cx="1052640" cy="105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8"/>
          <a:stretch/>
        </p:blipFill>
        <p:spPr>
          <a:xfrm>
            <a:off x="3240000" y="900000"/>
            <a:ext cx="762120" cy="1067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"/>
          <p:cNvPicPr/>
          <p:nvPr/>
        </p:nvPicPr>
        <p:blipFill>
          <a:blip r:embed="rId9"/>
          <a:stretch/>
        </p:blipFill>
        <p:spPr>
          <a:xfrm>
            <a:off x="4824360" y="914400"/>
            <a:ext cx="961920" cy="1347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"/>
          <p:cNvPicPr/>
          <p:nvPr/>
        </p:nvPicPr>
        <p:blipFill>
          <a:blip r:embed="rId10"/>
          <a:stretch/>
        </p:blipFill>
        <p:spPr>
          <a:xfrm>
            <a:off x="6059520" y="246240"/>
            <a:ext cx="1104840" cy="1546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11"/>
          <a:stretch/>
        </p:blipFill>
        <p:spPr>
          <a:xfrm>
            <a:off x="7380360" y="3860640"/>
            <a:ext cx="1584360" cy="2078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2" name="apert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2a5010"/>
                </a:solidFill>
                <a:latin typeface="Comic Sans MS"/>
              </a:rPr>
              <a:t>1. </a:t>
            </a:r>
            <a:r>
              <a:rPr b="1" lang="ru-RU" sz="4000" spc="-1" strike="noStrike">
                <a:solidFill>
                  <a:srgbClr val="2a5010"/>
                </a:solidFill>
                <a:latin typeface="Comic Sans MS"/>
              </a:rPr>
              <a:t>игра </a:t>
            </a:r>
            <a:br>
              <a:rPr sz="4000"/>
            </a:br>
            <a:r>
              <a:rPr b="1" lang="ru-RU" sz="4000" spc="-1" strike="noStrike">
                <a:solidFill>
                  <a:srgbClr val="2a5010"/>
                </a:solidFill>
                <a:latin typeface="Comic Sans MS"/>
              </a:rPr>
              <a:t>«Поменяйтесь местами те, кто…)</a:t>
            </a:r>
            <a:br>
              <a:rPr sz="4000"/>
            </a:br>
            <a:r>
              <a:rPr b="1" lang="ru-RU" sz="4000" spc="-1" strike="noStrike">
                <a:solidFill>
                  <a:srgbClr val="2a5010"/>
                </a:solidFill>
                <a:latin typeface="Comic Sans MS"/>
              </a:rPr>
              <a:t>2. игра «Крокодил»</a:t>
            </a:r>
            <a:br>
              <a:rPr sz="4000"/>
            </a:br>
            <a:r>
              <a:rPr b="1" lang="ru-RU" sz="4000" spc="-1" strike="noStrike">
                <a:solidFill>
                  <a:srgbClr val="2a5010"/>
                </a:solidFill>
                <a:latin typeface="Comic Sans MS"/>
              </a:rPr>
              <a:t>3. игра «Фруктовый салат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5940360" y="127080"/>
            <a:ext cx="3417840" cy="27144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1332000" y="-23760"/>
            <a:ext cx="671832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Comic Sans MS"/>
                <a:ea typeface="MS P ゴシック"/>
              </a:rPr>
              <a:t>Подвижн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Comic Sans MS"/>
                <a:ea typeface="MS P ゴシック"/>
              </a:rPr>
              <a:t>     </a:t>
            </a:r>
            <a:r>
              <a:rPr b="1" lang="ru-RU" sz="3600" spc="-1" strike="noStrike">
                <a:solidFill>
                  <a:srgbClr val="90c226"/>
                </a:solidFill>
                <a:latin typeface="Comic Sans MS"/>
                <a:ea typeface="MS P ゴシック"/>
              </a:rPr>
              <a:t>в компан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6560" y="204480"/>
            <a:ext cx="761868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  <a:ea typeface="Times New Roman"/>
              </a:rPr>
              <a:t>Способы, связанные с воздействием слов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92160" y="1406520"/>
            <a:ext cx="8642160" cy="39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lvl="1" marL="209520" indent="0" algn="just">
              <a:lnSpc>
                <a:spcPct val="95000"/>
              </a:lnSpc>
              <a:spcBef>
                <a:spcPts val="1001"/>
              </a:spcBef>
              <a:spcAft>
                <a:spcPts val="1063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indent="0" algn="ctr">
              <a:lnSpc>
                <a:spcPct val="95000"/>
              </a:lnSpc>
              <a:spcBef>
                <a:spcPts val="1001"/>
              </a:spcBef>
              <a:spcAft>
                <a:spcPts val="1063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пр. «Зеркало</a:t>
            </a:r>
            <a:r>
              <a:rPr b="1" lang="ru-RU" sz="4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»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indent="0" algn="just">
              <a:lnSpc>
                <a:spcPct val="95000"/>
              </a:lnSpc>
              <a:spcBef>
                <a:spcPts val="1001"/>
              </a:spcBef>
              <a:spcAft>
                <a:spcPts val="1063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ходите возможность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indent="0" algn="just">
              <a:lnSpc>
                <a:spcPct val="95000"/>
              </a:lnSpc>
              <a:spcBef>
                <a:spcPts val="1001"/>
              </a:spcBef>
              <a:spcAft>
                <a:spcPts val="1063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валить себя в течени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209520" indent="0" algn="just">
              <a:lnSpc>
                <a:spcPct val="95000"/>
              </a:lnSpc>
              <a:spcBef>
                <a:spcPts val="1001"/>
              </a:spcBef>
              <a:spcAft>
                <a:spcPts val="1063"/>
              </a:spcAft>
              <a:buNone/>
              <a:tabLst>
                <a:tab algn="l" pos="0"/>
                <a:tab algn="l" pos="419040"/>
                <a:tab algn="l" pos="866880"/>
                <a:tab algn="l" pos="1316160"/>
                <a:tab algn="l" pos="1765440"/>
                <a:tab algn="l" pos="2214720"/>
                <a:tab algn="l" pos="2664000"/>
                <a:tab algn="l" pos="3112920"/>
                <a:tab algn="l" pos="3562200"/>
                <a:tab algn="l" pos="4011480"/>
                <a:tab algn="l" pos="4460760"/>
                <a:tab algn="l" pos="4910040"/>
                <a:tab algn="l" pos="5359320"/>
                <a:tab algn="l" pos="5808600"/>
                <a:tab algn="l" pos="6257880"/>
                <a:tab algn="l" pos="6707160"/>
                <a:tab algn="l" pos="7156440"/>
                <a:tab algn="l" pos="7605720"/>
                <a:tab algn="l" pos="8055000"/>
                <a:tab algn="l" pos="8504280"/>
                <a:tab algn="l" pos="8953560"/>
                <a:tab algn="l" pos="940284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бочего дня не менее 3–5 раз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68400" y="333360"/>
            <a:ext cx="1304640" cy="1219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6838920" y="1125360"/>
            <a:ext cx="2367000" cy="2021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aper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13840"/>
            <a:ext cx="6348600" cy="17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rebuchet MS"/>
              </a:rPr>
              <a:t>Медитация Храм тиши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214200" y="1047600"/>
            <a:ext cx="8715600" cy="5810400"/>
          </a:xfrm>
          <a:prstGeom prst="rect">
            <a:avLst/>
          </a:prstGeom>
          <a:ln w="0">
            <a:noFill/>
          </a:ln>
        </p:spPr>
      </p:pic>
      <p:pic>
        <p:nvPicPr>
          <p:cNvPr id="329" name="Relaksaciya_-_Hram_tishiny_muzofon.com.mp3" descr=""/>
          <p:cNvPicPr/>
          <p:nvPr/>
        </p:nvPicPr>
        <p:blipFill>
          <a:blip r:embed="rId2"/>
          <a:stretch/>
        </p:blipFill>
        <p:spPr>
          <a:xfrm>
            <a:off x="7812000" y="4158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61069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7848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Как успокоиться быстро? 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Comic Sans MS"/>
              </a:rPr>
              <a:t>Улыбнись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785960"/>
            <a:ext cx="4680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Естественной защитой организма от стресса является смех и плач. Это есть ни что иное, как система коротких вдохов или выдох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Упражнение «Как чихает слон</a:t>
            </a:r>
            <a:r>
              <a:rPr b="0" lang="en-US" sz="2400" spc="-1" strike="noStrike">
                <a:solidFill>
                  <a:srgbClr val="404040"/>
                </a:solidFill>
                <a:latin typeface="Comic Sans MS"/>
              </a:rPr>
              <a:t>?</a:t>
            </a: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-ящики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-хрящики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-потащил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2" name="Picture 9" descr="49304221_1254263556_vj1f4n_cont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231840"/>
            <a:ext cx="63482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Comic Sans MS"/>
              </a:rPr>
              <a:t>Эмоциональные поглаживания</a:t>
            </a:r>
            <a:br>
              <a:rPr sz="4000"/>
            </a:br>
            <a:r>
              <a:rPr b="1" lang="ru-RU" sz="4000" spc="-1" strike="noStrike">
                <a:solidFill>
                  <a:srgbClr val="2a5010"/>
                </a:solidFill>
                <a:latin typeface="Comic Sans MS"/>
              </a:rPr>
              <a:t>(письмо соседу)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2928600"/>
            <a:ext cx="295272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omic Sans MS"/>
              </a:rPr>
              <a:t>Комплименты и приятные сл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3276720" y="2276640"/>
            <a:ext cx="5529240" cy="43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2a5010"/>
                </a:solidFill>
                <a:latin typeface="Trebuchet MS"/>
              </a:rPr>
              <a:t>Просмотр релакс –презентаций 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2785680"/>
            <a:ext cx="747252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785880" y="2214720"/>
            <a:ext cx="714384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6" descr="Картинки по запросу правила тренинга в картинках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Comic Sans MS"/>
              </a:rPr>
              <a:t>Арт – терапия </a:t>
            </a:r>
            <a:br>
              <a:rPr sz="6000"/>
            </a:br>
            <a:r>
              <a:rPr b="1" i="1" lang="ru-RU" sz="3600" spc="-1" strike="noStrike">
                <a:solidFill>
                  <a:srgbClr val="00b050"/>
                </a:solidFill>
                <a:latin typeface="Comic Sans MS"/>
              </a:rPr>
              <a:t>с музыкотерапией</a:t>
            </a:r>
            <a:br>
              <a:rPr sz="1800"/>
            </a:br>
            <a:r>
              <a:rPr b="1" i="1" lang="ru-RU" sz="1800" spc="-1" strike="noStrike">
                <a:solidFill>
                  <a:srgbClr val="2a5010"/>
                </a:solidFill>
                <a:latin typeface="Comic Sans MS"/>
              </a:rPr>
              <a:t>Групповое рисование. Под звучание музыки участники рисуют что хотят, передают соседу, дорисовывают до позитивного результата, пока рисунок не вернется к хозяину.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0" y="2743200"/>
            <a:ext cx="5038560" cy="4114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322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90c226"/>
                </a:solidFill>
                <a:latin typeface="Comic Sans MS"/>
              </a:rPr>
              <a:t>Упр. 110 способов позаботиться о себе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43" name="Picture 2" descr="Картинки по запросу 110 способо позаботиться о себе"/>
          <p:cNvPicPr/>
          <p:nvPr/>
        </p:nvPicPr>
        <p:blipFill>
          <a:blip r:embed="rId1"/>
          <a:stretch/>
        </p:blipFill>
        <p:spPr>
          <a:xfrm>
            <a:off x="611280" y="2228760"/>
            <a:ext cx="69134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Comic Sans MS"/>
              </a:rPr>
              <a:t>Снимаем напряжение</a:t>
            </a:r>
            <a:br>
              <a:rPr sz="3200"/>
            </a:br>
            <a:r>
              <a:rPr b="1" lang="ru-RU" sz="3200" spc="-1" strike="noStrike">
                <a:solidFill>
                  <a:srgbClr val="90c226"/>
                </a:solidFill>
                <a:latin typeface="Comic Sans MS"/>
              </a:rPr>
              <a:t> П. М. Левинсон и М. Граф  дают такие рекомендации против стресса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7740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думать о чем-то хорошем, что может произойти в будущем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думать о людях, которых мы любим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дышать свежим воздухом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лежать на пляже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носить чистую одежду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иметь свободное время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слушать музыку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смотреть передачи о диких животных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улыбаться людям и др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Прочитать любимую книг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Просмотреть любимое кино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Ароматная ванна с пеной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Выспатьс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(ладонь неприятностей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6" name="Picture 16" descr=""/>
          <p:cNvPicPr/>
          <p:nvPr/>
        </p:nvPicPr>
        <p:blipFill>
          <a:blip r:embed="rId1"/>
          <a:stretch/>
        </p:blipFill>
        <p:spPr>
          <a:xfrm>
            <a:off x="4572000" y="2862360"/>
            <a:ext cx="4470480" cy="32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35280" y="504720"/>
            <a:ext cx="4968720" cy="12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Comic Sans MS"/>
              </a:rPr>
              <a:t>Притча  о  хмуром  человек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Едет хмурый человек 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троллейбусе и думает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«Вокруг ничего хорошего, одна тоска. Жена — ворчунья, дети — хулиганы, начальник — злыдня...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За его спиной ангел-хранитель с блокнотом и ручкой. Записывает и думает: «Одна тоска, начальник — злыдня, жена — ворчунья, дети — хулиганы... Вроде было уже... И зачем ему это все время? Но раз заказывает — придется исполнять...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0c226"/>
                </a:solidFill>
                <a:latin typeface="Comic Sans MS"/>
              </a:rPr>
              <a:t>Думайте  позитивно!!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9" name="Picture 4" descr="злость"/>
          <p:cNvPicPr/>
          <p:nvPr/>
        </p:nvPicPr>
        <p:blipFill>
          <a:blip r:embed="rId1"/>
          <a:stretch/>
        </p:blipFill>
        <p:spPr>
          <a:xfrm>
            <a:off x="6948360" y="260280"/>
            <a:ext cx="1905120" cy="2676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MC900422913[1]"/>
          <p:cNvPicPr/>
          <p:nvPr/>
        </p:nvPicPr>
        <p:blipFill>
          <a:blip r:embed="rId2"/>
          <a:stretch/>
        </p:blipFill>
        <p:spPr>
          <a:xfrm>
            <a:off x="468360" y="0"/>
            <a:ext cx="12891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90c226"/>
                </a:solidFill>
                <a:latin typeface="Trebuchet MS"/>
              </a:rPr>
              <a:t>Рефлексия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628280"/>
            <a:ext cx="85690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omic Sans MS"/>
              </a:rPr>
              <a:t>Поделитесь, пожалуйста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Comic Sans MS"/>
              </a:rPr>
              <a:t>что вам сегодня особенно понравилось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omic Sans MS"/>
              </a:rPr>
              <a:t>что было новое для вас?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omic Sans MS"/>
              </a:rPr>
              <a:t>Чем будите пользоваться?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omic Sans MS"/>
              </a:rPr>
              <a:t>Кому бы хотели сказать слова поддержки или благодарности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6769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Comic Sans MS"/>
              </a:rPr>
              <a:t>Удачи в наполнении  </a:t>
            </a:r>
            <a:br>
              <a:rPr sz="3600"/>
            </a:br>
            <a:r>
              <a:rPr b="1" lang="ru-RU" sz="3600" spc="-1" strike="noStrike">
                <a:solidFill>
                  <a:srgbClr val="90c226"/>
                </a:solidFill>
                <a:latin typeface="Comic Sans MS"/>
              </a:rPr>
              <a:t>своих ресурсов!!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Картинки по запросу себя ресурсами"/>
          <p:cNvPicPr/>
          <p:nvPr/>
        </p:nvPicPr>
        <p:blipFill>
          <a:blip r:embed="rId2"/>
          <a:stretch/>
        </p:blipFill>
        <p:spPr>
          <a:xfrm>
            <a:off x="539640" y="1773360"/>
            <a:ext cx="705672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6348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Comic Sans MS"/>
              </a:rPr>
              <a:t>Список источников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7275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omic Sans MS"/>
              </a:rPr>
              <a:t>1)Александрова Е. Как победить стресс. Профилактика и методы лечения. – М.: Центрполиграф, 2005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omic Sans MS"/>
              </a:rPr>
              <a:t>2)Самоукина Н. Карьера без стресса. – СПб.: Питер, 2004. - С. 23-27.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omic Sans MS"/>
              </a:rPr>
              <a:t>3) Альберти Р.Е., Эммонс М.Л. Н, Умейте постоять за себя. Ключ к самоутверждающиему поведению. – М., 2004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omic Sans MS"/>
              </a:rPr>
              <a:t>4) Профессиональное интернет- изданине: психологическая газета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Comic Sans MS"/>
              </a:rPr>
              <a:t>Технология выявления и аккумуляции родительских ресурсов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 u="sng">
                <a:solidFill>
                  <a:srgbClr val="99ca3c"/>
                </a:solidFill>
                <a:uFillTx/>
                <a:latin typeface="Comic Sans MS"/>
                <a:hlinkClick r:id="rId1"/>
              </a:rPr>
              <a:t>https://psy.su/feed/5169/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omic Sans MS"/>
              </a:rPr>
              <a:t>5)Православный портал о благотворительности и социальной деятельности. Милосердие.</a:t>
            </a:r>
            <a:r>
              <a:rPr b="0" lang="en-US" sz="1200" spc="-1" strike="noStrike">
                <a:solidFill>
                  <a:srgbClr val="404040"/>
                </a:solidFill>
                <a:latin typeface="Comic Sans MS"/>
              </a:rPr>
              <a:t>ru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omic Sans MS"/>
              </a:rPr>
              <a:t>http://www.miloserdie.ru/index.php?ss=2&amp;s=32&amp;id=1296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omic Sans MS"/>
              </a:rPr>
              <a:t>6)Эмоциональное выгорание </a:t>
            </a:r>
            <a:r>
              <a:rPr b="0" lang="ru-RU" sz="1200" spc="-1" strike="noStrike" u="sng">
                <a:solidFill>
                  <a:srgbClr val="99ca3c"/>
                </a:solidFill>
                <a:uFillTx/>
                <a:latin typeface="Comic Sans MS"/>
                <a:hlinkClick r:id="rId2"/>
              </a:rPr>
              <a:t>http://ladytoday.ru/problema-emocionalnogo-vygoraniya-osobennosti-sindroma/2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omic Sans MS"/>
              </a:rPr>
              <a:t>7)Хозяин своих ресурсов (сайт для родителей особых детей)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 u="sng">
                <a:solidFill>
                  <a:srgbClr val="99ca3c"/>
                </a:solidFill>
                <a:uFillTx/>
                <a:latin typeface="Comic Sans MS"/>
              </a:rPr>
              <a:t>https://xn--90ailsaobcfbu5g.xn--p1ai/ownresource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1680" y="987480"/>
            <a:ext cx="82296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00000"/>
              </a:lnSpc>
              <a:buClr>
                <a:srgbClr val="2a5010"/>
              </a:buClr>
              <a:buSzPct val="80000"/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Приветств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(свое имя, имя дете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с какой целью здесь?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 algn="ctr">
              <a:lnSpc>
                <a:spcPct val="100000"/>
              </a:lnSpc>
              <a:buClr>
                <a:srgbClr val="2a5010"/>
              </a:buClr>
              <a:buSzPct val="80000"/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2. Упр. «Я – уникальный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Я как все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Я не как все…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840" y="115920"/>
            <a:ext cx="657216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Comic Sans MS"/>
              </a:rPr>
              <a:t>Отличительные признаки понижения ресурсов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79280" y="112536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повышенная раздражительность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снижение активности и, соответственно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частое желание спорить и излишняя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критичность к веща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потребность в алкоголе для повышения уверенности в себ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постоянное уныние и жалость к себ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потеря контроля над ситуацией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нежелательные реакции организм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5" name="Picture 4" descr="Стресс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Comic Sans MS"/>
              </a:rPr>
              <a:t>К чему это приводит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628280"/>
            <a:ext cx="6348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omic Sans MS"/>
              </a:rPr>
              <a:t>истощение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omic Sans MS"/>
              </a:rPr>
              <a:t>пассивность, </a:t>
            </a:r>
            <a:r>
              <a:rPr b="0" lang="ru-RU" sz="4400" spc="-1" strike="noStrike">
                <a:solidFill>
                  <a:srgbClr val="2c3c43"/>
                </a:solidFill>
                <a:latin typeface="Comic Sans MS"/>
              </a:rPr>
              <a:t>депрессия, апатия;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omic Sans MS"/>
              </a:rPr>
              <a:t>дистресс.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Прямоугольник 1"/>
          <p:cNvSpPr/>
          <p:nvPr/>
        </p:nvSpPr>
        <p:spPr>
          <a:xfrm>
            <a:off x="220680" y="4869000"/>
            <a:ext cx="76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Comic Sans MS"/>
                <a:ea typeface="MS P ゴシック"/>
              </a:rPr>
              <a:t>Значит надо знать ка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Comic Sans MS"/>
                <a:ea typeface="MS P ゴシック"/>
              </a:rPr>
              <a:t> </a:t>
            </a:r>
            <a:r>
              <a:rPr b="1" lang="ru-RU" sz="3600" spc="-1" strike="noStrike">
                <a:solidFill>
                  <a:srgbClr val="2c3c43"/>
                </a:solidFill>
                <a:latin typeface="Comic Sans MS"/>
                <a:ea typeface="MS P ゴシック"/>
              </a:rPr>
              <a:t>возникают негативные эмоц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c3c43"/>
                </a:solidFill>
                <a:latin typeface="Comic Sans MS"/>
                <a:ea typeface="MS P ゴシック"/>
              </a:rPr>
              <a:t>и что с этим дела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j0301252"/>
          <p:cNvPicPr/>
          <p:nvPr/>
        </p:nvPicPr>
        <p:blipFill>
          <a:blip r:embed="rId1"/>
          <a:stretch/>
        </p:blipFill>
        <p:spPr>
          <a:xfrm>
            <a:off x="7164360" y="476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2"/>
          <a:stretch/>
        </p:blipFill>
        <p:spPr>
          <a:xfrm>
            <a:off x="1979640" y="650880"/>
            <a:ext cx="5046480" cy="627696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3"/>
          <p:cNvSpPr/>
          <p:nvPr/>
        </p:nvSpPr>
        <p:spPr>
          <a:xfrm>
            <a:off x="0" y="1652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MS P ゴシック"/>
              </a:rPr>
              <a:t>О причинах эмоций. "Кувшин" эм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MS P ゴシック"/>
              </a:rPr>
              <a:t>ц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74640" y="189000"/>
            <a:ext cx="77947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300" spc="-1" strike="noStrike">
                <a:solidFill>
                  <a:srgbClr val="00b050"/>
                </a:solidFill>
                <a:latin typeface="Comic Sans MS"/>
              </a:rPr>
              <a:t>Психологический практикум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3" name="Picture 4" descr="3D_14"/>
          <p:cNvPicPr/>
          <p:nvPr/>
        </p:nvPicPr>
        <p:blipFill>
          <a:blip r:embed="rId1"/>
          <a:stretch/>
        </p:blipFill>
        <p:spPr>
          <a:xfrm>
            <a:off x="647640" y="1052640"/>
            <a:ext cx="7848720" cy="5472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2290680" y="2133720"/>
            <a:ext cx="4562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С ЭТИ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ЛАТ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Comic Sans MS"/>
              </a:rPr>
              <a:t>Упражнения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480" y="1341360"/>
            <a:ext cx="7562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Comic Sans MS"/>
              </a:rPr>
              <a:t>«О  ком я  забочусь».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250920" y="2185920"/>
            <a:ext cx="7885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1) Ч</a:t>
            </a:r>
            <a:r>
              <a:rPr b="1" lang="ru-RU" sz="30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то я сейчас чувствую и что я сейчас хочу?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2)Как я могу о себе позаботиться, чтобы удовлетворить эту потребность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755640" y="4994280"/>
            <a:ext cx="73803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Comic Sans MS"/>
                <a:ea typeface="MS P ゴシック"/>
              </a:rPr>
              <a:t>Как эффективно о себе позаботитьс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7451640" y="0"/>
            <a:ext cx="1368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628280"/>
            <a:ext cx="63486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54a021"/>
                </a:solidFill>
                <a:latin typeface="Comic Sans MS"/>
              </a:rPr>
              <a:t>Игра «У меня плохое настроение»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спринимать позитивную информацию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tp://www.psy.5igorsk.ru</dc:creator>
  <dc:description/>
  <dc:language>en-US</dc:language>
  <cp:lastModifiedBy>User</cp:lastModifiedBy>
  <dcterms:modified xsi:type="dcterms:W3CDTF">2020-04-02T10:11:08Z</dcterms:modified>
  <cp:revision>65</cp:revision>
  <dc:subject/>
  <dc:title>ПРОФИЛАКТИКА ПРОФЕССИОНАЛЬНОГО ВЫГОРАНИЯ УЧИТЕЛЯ</dc:title>
</cp:coreProperties>
</file>