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FFD-CD48-4F78-A395-18913E2E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48C-E6E0-4601-AA8D-15D05153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6CA-8254-4905-AC32-FD871704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D98-403E-4D3C-9536-ED351BA7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992-A42C-427D-9D30-355417F4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E7F-5219-4A4B-8AAF-0D1E1E97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06B-46FF-4E1E-AEB2-23277028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AE1-8DBF-4359-B73B-223645B6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512E-BF7C-4C2F-ABA5-D044C470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E4C6-15AD-42E5-9FD0-426DFDCE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6D6-40E4-4A0B-8BA7-F321815A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5A3-2799-4BC7-92DA-F262FD30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fca"/>
            </a:gs>
            <a:gs pos="50000">
              <a:srgbClr val="fffbf3"/>
            </a:gs>
            <a:gs pos="100000">
              <a:srgbClr val="feefc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73E0-1D9D-4D17-ADD6-E59A9EC6E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umjanzew-sadunaiski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ru.wikipedia.org/wiki/&#1060;&#1072;&#1081;&#1083;:Princepotemkin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ru.wikipedia.org/wiki/&#1060;&#1072;&#1081;&#1083;:Suvorov_Alex_V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olonistika.upol.cz/moduly/poniatowski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umjanzew-sadunaiski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navy.su/persons/19/images/spiridov_ga_00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-2487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42" name="WordArt 6"/>
          <p:cNvSpPr txBox="1"/>
          <p:nvPr/>
        </p:nvSpPr>
        <p:spPr>
          <a:xfrm>
            <a:off x="468360" y="549360"/>
            <a:ext cx="835164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нешняя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итика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сии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катерине II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Война с Турцией 1787-17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0920" y="981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87 г.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урци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отребовала вернуть Крым и уступить Грузию. Россия отказала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чалась новая во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50920" y="220500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88 г. в войну с Россией вступи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Швеци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стремившаяся вернуть свои владения на Балтике, но быстро потерпела поражение и отказалась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 всех притяз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50920" y="386064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усские войска под командованием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.А.Потемкин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.В.Суворо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нанесли туркам ряд сокрушительных поражений.                                                                               В декабре 1790 г. войска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уворо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за 1 день захватили считавшуюся неприступной турецкую крепость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змаи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024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Война с Турцией 1787-17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340358841_tonnel"/>
          <p:cNvPicPr/>
          <p:nvPr/>
        </p:nvPicPr>
        <p:blipFill>
          <a:blip r:embed="rId1"/>
          <a:stretch/>
        </p:blipFill>
        <p:spPr>
          <a:xfrm>
            <a:off x="179280" y="836640"/>
            <a:ext cx="2857680" cy="4133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684360" y="5013360"/>
            <a:ext cx="1942920" cy="39888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шаков Ф.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203640" y="907920"/>
            <a:ext cx="56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морский флот под командованием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Ф.Ф.Ушаков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нес турецкому флоту поражения в сражениях у устья Дуная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ерченском проливе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ностью разгромил турецкую эскадру у мыса Калиакр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3. Война с Турцией 1787-17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06"/>
          <p:cNvPicPr/>
          <p:nvPr/>
        </p:nvPicPr>
        <p:blipFill>
          <a:blip r:embed="rId1"/>
          <a:stretch/>
        </p:blipFill>
        <p:spPr>
          <a:xfrm>
            <a:off x="0" y="1108080"/>
            <a:ext cx="9140760" cy="5749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395280" y="1916280"/>
            <a:ext cx="8496360" cy="417312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1791 г. в Яссах был подписан мирный догов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Россия получила земли между Бугом                   и Днес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Турция признала вхождение Крыма                       и Грузии в соста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Россия подтвердила статус сильной военной держ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Разделы Польш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836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 середине 18 век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льско-Литовско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государство пришло в упадок. Сильные соседи (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оссия, Австрия, Прусси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 договорились о разделе ее террито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95280" y="2060640"/>
            <a:ext cx="8280360" cy="155700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1-й разде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роизошел в 1773 г. Пруссия – Поморь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часть Великой Польши, Австрия – Галицию,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осс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– старинные русские земли в Восточной Белоруссии. Польша сопротивления не оказ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95280" y="3716280"/>
            <a:ext cx="8280360" cy="155700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2-й разде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роизошел в 1793 г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уссия – часть Польши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осс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– всю Белоруссию и Правобережную Украину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ьша сопротивления не оказ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Картинка 1 из 175"/>
          <p:cNvPicPr/>
          <p:nvPr/>
        </p:nvPicPr>
        <p:blipFill>
          <a:blip r:embed="rId1"/>
          <a:stretch/>
        </p:blipFill>
        <p:spPr>
          <a:xfrm>
            <a:off x="4716360" y="836640"/>
            <a:ext cx="3944880" cy="602136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sp>
        <p:nvSpPr>
          <p:cNvPr id="105" name="Text Box 11"/>
          <p:cNvSpPr/>
          <p:nvPr/>
        </p:nvSpPr>
        <p:spPr>
          <a:xfrm>
            <a:off x="1403280" y="6093000"/>
            <a:ext cx="324000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ерб Речи Посполи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Разделы Польш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24000" y="83664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94 г. в Польше началось восстание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Т.Костюшк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 в котором приняли участие аристократия, шляхта, население городов и крестьянство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ь – сохранить единство Поль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Картинка 8 из 655"/>
          <p:cNvPicPr/>
          <p:nvPr/>
        </p:nvPicPr>
        <p:blipFill>
          <a:blip r:embed="rId1"/>
          <a:stretch/>
        </p:blipFill>
        <p:spPr>
          <a:xfrm>
            <a:off x="330120" y="2492280"/>
            <a:ext cx="3457800" cy="4176720"/>
          </a:xfrm>
          <a:prstGeom prst="rect">
            <a:avLst/>
          </a:prstGeom>
          <a:ln w="34920">
            <a:solidFill>
              <a:srgbClr val="808000"/>
            </a:solidFill>
            <a:miter/>
          </a:ln>
        </p:spPr>
      </p:pic>
      <p:sp>
        <p:nvSpPr>
          <p:cNvPr id="109" name="Text Box 8"/>
          <p:cNvSpPr/>
          <p:nvPr/>
        </p:nvSpPr>
        <p:spPr>
          <a:xfrm>
            <a:off x="3924360" y="242100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ди восставших не было единства и введенные Россией войска под командованием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.В.Суворо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одавили восстание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уворов получил звание фельдмарш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95280" y="3716280"/>
            <a:ext cx="8280360" cy="228852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подавления восстания в 1795 г. произошел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-й разде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ольши. Пруссия и Австрия поделили территорию самой Польши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оссия получила Западную Белоруссию, Литву, Курляндию и часть Волыни.                                              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ОЛЬША ПЕРЕСТАЛА СУЩЕСТВ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00720" y="-360"/>
            <a:ext cx="28432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Разделы Поль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007"/>
          <p:cNvPicPr/>
          <p:nvPr/>
        </p:nvPicPr>
        <p:blipFill>
          <a:blip r:embed="rId1"/>
          <a:stretch/>
        </p:blipFill>
        <p:spPr>
          <a:xfrm>
            <a:off x="0" y="0"/>
            <a:ext cx="6273720" cy="68580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адищев А.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Картинка 5 из 22001"/>
          <p:cNvPicPr/>
          <p:nvPr/>
        </p:nvPicPr>
        <p:blipFill>
          <a:blip r:embed="rId1"/>
          <a:stretch/>
        </p:blipFill>
        <p:spPr>
          <a:xfrm>
            <a:off x="250920" y="907920"/>
            <a:ext cx="3382920" cy="41767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115" name="Text Box 5"/>
          <p:cNvSpPr/>
          <p:nvPr/>
        </p:nvSpPr>
        <p:spPr>
          <a:xfrm>
            <a:off x="179280" y="5157720"/>
            <a:ext cx="3529080" cy="39888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дищев А.Н. (1749-18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1280" y="836640"/>
            <a:ext cx="496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90 г. выпустил книгу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Путешествие из Петербурга               в Москву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в которой в резкой форме критиковал крепостничество                                  и проводимую политику правительства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оде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Вольность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обличал самодержавие как узурпацию прав народа на своб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851280" y="458136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катерин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назвала его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бунтовщиком хуже Пугачева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он был приговорен к смертной казни, которая была заменена 10-летней ссылкой в Сиби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оссия к концу правления Екатерины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003"/>
          <p:cNvPicPr/>
          <p:nvPr/>
        </p:nvPicPr>
        <p:blipFill>
          <a:blip r:embed="rId1"/>
          <a:stretch/>
        </p:blipFill>
        <p:spPr>
          <a:xfrm>
            <a:off x="0" y="1000080"/>
            <a:ext cx="91407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86840" y="33336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 и Обществ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87200" y="3284640"/>
            <a:ext cx="8705880" cy="3097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и истории открытого банка заданий ФИП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арты по Всеобщей истории 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277445493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244800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Изучить параграф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 Ответить на вопросы на стр.204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 Выучить основные д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ойна с Турцией 1768-1774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рисоединение Кры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ойна с Турцией 1787-1791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азделы Поль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Rumjanzew-sadunaisk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429000"/>
            <a:ext cx="2506680" cy="342900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pic>
        <p:nvPicPr>
          <p:cNvPr id="46" name="Picture 6" descr="Princepotemki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3429000"/>
            <a:ext cx="2449440" cy="342900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pic>
        <p:nvPicPr>
          <p:cNvPr id="47" name="Picture 7" descr="Suvorov Alex V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3284640"/>
            <a:ext cx="2770200" cy="357336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6aa9a3b902f200ff5d80c0e65c7f6f65_full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468360" y="260280"/>
            <a:ext cx="8207280" cy="106884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СНОВНЫЕ  НАПРАВЛЕНИЯ  ВНЕШНЕЙ  ПОЛИТИКИ 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1484280"/>
            <a:ext cx="8136000" cy="94716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Борьба с Польско-Литовским государством за древние русские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68360" y="2637000"/>
            <a:ext cx="8136000" cy="94716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Борьба за расширение и укрепление территорий в Прибал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8360" y="3789360"/>
            <a:ext cx="8136000" cy="137376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Борьба за выход к Черному морю, овладение плодородными землями юга, ликвидация Крымского х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Война с Турцией 1768-177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132000" y="981000"/>
            <a:ext cx="576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63 г. Россия посадила                        на Польский трон Станислава Понятовского. Недовольная часть шляхты начала против него войну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Россия ввела войска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урция потребовала вывода войск, Россия отказала и началась во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Картинка 8 из 4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2791080" cy="381024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324000" y="4869000"/>
            <a:ext cx="230508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.Понят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203640" y="371628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оссия и Турция соперничали              за территории на Северном Кавказе, Грузию и Армению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 влияние в Молда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203640" y="5300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енные действия велись на суше и на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Война с Турцией 1768-177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700360" y="907920"/>
            <a:ext cx="619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тив Турции военные действия велись на Дунае, в районе Азовского моря и на Северном Кавказе.                В 1769-1770 гг. русская армия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Дунае под командованием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.А.Румянцев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несла туркам несколько поражений и захватил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яд крепостей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йна на суше практически была выиг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50920" y="4221000"/>
            <a:ext cx="216036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.А.Румя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Rumjanzew-sadunaisk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07920"/>
            <a:ext cx="2381400" cy="325764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Война с Турцией 1768-177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11"/>
          <p:cNvPicPr/>
          <p:nvPr/>
        </p:nvPicPr>
        <p:blipFill>
          <a:blip r:embed="rId1"/>
          <a:stretch/>
        </p:blipFill>
        <p:spPr>
          <a:xfrm>
            <a:off x="2771640" y="2687760"/>
            <a:ext cx="6094440" cy="398916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pic>
        <p:nvPicPr>
          <p:cNvPr id="65" name="Picture 6" descr="Картинка 2 из 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692280"/>
            <a:ext cx="2424240" cy="316836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sp>
        <p:nvSpPr>
          <p:cNvPr id="66" name="Text Box 7"/>
          <p:cNvSpPr/>
          <p:nvPr/>
        </p:nvSpPr>
        <p:spPr>
          <a:xfrm>
            <a:off x="2700360" y="692280"/>
            <a:ext cx="61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усский флот под командованием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.А.Спиридо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обойдя Европу, появился в Средиземном море                    и 26 июня 1770 г. разгромил турецкий флот в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исменской бухт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50920" y="3933720"/>
            <a:ext cx="223344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.А.Спир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Война с Турцией 1768-17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50920" y="98100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71 г. русские войска заняли Крым.                                 В 1773 г. Турция попыталась возвратить утерянные    на Дунае территории и крепости. Русские войска                под командованием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.А.Румянце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.А.Потемкин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и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.В.Суворо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ерешли в наступление и полностью разгромили турецкую армию. Турция была окончательно побеждена и запросила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rincepotemkin.jpg"/>
          <p:cNvPicPr/>
          <p:nvPr/>
        </p:nvPicPr>
        <p:blipFill>
          <a:blip r:embed="rId1"/>
          <a:stretch/>
        </p:blipFill>
        <p:spPr>
          <a:xfrm>
            <a:off x="395280" y="3716280"/>
            <a:ext cx="2244600" cy="314172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pic>
        <p:nvPicPr>
          <p:cNvPr id="71" name="Picture 7" descr="Suvorov Alex V.jpg"/>
          <p:cNvPicPr/>
          <p:nvPr/>
        </p:nvPicPr>
        <p:blipFill>
          <a:blip r:embed="rId2"/>
          <a:stretch/>
        </p:blipFill>
        <p:spPr>
          <a:xfrm>
            <a:off x="6372360" y="3645000"/>
            <a:ext cx="2490480" cy="321300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  <p:sp>
        <p:nvSpPr>
          <p:cNvPr id="72" name="Text Box 8"/>
          <p:cNvSpPr/>
          <p:nvPr/>
        </p:nvSpPr>
        <p:spPr>
          <a:xfrm>
            <a:off x="2771640" y="4508640"/>
            <a:ext cx="201636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.А.Потем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356000" y="6237360"/>
            <a:ext cx="187164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.В.Су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43280" y="404280"/>
            <a:ext cx="252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усско-Турецкая война             1668-1774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5"/>
          <p:cNvPicPr/>
          <p:nvPr/>
        </p:nvPicPr>
        <p:blipFill>
          <a:blip r:embed="rId1"/>
          <a:stretch/>
        </p:blipFill>
        <p:spPr>
          <a:xfrm>
            <a:off x="0" y="0"/>
            <a:ext cx="62784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50920" y="189000"/>
            <a:ext cx="8351640" cy="94716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1774 г. в Кючук-Кайнарджи был заключен мирный догов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50920" y="1268280"/>
            <a:ext cx="8351640" cy="52056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Крым становился независимым от Тур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50920" y="1916280"/>
            <a:ext cx="8351640" cy="137376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Россия получала земли между Днепром           и Бугом, Азов, Керчь, крепость Кибурн            и ряд областей на Северном Кавк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50920" y="3429000"/>
            <a:ext cx="8351640" cy="94716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Россия получила право создать военный флот на Черном 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50920" y="4508640"/>
            <a:ext cx="8351640" cy="94716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4. Русские торговые суда получили право беспрепятственно проходить прол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0920" y="5589720"/>
            <a:ext cx="8351640" cy="94716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5. Россия добилась права постройки православного храма в Стамб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Присоединение Крым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4000" y="9079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783 г.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Россия объявила о присоединении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ым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Сразу начал строиться Севастополя. Крымское ханство было ликвидировано, многие мусульмане бежали в Турцию. Одновременно были присоединены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амань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убанский край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Россия взяла под протектора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осточную Грузию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79280" y="3500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инициативе Г.А.Потемкина строились новые крепости (Херсон, Николаев, Екатеринослав), активно велось создание Черноморского фл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50920" y="4869000"/>
            <a:ext cx="8642160" cy="1557000"/>
          </a:xfrm>
          <a:prstGeom prst="rect">
            <a:avLst/>
          </a:prstGeom>
          <a:solidFill>
            <a:srgbClr val="ffff99"/>
          </a:solidFill>
          <a:ln w="34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вропейские государства были обеспокоены таким усилением позиций России, только Австрия поддержала Россию, стремясь усилить свои позиции на Балк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65045168_1286569091_crimea1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72148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7:02:01Z</dcterms:created>
  <dc:creator>Нафор Маточ</dc:creator>
  <dc:description/>
  <dc:language>en-US</dc:language>
  <cp:lastModifiedBy>Администратор</cp:lastModifiedBy>
  <dcterms:modified xsi:type="dcterms:W3CDTF">2020-04-04T18:52:38Z</dcterms:modified>
  <cp:revision>77</cp:revision>
  <dc:subject/>
  <dc:title>Внешняя политика России при Екатерине II</dc:title>
</cp:coreProperties>
</file>