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6A2-6566-40EF-AE94-891A2776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043-B41B-49DA-9F83-59773C65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7FF-8A19-4387-B320-270100D6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D44-3AF1-41D7-9857-1A20C70F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A40-0A10-4A1E-8DD9-C8436733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A58-9785-4921-BD48-3492287B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B48-ED74-47E8-B05B-31BA3DFD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5EC-834D-4801-A3C5-BE15DFC7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8BF-4C1A-4D71-AB97-99E9A3DE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B46-BA1A-4AC8-807D-588E8FC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AE7-D7D8-4582-B0D5-16A9453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025-D8CA-4F3C-9EDE-78E1AF7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fca"/>
            </a:gs>
            <a:gs pos="50000">
              <a:srgbClr val="fffbf3"/>
            </a:gs>
            <a:gs pos="100000">
              <a:srgbClr val="feefc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FEBD-C880-4C3F-BFA6-3403997BC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umjanzew-sadunaiski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u.wikipedia.org/wiki/&#1060;&#1072;&#1081;&#1083;:Princepotemkin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u.wikipedia.org/wiki/&#1060;&#1072;&#1081;&#1083;:Suvorov_Alex_V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olonistika.upol.cz/moduly/poniatowsk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umjanzew-sadunais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navy.su/persons/19/images/spiridov_ga_00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-2487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42" name="WordArt 6"/>
          <p:cNvSpPr txBox="1"/>
          <p:nvPr/>
        </p:nvSpPr>
        <p:spPr>
          <a:xfrm>
            <a:off x="468360" y="549360"/>
            <a:ext cx="83516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ешняя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ка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си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катерине II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ойна с Турцией 1787-1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981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87 г.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ур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требовала вернуть Крым и уступить Грузию. Россия отказала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алась новая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092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88 г. в войну с Россией вступи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Шве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стремившаяся вернуть свои владения на Балтике, но быстро потерпела поражение и отказалась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 всех притя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0920" y="386064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усские войска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.А.Потемки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.В.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несли туркам ряд сокрушительных поражений.                                                                               В декабре 1790 г. войска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за 1 день захватили считавшуюся неприступной турецкую крепость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маи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024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ойна с Турцией 1787-1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340358841_tonnel"/>
          <p:cNvPicPr/>
          <p:nvPr/>
        </p:nvPicPr>
        <p:blipFill>
          <a:blip r:embed="rId1"/>
          <a:stretch/>
        </p:blipFill>
        <p:spPr>
          <a:xfrm>
            <a:off x="179280" y="836640"/>
            <a:ext cx="2857680" cy="4133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684360" y="5013360"/>
            <a:ext cx="1942920" cy="39888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шаков Ф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203640" y="907920"/>
            <a:ext cx="56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морский флот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Ф.Ф.Ушако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нес турецкому флоту поражения в сражениях у устья Дуная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ерченском проливе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ностью разгромил турецкую эскадру у мыса Калиак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. Война с Турцией 1787-17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06"/>
          <p:cNvPicPr/>
          <p:nvPr/>
        </p:nvPicPr>
        <p:blipFill>
          <a:blip r:embed="rId1"/>
          <a:stretch/>
        </p:blipFill>
        <p:spPr>
          <a:xfrm>
            <a:off x="0" y="1108080"/>
            <a:ext cx="9140760" cy="5749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395280" y="1916280"/>
            <a:ext cx="8496360" cy="417312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1791 г. в Яссах был подписан мирный дого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Россия получила земли между Бугом                   и Днес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Турция признала вхождение Крыма                       и Грузии в соста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Россия подтвердила статус сильной военной держ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Разделы Польш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83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середине 18 век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ьско-Литовско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государство пришло в упадок. Сильные соседи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, Австрия, Прусс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 договорились о разделе ее террито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95280" y="2060640"/>
            <a:ext cx="828036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-й разд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оизошел в 1773 г. Пруссия – Поморь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часть Великой Польши, Австрия – Галицию,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старинные русские земли в Восточной Белоруссии. Польша сопротивления не оказ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95280" y="3716280"/>
            <a:ext cx="828036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2-й разд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оизошел в 1793 г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уссия – часть Польши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всю Белоруссию и Правобережную Украину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ьша сопротивления не оказ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Картинка 1 из 175"/>
          <p:cNvPicPr/>
          <p:nvPr/>
        </p:nvPicPr>
        <p:blipFill>
          <a:blip r:embed="rId1"/>
          <a:stretch/>
        </p:blipFill>
        <p:spPr>
          <a:xfrm>
            <a:off x="4716360" y="836640"/>
            <a:ext cx="3944880" cy="60213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105" name="Text Box 11"/>
          <p:cNvSpPr/>
          <p:nvPr/>
        </p:nvSpPr>
        <p:spPr>
          <a:xfrm>
            <a:off x="1403280" y="6093000"/>
            <a:ext cx="324000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ерб Речи Посполи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Разделы Польш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24000" y="83664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94 г. в Польше началось восст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Т.Костюшк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 в котором приняли участие аристократия, шляхта, население городов и крестьянство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ь – сохранить единство Поль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Картинка 8 из 655"/>
          <p:cNvPicPr/>
          <p:nvPr/>
        </p:nvPicPr>
        <p:blipFill>
          <a:blip r:embed="rId1"/>
          <a:stretch/>
        </p:blipFill>
        <p:spPr>
          <a:xfrm>
            <a:off x="330120" y="2492280"/>
            <a:ext cx="3457800" cy="4176720"/>
          </a:xfrm>
          <a:prstGeom prst="rect">
            <a:avLst/>
          </a:prstGeom>
          <a:ln w="34920">
            <a:solidFill>
              <a:srgbClr val="808000"/>
            </a:solidFill>
            <a:miter/>
          </a:ln>
        </p:spPr>
      </p:pic>
      <p:sp>
        <p:nvSpPr>
          <p:cNvPr id="109" name="Text Box 8"/>
          <p:cNvSpPr/>
          <p:nvPr/>
        </p:nvSpPr>
        <p:spPr>
          <a:xfrm>
            <a:off x="3924360" y="2421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ди восставших не было единства и введенные Россией войска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.В.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давили восстание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воров получил звание фельдмарш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95280" y="3716280"/>
            <a:ext cx="8280360" cy="228852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подавления восстания в 1795 г. произошел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-й разд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льши. Пруссия и Австрия поделили территорию самой Польши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получила Западную Белоруссию, Литву, Курляндию и часть Волыни.                                          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ОЛЬША ПЕРЕСТАЛА СУЩЕ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00720" y="-360"/>
            <a:ext cx="284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Разделы Поль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07"/>
          <p:cNvPicPr/>
          <p:nvPr/>
        </p:nvPicPr>
        <p:blipFill>
          <a:blip r:embed="rId1"/>
          <a:stretch/>
        </p:blipFill>
        <p:spPr>
          <a:xfrm>
            <a:off x="0" y="0"/>
            <a:ext cx="6273720" cy="6858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дищев А.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Картинка 5 из 22001"/>
          <p:cNvPicPr/>
          <p:nvPr/>
        </p:nvPicPr>
        <p:blipFill>
          <a:blip r:embed="rId1"/>
          <a:stretch/>
        </p:blipFill>
        <p:spPr>
          <a:xfrm>
            <a:off x="250920" y="907920"/>
            <a:ext cx="3382920" cy="41767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115" name="Text Box 5"/>
          <p:cNvSpPr/>
          <p:nvPr/>
        </p:nvSpPr>
        <p:spPr>
          <a:xfrm>
            <a:off x="179280" y="5157720"/>
            <a:ext cx="3529080" cy="39888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дищев А.Н. (1749-18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1280" y="836640"/>
            <a:ext cx="49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90 г. выпустил книгу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Путешествие из Петербурга               в Москву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в которой в резкой форме критиковал крепостничество                                  и проводимую политику правительства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д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Вольность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бличал самодержавие как узурпацию прав народа на своб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851280" y="458136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катери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звала ег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унтовщиком хуже Пугачева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он был приговорен к смертной казни, которая была заменена 10-летней ссылкой в Сиб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оссия к концу правления Екатерины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03"/>
          <p:cNvPicPr/>
          <p:nvPr/>
        </p:nvPicPr>
        <p:blipFill>
          <a:blip r:embed="rId1"/>
          <a:stretch/>
        </p:blipFill>
        <p:spPr>
          <a:xfrm>
            <a:off x="0" y="1000080"/>
            <a:ext cx="91407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277445493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448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Изучить параграф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Ответить на вопросы на стр.204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Выучить основные 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ойна с Турцией 1768-1774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исоединение Кры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ойна с Турцией 1787-1791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зделы Поль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Rumjanzew-sadunaisk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429000"/>
            <a:ext cx="2506680" cy="34290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46" name="Picture 6" descr="Princepotemk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3429000"/>
            <a:ext cx="2449440" cy="34290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47" name="Picture 7" descr="Suvorov Alex 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3284640"/>
            <a:ext cx="2770200" cy="35733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aa9a3b902f200ff5d80c0e65c7f6f65_full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68360" y="260280"/>
            <a:ext cx="8207280" cy="106884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СНОВНЫЕ  НАПРАВЛЕНИЯ  ВНЕШНЕЙ  ПОЛИТИКИ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1484280"/>
            <a:ext cx="813600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Борьба с Польско-Литовским государством за древние русские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68360" y="2637000"/>
            <a:ext cx="813600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Борьба за расширение и укрепление территорий в Прибал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8360" y="3789360"/>
            <a:ext cx="8136000" cy="137376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Борьба за выход к Черному морю, овладение плодородными землями юга, ликвидация Крымского х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32000" y="981000"/>
            <a:ext cx="57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63 г. Россия посадила                        на Польский трон Станислава Понятовского. Недовольная часть шляхты начала против него войну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оссия ввела войска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урция потребовала вывода войск, Россия отказала и началась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Картинка 8 из 4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791080" cy="3810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324000" y="4869000"/>
            <a:ext cx="230508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.Понят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203640" y="371628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ссия и Турция соперничали              за территории на Северном Кавказе, Грузию и Армению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влияние в Молда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03640" y="5300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енные действия велись на суше и на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700360" y="90792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ив Турции военные действия велись на Дунае, в районе Азовского моря и на Северном Кавказе.                В 1769-1770 гг. русская арми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Дунае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.А.Румянце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несла туркам несколько поражений и захватил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яд крепостей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йна на суше практически была выиг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4221000"/>
            <a:ext cx="216036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.А.Рум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Rumjanzew-sadunaisk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07920"/>
            <a:ext cx="2381400" cy="325764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11"/>
          <p:cNvPicPr/>
          <p:nvPr/>
        </p:nvPicPr>
        <p:blipFill>
          <a:blip r:embed="rId1"/>
          <a:stretch/>
        </p:blipFill>
        <p:spPr>
          <a:xfrm>
            <a:off x="2771640" y="2687760"/>
            <a:ext cx="6094440" cy="39891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65" name="Picture 6" descr="Картинка 2 из 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692280"/>
            <a:ext cx="2424240" cy="31683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2700360" y="69228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усский флот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.А.Спирид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обойдя Европу, появился в Средиземном море                    и 26 июня 1770 г. разгромил турецкий флот в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менской бухт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50920" y="3933720"/>
            <a:ext cx="223344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А.Спир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98100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71 г. русские войска заняли Крым.                                 В 1773 г. Турция попыталась возвратить утерянные    на Дунае территории и крепости. Русские войска               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.А.Румянце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.А.Потемки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.В.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ерешли в наступление и полностью разгромили турецкую армию. Турция была окончательно побеждена и запросила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rincepotemkin.jpg"/>
          <p:cNvPicPr/>
          <p:nvPr/>
        </p:nvPicPr>
        <p:blipFill>
          <a:blip r:embed="rId1"/>
          <a:stretch/>
        </p:blipFill>
        <p:spPr>
          <a:xfrm>
            <a:off x="395280" y="3716280"/>
            <a:ext cx="2244600" cy="314172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71" name="Picture 7" descr="Suvorov Alex V.jpg"/>
          <p:cNvPicPr/>
          <p:nvPr/>
        </p:nvPicPr>
        <p:blipFill>
          <a:blip r:embed="rId2"/>
          <a:stretch/>
        </p:blipFill>
        <p:spPr>
          <a:xfrm>
            <a:off x="6372360" y="3645000"/>
            <a:ext cx="2490480" cy="32130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2771640" y="4508640"/>
            <a:ext cx="201636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А.Потем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356000" y="6237360"/>
            <a:ext cx="187164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.В.Су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43280" y="404280"/>
            <a:ext cx="25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усско-Турецкая война             1668-1774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5"/>
          <p:cNvPicPr/>
          <p:nvPr/>
        </p:nvPicPr>
        <p:blipFill>
          <a:blip r:embed="rId1"/>
          <a:stretch/>
        </p:blipFill>
        <p:spPr>
          <a:xfrm>
            <a:off x="0" y="0"/>
            <a:ext cx="62784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50920" y="18900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1774 г. в Кючук-Кайнарджи был заключен мирный догов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50920" y="1268280"/>
            <a:ext cx="8351640" cy="5205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Крым становился независимым от Тур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916280"/>
            <a:ext cx="8351640" cy="13737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Россия получала земли между Днепром           и Бугом, Азов, Керчь, крепость Кибурн            и ряд областей на Северном Кавк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0920" y="342900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Россия получила право создать военный флот на Черном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50920" y="450864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. Русские торговые суда получили право беспрепятственно проходить прол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558972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. Россия добилась права постройки православного храма в Стамб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рисоединение Кры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9079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783 г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оссия объявила о присоединени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ым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Сразу начал строиться Севастополя. Крымское ханство было ликвидировано, многие мусульмане бежали в Турцию. Одновременно были присоединены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аман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убанский край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Россия взяла под протектора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осточную Грузию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79280" y="350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инициативе Г.А.Потемкина строились новые крепости (Херсон, Николаев, Екатеринослав), активно велось создание Черноморского ф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вропейские государства были обеспокоены таким усилением позиций России, только Австрия поддержала Россию, стремясь усилить свои позиции на Балк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65045168_1286569091_crimea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72148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7:02:01Z</dcterms:created>
  <dc:creator>Нафор Маточ</dc:creator>
  <dc:description/>
  <dc:language>en-US</dc:language>
  <cp:lastModifiedBy>Администратор</cp:lastModifiedBy>
  <dcterms:modified xsi:type="dcterms:W3CDTF">2020-04-04T18:52:38Z</dcterms:modified>
  <cp:revision>77</cp:revision>
  <dc:subject/>
  <dc:title>Внешняя политика России при Екатерине II</dc:title>
</cp:coreProperties>
</file>