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D05-9543-4E15-BD6B-5D47391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B52-71DE-4F76-8DD6-078299F6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B12-9064-4F2F-8889-E8D05B33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67C-9FDF-412E-86E1-9365FDE3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934-7A97-4B13-83FD-7F9ABDC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988-EA0F-4C30-8E46-2F3CD07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815-CFC2-4EA9-B631-F5C84669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47B-9C52-450C-9C4D-FDF949F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B57-44BD-45E6-A45F-0E84979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F40-19F2-43A5-B34E-7D10DFB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3B0-0A84-4709-A1D7-1C6E160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C74-8CFC-4A0E-B404-16FCAC9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ee0"/>
            </a:gs>
            <a:gs pos="100000">
              <a:srgbClr val="abfb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1AD0-0B97-4189-B11A-43B16BB09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atherine_I_of_Russia_by_Nattier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Peter_II_by_unknow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ru.wikipedia.org/wiki/&#1060;&#1072;&#1081;&#1083;:Anna_Ioannovna_silk-wool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wiki/&#1060;&#1072;&#1081;&#1083;:Coronation_portrait_of_Peter_III_of_Russia_-1761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ru.wikipedia.org/wiki/&#1060;&#1072;&#1081;&#1083;:Ioann_Antonovich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delta-car.ru/pic/7b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file://commons.wikimedia.org/wiki/File:Flag_of_Prussia_1892-1918.svg%3Fuselang=ru" TargetMode="External"/><Relationship Id="rId4" Type="http://schemas.openxmlformats.org/officeDocument/2006/relationships/image" Target="../media/image17.png"/><Relationship Id="rId5" Type="http://schemas.openxmlformats.org/officeDocument/2006/relationships/hyperlink" Target="file://commons.wikimedia.org/wiki/File:Flag_of_England.svg%3Fuselang=ru" TargetMode="External"/><Relationship Id="rId6" Type="http://schemas.openxmlformats.org/officeDocument/2006/relationships/image" Target="../media/image18.png"/><Relationship Id="rId7" Type="http://schemas.openxmlformats.org/officeDocument/2006/relationships/hyperlink" Target="file://commons.wikimedia.org/wiki/File:Flag_of_Austria.svg%3Fuselang=ru" TargetMode="External"/><Relationship Id="rId8" Type="http://schemas.openxmlformats.org/officeDocument/2006/relationships/image" Target="../media/image19.png"/><Relationship Id="rId9" Type="http://schemas.openxmlformats.org/officeDocument/2006/relationships/hyperlink" Target="file://commons.wikimedia.org/wiki/File:Flag_of_Saxony-Anhalt_(state).svg%3Fuselang=ru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hyperlink" Target="http://images.yandex.ru/yandsearch?img_url=http%3A%2F%2Fupload.wikimedia.org%2Fwikipedia%2Fcommons%2Fthumb%2F4%2F4c%2FFlag_of_Sweden.svg%2F120px-Flag_of_Sweden.svg.png&amp;iorient=&amp;ih=&amp;nojs=1&amp;icolor=&amp;site=&amp;text=&#1096;&#1074;&#1077;&#1076;&#1089;&#1082;&#1080;&#1081;%20&#1092;&#1083;&#1072;&#1075;%2018%20&#1074;&#1077;&#1082;&#1072;&amp;iw=&amp;wp=&amp;pos=1&amp;recent=&amp;type=&amp;isize=&amp;rpt=simage&amp;itype=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espectme.ru/uploads/photoblog/thumbs/640x/0/0ed0d046225b41669e23bf05fc16e05f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na_Ioannovna_silk-wool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commons.wikimedia.org/wiki/File:Stanis&#322;aw_Leszczy&#324;ski_par_Girardet.PNG%3Fuselang=ru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commons.wikimedia.org/wiki/File:King_Augustus_III_of_Poland.jpg%3Fuselang=ru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9/Louis_Caravaque%2C_Portrait_of_Empress_Anna_Ioannovna_%281730%2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upetra2.3dn.ru/NIV/Minih/Minih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file://upload.wikimedia.org/wikipedia/commons/a/af/Siege_of_Azov_%281736%29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Elizabeth_of_Russia_by_V.Eriksen.jpg%3Fuselang=ru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jplus.ru/img3/m/o/morky/U300_05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50920" y="2997360"/>
            <a:ext cx="86421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ешняя политик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1725-1762 годах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2" name="Picture 12" descr="Екатерина  Алексеев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209232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3" name="Picture 13" descr="Пётр II Алексееви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89000"/>
            <a:ext cx="2317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4" name="Picture 14" descr="250px-Anna_Ioannovna_silk-wo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89000"/>
            <a:ext cx="214344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5" name="Picture 15" descr="&amp;Acy;&amp;ncy;&amp;ncy;&amp;acy; &amp;Lcy;&amp;iecy;&amp;ocy;&amp;pcy;&amp;ocy;&amp;lcy;&amp;softcy;&amp;dcy;&amp;ocy;&amp;vcy;&amp;ncy;&amp;acy;"/>
          <p:cNvPicPr/>
          <p:nvPr/>
        </p:nvPicPr>
        <p:blipFill>
          <a:blip r:embed="rId7"/>
          <a:stretch/>
        </p:blipFill>
        <p:spPr>
          <a:xfrm>
            <a:off x="6880320" y="189000"/>
            <a:ext cx="2263680" cy="2735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6" name="Picture 16" descr="Пётр III Фёдорови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04000" y="4292640"/>
            <a:ext cx="196200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7" name="Picture 18" descr="Иван VI (Иоанн III) Антонович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5280" y="4365720"/>
            <a:ext cx="2192400" cy="24922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48" name="Picture 20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2"/>
          <a:stretch/>
        </p:blipFill>
        <p:spPr>
          <a:xfrm>
            <a:off x="3564000" y="4292640"/>
            <a:ext cx="2041560" cy="2565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Россия в Семилетне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79280" y="620640"/>
            <a:ext cx="878544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ередине 18 века происходит значительное усиление Пруссии. Король </a:t>
            </a:r>
            <a:r>
              <a:rPr b="1" i="1" lang="ru-RU" sz="2400" spc="-1" strike="noStrike" u="sng">
                <a:solidFill>
                  <a:srgbClr val="1c1c1c"/>
                </a:solidFill>
                <a:uFillTx/>
                <a:latin typeface="Arial"/>
              </a:rPr>
              <a:t>Фридрих </a:t>
            </a:r>
            <a:r>
              <a:rPr b="1" i="1" lang="en-US" sz="2400" spc="-1" strike="noStrike" u="sng">
                <a:solidFill>
                  <a:srgbClr val="1c1c1c"/>
                </a:solidFill>
                <a:uFillTx/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оздал армию, считавшуюся непобедимой и представляла угр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7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3030480" cy="39607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755640" y="5877000"/>
            <a:ext cx="2016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идр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48000" y="1916280"/>
            <a:ext cx="5545080" cy="58140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ве коали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48000" y="2708280"/>
            <a:ext cx="208764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УССИЯ  АНГ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724360" y="2708280"/>
            <a:ext cx="324036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ССИЯ  АВСТРИЯ ФРАНЦИЯ ШВЕЦИЯ САКСО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Flag of Prussia 1892-1918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645000"/>
            <a:ext cx="1368360" cy="82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Flag of England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4581360"/>
            <a:ext cx="1368360" cy="82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Flag of Austria.sv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96360" y="4292640"/>
            <a:ext cx="135864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Флаг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96360" y="5229360"/>
            <a:ext cx="1368360" cy="82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Standard_afloat_1835"/>
          <p:cNvPicPr/>
          <p:nvPr/>
        </p:nvPicPr>
        <p:blipFill>
          <a:blip r:embed="rId11"/>
          <a:stretch/>
        </p:blipFill>
        <p:spPr>
          <a:xfrm>
            <a:off x="5724360" y="4292640"/>
            <a:ext cx="1416240" cy="92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image_110"/>
          <p:cNvPicPr/>
          <p:nvPr/>
        </p:nvPicPr>
        <p:blipFill>
          <a:blip r:embed="rId12"/>
          <a:stretch/>
        </p:blipFill>
        <p:spPr>
          <a:xfrm>
            <a:off x="5724360" y="5229360"/>
            <a:ext cx="136872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i?id=296049445-53-72&amp;n=2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659640" y="6002280"/>
            <a:ext cx="13683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Россия в Семилетне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340000" y="620640"/>
            <a:ext cx="6624720" cy="37515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57 г. русская армия под командованием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С.Ф.Апракси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.А.Румянце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несла Фридриху несколько поражений в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осточной Прусси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Однако Апраксин не воспользовался плодами этих побед,            а занял выжидательную позицию. Пруссаки смогли собрать новую армию. Елизавета отстранила Апраксина от командования армией и отдала под с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0ed0d046225b41669e23bf05fc16e05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20640"/>
            <a:ext cx="2044800" cy="2448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4" name="Picture 21" descr="1"/>
          <p:cNvPicPr/>
          <p:nvPr/>
        </p:nvPicPr>
        <p:blipFill>
          <a:blip r:embed="rId3"/>
          <a:stretch/>
        </p:blipFill>
        <p:spPr>
          <a:xfrm>
            <a:off x="179280" y="3500280"/>
            <a:ext cx="2044800" cy="2664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5" name="Text Box 24"/>
          <p:cNvSpPr/>
          <p:nvPr/>
        </p:nvSpPr>
        <p:spPr>
          <a:xfrm>
            <a:off x="179280" y="3068640"/>
            <a:ext cx="201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раксин С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79280" y="6165720"/>
            <a:ext cx="201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 П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6" descr="2131016"/>
          <p:cNvPicPr/>
          <p:nvPr/>
        </p:nvPicPr>
        <p:blipFill>
          <a:blip r:embed="rId4"/>
          <a:stretch/>
        </p:blipFill>
        <p:spPr>
          <a:xfrm>
            <a:off x="5508720" y="4365720"/>
            <a:ext cx="3456000" cy="2354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8" name="Text Box 27"/>
          <p:cNvSpPr/>
          <p:nvPr/>
        </p:nvSpPr>
        <p:spPr>
          <a:xfrm>
            <a:off x="3492360" y="5516640"/>
            <a:ext cx="2016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ака казачьих по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Россия в Семилетне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84360" y="620640"/>
            <a:ext cx="648036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вым командующим был назначен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В.В.Фермор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усская армия заняла всю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осточную Прусси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Елизавета издала указ о ее присоединении к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U300_04"/>
          <p:cNvPicPr/>
          <p:nvPr/>
        </p:nvPicPr>
        <p:blipFill>
          <a:blip r:embed="rId1"/>
          <a:stretch/>
        </p:blipFill>
        <p:spPr>
          <a:xfrm>
            <a:off x="6102360" y="2276640"/>
            <a:ext cx="2873520" cy="3889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8" descr="270-kenig-09"/>
          <p:cNvPicPr/>
          <p:nvPr/>
        </p:nvPicPr>
        <p:blipFill>
          <a:blip r:embed="rId2"/>
          <a:stretch/>
        </p:blipFill>
        <p:spPr>
          <a:xfrm>
            <a:off x="179280" y="620640"/>
            <a:ext cx="2286000" cy="2667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3" name="Text Box 9"/>
          <p:cNvSpPr/>
          <p:nvPr/>
        </p:nvSpPr>
        <p:spPr>
          <a:xfrm>
            <a:off x="324000" y="3284640"/>
            <a:ext cx="2016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ор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156360" y="6207120"/>
            <a:ext cx="2808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ая армия в Семилетне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79280" y="3716280"/>
            <a:ext cx="5832720" cy="30200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58-1760 гг. русские войска одержали несколько блестящих побед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60 г. русские войска вошл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Берлин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уссия оказалась на грани полного по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250920" y="4724280"/>
            <a:ext cx="70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12_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Россия в Семилетне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&amp;IEcy;&amp;lcy;&amp;icy;&amp;zcy;&amp;acy;&amp;vcy;&amp;iecy;&amp;tcy;&amp;acy; I &amp;Pcy;&amp;iecy;&amp;tcy;&amp;rcy;&amp;ocy;&amp;vcy;&amp;ncy;&amp;acy;"/>
          <p:cNvPicPr/>
          <p:nvPr/>
        </p:nvPicPr>
        <p:blipFill>
          <a:blip r:embed="rId1"/>
          <a:stretch/>
        </p:blipFill>
        <p:spPr>
          <a:xfrm>
            <a:off x="250920" y="836640"/>
            <a:ext cx="1604880" cy="201600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pic>
        <p:nvPicPr>
          <p:cNvPr id="130" name="Picture 5" descr="Пётр III Фёдорович"/>
          <p:cNvPicPr/>
          <p:nvPr/>
        </p:nvPicPr>
        <p:blipFill>
          <a:blip r:embed="rId2"/>
          <a:stretch/>
        </p:blipFill>
        <p:spPr>
          <a:xfrm>
            <a:off x="250920" y="3284640"/>
            <a:ext cx="1596960" cy="208908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1908000" y="907920"/>
            <a:ext cx="7056720" cy="1922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смерти Елизаветы Петровны                  в 1761 г. Пет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екращает военные действия против Пруссии и заключает                  с ней военный союз, направленный            против бывших союзников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08000" y="2924280"/>
            <a:ext cx="705672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ворот 1762 г. позволил России избежать новой затяжн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24"/>
          <p:cNvPicPr/>
          <p:nvPr/>
        </p:nvPicPr>
        <p:blipFill>
          <a:blip r:embed="rId3"/>
          <a:stretch/>
        </p:blipFill>
        <p:spPr>
          <a:xfrm>
            <a:off x="6826320" y="3860640"/>
            <a:ext cx="2074680" cy="259272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  <p:sp>
        <p:nvSpPr>
          <p:cNvPr id="134" name="Text Box 9"/>
          <p:cNvSpPr/>
          <p:nvPr/>
        </p:nvSpPr>
        <p:spPr>
          <a:xfrm>
            <a:off x="250920" y="2924280"/>
            <a:ext cx="15127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иза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0920" y="5445000"/>
            <a:ext cx="15127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236000" y="6512040"/>
            <a:ext cx="15127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08000" y="3933720"/>
            <a:ext cx="4824720" cy="192276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катерин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расторгла союз с Пруссией, но вновь начинать с ней войну не стала.  Русские войска вернулись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Итоги внешне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250920" y="836640"/>
            <a:ext cx="8569080" cy="45972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Россия прочно утвердилась в Прибал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250920" y="1413000"/>
            <a:ext cx="856908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Россия показала себя одной из сильнейших военных держав Евро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50920" y="234936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Россия расширила свою территорию за счет присоединения части казахских земель и территорий на Дальнем Восто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250920" y="4941720"/>
            <a:ext cx="8569080" cy="825480"/>
          </a:xfrm>
          <a:prstGeom prst="rect">
            <a:avLst/>
          </a:prstGeom>
          <a:solidFill>
            <a:srgbClr val="ebffeb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. России не удалось добиться выхода к Черному мор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250920" y="364500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Турция и Персия признали Северокавказские земли Кабарды и Дагестана, а также Приазовье «спорными» территор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50920" y="5805360"/>
            <a:ext cx="8569080" cy="825480"/>
          </a:xfrm>
          <a:prstGeom prst="rect">
            <a:avLst/>
          </a:prstGeom>
          <a:solidFill>
            <a:srgbClr val="ebffeb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. России не удалось решить «украинский» и «белорусский»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765000"/>
            <a:ext cx="8351640" cy="314604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учить параграф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опросы стр. 169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онтурная карта стр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овторить параграфы  20-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kunersdorff"/>
          <p:cNvPicPr/>
          <p:nvPr/>
        </p:nvPicPr>
        <p:blipFill>
          <a:blip r:embed="rId1"/>
          <a:stretch/>
        </p:blipFill>
        <p:spPr>
          <a:xfrm>
            <a:off x="2771640" y="4000680"/>
            <a:ext cx="3816360" cy="28573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907920"/>
            <a:ext cx="8496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направления внешне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оссия и Речь Посполит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усско-турецкая война 1735-173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усско-шведская война 1741-1743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движение России на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оссия в Семилетней войне                  1756-1762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тоги внешне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Основные направления внешней поли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1125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родолжение борьбы за выход к Черному морю (Османская империя, Крымское ханств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280" y="198900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Борьба за присоединение к России украинских и белорусских земель (Речь Посполит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79280" y="285264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Сохранение петровских завоеваний в Прибалтике  (Шв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79280" y="371628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 Закрепление России на Кавказе  (Османская империя, П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79280" y="4581360"/>
            <a:ext cx="8713800" cy="82548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Продолжение присоединения новых земель на Вост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Россия и Речь Посполит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250px-Anna_Ioannovna_silk-w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1579680" cy="2016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9" name="Text Box 15"/>
          <p:cNvSpPr/>
          <p:nvPr/>
        </p:nvSpPr>
        <p:spPr>
          <a:xfrm>
            <a:off x="1835280" y="692280"/>
            <a:ext cx="7129440" cy="228852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смерти в 1733 г. польского короля Август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чалась борьба группировок        за власть.                                                      Франция поддерживала Станислава Лещинского, а Россия и Австрия –               сына умершего короля Авгу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50920" y="2708280"/>
            <a:ext cx="144144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на Иоан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79280" y="5445000"/>
            <a:ext cx="15843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.Лещ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380360" y="5516640"/>
            <a:ext cx="15843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гус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692360" y="3141720"/>
            <a:ext cx="5616360" cy="2288520"/>
          </a:xfrm>
          <a:prstGeom prst="rect">
            <a:avLst/>
          </a:prstGeom>
          <a:noFill/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йм избрал королем Лещинского, а Россия, Пруссия и Австрия начали войну за «польское наследство» в поддержку Августа. При их поддержке королем               Речи Посполитой стал Август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Станислав Лещинский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1540080" cy="2089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5" name="Picture 13" descr="Август II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213000"/>
            <a:ext cx="1784160" cy="2230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Русско-турецкая война 1735-1739 г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284720" y="692280"/>
            <a:ext cx="4608360" cy="59461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35 г. для укрепления союзных отношений в борьбе с Турцией Россия вернула Персии земли в Прикаспии, завоеванные во времена Петр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                     Крымское ханство отправила для захвата этих территорий свои войска,              а Россия объявила войну Турции и отправила свои войска к Крыму.                    Погодные условия и недостаточная подготовка не позволили армии дойти до Кры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95640" y="5157720"/>
            <a:ext cx="1150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File:Louis Caravaque, Portrait of Empress Anna Ioannovna (1730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4033800" cy="518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0" name="Text Box 16"/>
          <p:cNvSpPr/>
          <p:nvPr/>
        </p:nvSpPr>
        <p:spPr>
          <a:xfrm>
            <a:off x="971640" y="5877000"/>
            <a:ext cx="230508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на Иоан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 Русско-турецкая война 1735-1739 г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4076640"/>
            <a:ext cx="8713800" cy="265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ной 1736 г. русскую армию возглавил Б.К.Миних. Под его командованием войска вошли в Крым, захватили столицу ханства Бахчисарай, но опасаясь быть «запертыми» в Крыму отступили. Летом 1736 г. русская армия заняла Азов, в 1737 г. – Очаков, в 1739 г. – крепость Хотин. Турция пошла на заключение мира, но выхода к Черному морю Россия не получ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55640" y="3645000"/>
            <a:ext cx="13669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К.Ми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 из 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1979640" cy="295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75" name="Picture 6" descr="File:Siege of Azov (1736)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692280"/>
            <a:ext cx="4969080" cy="2930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4572000" y="3645000"/>
            <a:ext cx="2808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да Азова 173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Русско-шведская война 1741-1743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16360" y="765000"/>
            <a:ext cx="6048360" cy="1557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июле 1741 г. Швеция начала войну против России с целью вернуть себе территории, утраченные после поражения в Северной во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Елизавета I Петров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2694240" cy="338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250920" y="4221000"/>
            <a:ext cx="2592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изавет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Peter_von_Lacy"/>
          <p:cNvPicPr/>
          <p:nvPr/>
        </p:nvPicPr>
        <p:blipFill>
          <a:blip r:embed="rId3"/>
          <a:stretch/>
        </p:blipFill>
        <p:spPr>
          <a:xfrm>
            <a:off x="7093080" y="2421000"/>
            <a:ext cx="1885680" cy="2065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2" name="Text Box 17"/>
          <p:cNvSpPr/>
          <p:nvPr/>
        </p:nvSpPr>
        <p:spPr>
          <a:xfrm>
            <a:off x="2916360" y="2421000"/>
            <a:ext cx="4103640" cy="2288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дцатитысячная русская армия под командованием фельдмаршала П.П.Ласси нанесла шведам ряд по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164360" y="450864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П.Лас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79280" y="4930920"/>
            <a:ext cx="8785440" cy="1922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ссия использовала в войне против шведов финское население, обещая им независимость.                              После капитуляции в августе 1742 г. шведской армии под Гельсинфорсом, Швеция пошла на подписание Абоского мирного догов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Русско-шведская война 1741-1743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26920" y="6021360"/>
            <a:ext cx="2592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ая ар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995640" y="1341360"/>
            <a:ext cx="4897440" cy="442008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тоги  войны: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веция признала территориальные приобретения России в Прибалтике                      и передавала ей  часть территории Финлян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U300_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836640"/>
            <a:ext cx="3770280" cy="511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5. Продвижение России на Вос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140360" y="1773360"/>
            <a:ext cx="46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5280" y="4941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50920" y="692280"/>
            <a:ext cx="8569080" cy="155700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емли населенные казахскими племенами подвергались постоянным нападениям со стороны более сильных соседей: джунгаров, калмыков, башкир, казаков, хивинских и бухарских х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250920" y="2349360"/>
            <a:ext cx="8569080" cy="1191240"/>
          </a:xfrm>
          <a:prstGeom prst="rect">
            <a:avLst/>
          </a:pr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31 г. в состав России добровольно вошли земли Младшего жуза (объединения племен),                                         а в 1740-1743 гг. – Среднего ж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1010113"/>
          <p:cNvPicPr/>
          <p:nvPr/>
        </p:nvPicPr>
        <p:blipFill>
          <a:blip r:embed="rId1"/>
          <a:stretch/>
        </p:blipFill>
        <p:spPr>
          <a:xfrm>
            <a:off x="2340000" y="3567240"/>
            <a:ext cx="4968720" cy="32907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5" name="Text Box 23"/>
          <p:cNvSpPr/>
          <p:nvPr/>
        </p:nvSpPr>
        <p:spPr>
          <a:xfrm>
            <a:off x="2340000" y="3860640"/>
            <a:ext cx="1224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995640" y="3573360"/>
            <a:ext cx="1008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03:41Z</dcterms:created>
  <dc:creator>Нафор Маточ</dc:creator>
  <dc:description/>
  <dc:language>en-US</dc:language>
  <cp:lastModifiedBy>Администратор</cp:lastModifiedBy>
  <dcterms:modified xsi:type="dcterms:W3CDTF">2020-04-04T18:57:47Z</dcterms:modified>
  <cp:revision>235</cp:revision>
  <dc:subject/>
  <dc:title> Внешняя политика России в 1725-1762 гг</dc:title>
</cp:coreProperties>
</file>