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3.png" ContentType="image/png"/>
  <Override PartName="/ppt/media/image12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C9C-8910-4094-B429-64913BE5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5B9-55E0-4C4F-94CE-F826C400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7B1-1E9A-4FB0-BBF5-6213BE9F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FBD-39A3-40D4-B502-57B368F8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CAF-F609-4D16-A01D-B5EAC3F0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130-C383-4128-9C12-702D6C4C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67E-2CA1-49F3-9439-1E958847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825-86CD-46A4-AD45-A76F3E67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1E3-754E-4AC8-853E-CF4633D4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212-8315-4660-B487-C160D42B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766-53B3-4C35-A1BC-62FB553A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4EC-4FFF-4B75-AAA1-7B5DF22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ccff"/>
            </a:gs>
            <a:gs pos="50000">
              <a:srgbClr val="e4c9ff"/>
            </a:gs>
            <a:gs pos="100000">
              <a:srgbClr val="e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54A0-9AF3-4847-A5AA-373FF07A4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%D0%A1%D0%BE%D0%B2%D0%B5%D1%82%D1%81%D0%BA%D0%B8%D0%B9_%D0%A1%D0%BE%D1%8E%D0%B7_%D0%98%D0%BE%D1%81%D0%B8%D1%84_%D0%A1%D1%82%D0%B0%D0%BB%D0%B8%D0%BD"/>
          <p:cNvPicPr/>
          <p:nvPr/>
        </p:nvPicPr>
        <p:blipFill>
          <a:blip r:embed="rId1"/>
          <a:stretch/>
        </p:blipFill>
        <p:spPr>
          <a:xfrm>
            <a:off x="0" y="0"/>
            <a:ext cx="9155160" cy="549288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1042920" y="5589720"/>
            <a:ext cx="748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>
                    <a:alpha val="61000"/>
                  </a:srgbClr>
                </a:solidFill>
                <a:latin typeface="Arial"/>
              </a:rPr>
              <a:t>Внешняя  политика 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>
                  <a:alpha val="61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5805000"/>
            <a:ext cx="87854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49 г. шесть стран Восточной Европы во главе                   с СССР создали Совет экономической взаимопомощи (СЭ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165879"/>
          <p:cNvPicPr/>
          <p:nvPr/>
        </p:nvPicPr>
        <p:blipFill>
          <a:blip r:embed="rId1"/>
          <a:stretch/>
        </p:blipFill>
        <p:spPr>
          <a:xfrm>
            <a:off x="1476360" y="622440"/>
            <a:ext cx="6264360" cy="469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7" name="Text Box 16"/>
          <p:cNvSpPr/>
          <p:nvPr/>
        </p:nvSpPr>
        <p:spPr>
          <a:xfrm>
            <a:off x="3132000" y="5373720"/>
            <a:ext cx="29512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здание СЭ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347640" y="4652640"/>
            <a:ext cx="554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мае 1955 г. в ответ на вступление Западной Германии в НАТО была создана Организация Варшавского договора (ОВ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ap_of_Warsaw_Pact_countries"/>
          <p:cNvPicPr/>
          <p:nvPr/>
        </p:nvPicPr>
        <p:blipFill>
          <a:blip r:embed="rId1"/>
          <a:stretch/>
        </p:blipFill>
        <p:spPr>
          <a:xfrm>
            <a:off x="324000" y="692280"/>
            <a:ext cx="8424720" cy="2873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91" name="Picture 9" descr="Warsaw Pact Logo.png"/>
          <p:cNvPicPr/>
          <p:nvPr/>
        </p:nvPicPr>
        <p:blipFill>
          <a:blip r:embed="rId2"/>
          <a:stretch/>
        </p:blipFill>
        <p:spPr>
          <a:xfrm>
            <a:off x="250920" y="3284640"/>
            <a:ext cx="2896920" cy="3457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3419640" y="3573360"/>
            <a:ext cx="51847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ерритория государств входивших в ОВ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642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скоре после окончания войны непокорность Сталину стал проявлять руководитель Югославии И.Тито.           В СССР его объявили предателем и «гитлеровско-троцкистским агентом». В 1949 г. СССР разорвал дипломатические отношения с Югослав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ejting-krupnejshih-tiranov-planety-91177"/>
          <p:cNvPicPr/>
          <p:nvPr/>
        </p:nvPicPr>
        <p:blipFill>
          <a:blip r:embed="rId1"/>
          <a:stretch/>
        </p:blipFill>
        <p:spPr>
          <a:xfrm>
            <a:off x="609480" y="620640"/>
            <a:ext cx="2772000" cy="3783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96" name="Picture 9" descr="Joseph-Stalin"/>
          <p:cNvPicPr/>
          <p:nvPr/>
        </p:nvPicPr>
        <p:blipFill>
          <a:blip r:embed="rId2"/>
          <a:stretch/>
        </p:blipFill>
        <p:spPr>
          <a:xfrm>
            <a:off x="5219640" y="620640"/>
            <a:ext cx="3144960" cy="3778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539640" y="4437000"/>
            <a:ext cx="288000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уководитель Югославии маршал И.Тит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364000" y="4437000"/>
            <a:ext cx="288000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уководитель СССР генералиссимус И.Стали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4365360"/>
            <a:ext cx="864216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 1949 по 1952 г. в «социалистическом лагере» прошли две волны. Во главе партий и государств были поставлены люди безоговорочно преданные Сталину. Прежние руководители были посажены в тюрьмы, многие расстреляны. Никаких рассуждений о различных путях к социализму не допускалось. Единственно правильный путь – сталински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419640" y="4005360"/>
            <a:ext cx="28796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аршава 1950 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NHCWkiT"/>
          <p:cNvPicPr/>
          <p:nvPr/>
        </p:nvPicPr>
        <p:blipFill>
          <a:blip r:embed="rId1"/>
          <a:stretch/>
        </p:blipFill>
        <p:spPr>
          <a:xfrm>
            <a:off x="2340000" y="692280"/>
            <a:ext cx="5106960" cy="3294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5373360"/>
            <a:ext cx="864216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ибольшей напряженности отношения между СССР    и США достигли в 1949-1950 гг. В 1949 г. на Западе был создан блок НАТО, а в СССР испытана советская атомная бом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59280" y="4869000"/>
            <a:ext cx="338436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спытание атомной бомб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6350171"/>
          <p:cNvPicPr/>
          <p:nvPr/>
        </p:nvPicPr>
        <p:blipFill>
          <a:blip r:embed="rId1"/>
          <a:stretch/>
        </p:blipFill>
        <p:spPr>
          <a:xfrm>
            <a:off x="2411280" y="620640"/>
            <a:ext cx="4629240" cy="4257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4076640"/>
            <a:ext cx="86421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48-49 г. СССР и США  вывели свои войска                  из Кореи. Правительства Южной и Северной Кореи начали готовиться к войне за объединение страны силой. 25 июня 1950 г., Северная Корея начала войну и на 4 день ее армия заняла Сеул. США через Совет Безопасности ООН провели резолюцию осуждавшую Северную Корею и получили право           на вмешательство в конфликт под флагом О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093080" y="1773360"/>
            <a:ext cx="1869840" cy="82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ысадка американского десанта в Коре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Рисунок2"/>
          <p:cNvPicPr/>
          <p:nvPr/>
        </p:nvPicPr>
        <p:blipFill>
          <a:blip r:embed="rId1"/>
          <a:stretch/>
        </p:blipFill>
        <p:spPr>
          <a:xfrm>
            <a:off x="1908000" y="620640"/>
            <a:ext cx="5185080" cy="3384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715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йска США быстро освободили захваченные территории и вторглись в Северную Корею. КНДР обратилась за по мощью к своим союзникам Китаю                       и Советскому Союзу. Получив советскую технику                   и помощь Китайской армии, северяне остановили наступление войск США и Южной Кореи, боевые действия «стабилизировались» на 38 параллели                   и в 1954 г. был подписан мирный договор. Корейская война показала, что «холодная» война          в любой момент может перерасти в «горячую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804000" y="1628640"/>
            <a:ext cx="187020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йна в Коре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tuhaf1"/>
          <p:cNvPicPr/>
          <p:nvPr/>
        </p:nvPicPr>
        <p:blipFill>
          <a:blip r:embed="rId1"/>
          <a:stretch/>
        </p:blipFill>
        <p:spPr>
          <a:xfrm>
            <a:off x="2556000" y="620640"/>
            <a:ext cx="4205160" cy="279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5589360"/>
            <a:ext cx="8715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мае 1949 г. была создана Федеративная республика Германия (ФРГ), а 7 октября 1949 г. - Германская демократическая республика (ГД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195640" y="3357720"/>
            <a:ext cx="18698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Флаг и герб ФР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Flag of Germany.svg"/>
          <p:cNvPicPr/>
          <p:nvPr/>
        </p:nvPicPr>
        <p:blipFill>
          <a:blip r:embed="rId1"/>
          <a:stretch/>
        </p:blipFill>
        <p:spPr>
          <a:xfrm>
            <a:off x="179280" y="836640"/>
            <a:ext cx="4105440" cy="2463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oat of arms of Germany.svg"/>
          <p:cNvPicPr/>
          <p:nvPr/>
        </p:nvPicPr>
        <p:blipFill>
          <a:blip r:embed="rId2"/>
          <a:stretch/>
        </p:blipFill>
        <p:spPr>
          <a:xfrm>
            <a:off x="250920" y="2997360"/>
            <a:ext cx="1827000" cy="237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Flag of East Germany.svg"/>
          <p:cNvPicPr/>
          <p:nvPr/>
        </p:nvPicPr>
        <p:blipFill>
          <a:blip r:embed="rId3"/>
          <a:stretch/>
        </p:blipFill>
        <p:spPr>
          <a:xfrm>
            <a:off x="4788000" y="836640"/>
            <a:ext cx="4105080" cy="2462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Coat of arms of East Germany.svg"/>
          <p:cNvPicPr/>
          <p:nvPr/>
        </p:nvPicPr>
        <p:blipFill>
          <a:blip r:embed="rId4"/>
          <a:stretch/>
        </p:blipFill>
        <p:spPr>
          <a:xfrm>
            <a:off x="6588000" y="2997360"/>
            <a:ext cx="2325960" cy="237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4788000" y="3357720"/>
            <a:ext cx="18698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Флаг и герб ГД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280" y="4005360"/>
            <a:ext cx="87156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Главным уроков противостояния Востока             и Запада в 1945-1953 гг. стало осознание того, что от жесткой внешней политики                    не выиграет никто, «холодная война» может перерасти в «горячую». Понимание этого заложило предпосылки корректировки внешней политики после Стал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451640" y="1628640"/>
            <a:ext cx="1441440" cy="82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спытание атомной бомб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n09_60725055s"/>
          <p:cNvPicPr/>
          <p:nvPr/>
        </p:nvPicPr>
        <p:blipFill>
          <a:blip r:embed="rId1"/>
          <a:stretch/>
        </p:blipFill>
        <p:spPr>
          <a:xfrm>
            <a:off x="1908000" y="692280"/>
            <a:ext cx="5538960" cy="3274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аты и собы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79280" y="620640"/>
            <a:ext cx="871380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1946 г., 5 марта – речь У.Черчилля в Фултоне. Начало «холодной войны»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1628640"/>
            <a:ext cx="871380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1949 г.,– создание НАТО. Образование Совета экономической взаимопомощи (СЭВ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559640" y="5373720"/>
            <a:ext cx="13334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л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trumanstalin"/>
          <p:cNvPicPr/>
          <p:nvPr/>
        </p:nvPicPr>
        <p:blipFill>
          <a:blip r:embed="rId1"/>
          <a:stretch/>
        </p:blipFill>
        <p:spPr>
          <a:xfrm>
            <a:off x="1476360" y="2637000"/>
            <a:ext cx="6062760" cy="39574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32" name="Text Box 9"/>
          <p:cNvSpPr/>
          <p:nvPr/>
        </p:nvSpPr>
        <p:spPr>
          <a:xfrm>
            <a:off x="108000" y="5373720"/>
            <a:ext cx="13334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румэ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713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. Апогей «холодной вой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179280" y="0"/>
            <a:ext cx="88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6" descr="http://t2.kn3.net/taringa/7/3/7/6/6/1/Patriotico1/6F6.jpg"/>
          <p:cNvPicPr/>
          <p:nvPr/>
        </p:nvPicPr>
        <p:blipFill>
          <a:blip r:embed="rId1"/>
          <a:stretch/>
        </p:blipFill>
        <p:spPr>
          <a:xfrm>
            <a:off x="1835280" y="2541600"/>
            <a:ext cx="5754600" cy="4316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95280" y="4428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 Изучить параграф 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Ответить на вопросы на стр.259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. Сделать таблицу по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3284640"/>
          <a:ext cx="8496000" cy="2232000"/>
        </p:xfrm>
        <a:graphic>
          <a:graphicData uri="http://schemas.openxmlformats.org/drawingml/2006/table">
            <a:tbl>
              <a:tblPr/>
              <a:tblGrid>
                <a:gridCol w="1552320"/>
                <a:gridCol w="1995480"/>
                <a:gridCol w="4948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тр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ленство в СЭ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ленство в организации Варшавского договор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80"/>
          <p:cNvSpPr/>
          <p:nvPr/>
        </p:nvSpPr>
        <p:spPr>
          <a:xfrm>
            <a:off x="324000" y="5661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ля работы над таблицей использовать справочные материалы и Интерн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492360" y="692280"/>
            <a:ext cx="5616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ражение Германии в войне коренным образом изменило обстановку в мире - СССР превратился в ведущую международную державу. Учитывая это, Сталин потребовал установить протекторат СССР над Ливией             и предоставить военные базы            в Турции. В свою очередь президент Трумен считал,               что США должны «править миром». Это привело                             к охлаждению отношений                        и началу «холодной войны» между  СССР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24000" y="44280"/>
            <a:ext cx="87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03200" y="5157720"/>
            <a:ext cx="31096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езидент США Г.Труме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017885"/>
          <p:cNvPicPr/>
          <p:nvPr/>
        </p:nvPicPr>
        <p:blipFill>
          <a:blip r:embed="rId1"/>
          <a:stretch/>
        </p:blipFill>
        <p:spPr>
          <a:xfrm>
            <a:off x="250920" y="907920"/>
            <a:ext cx="3511440" cy="4249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3716280"/>
            <a:ext cx="8424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разу после окончания войны начало расти недоверие между бывшими союзниками.                   СССР был обеспокоен ядерной монополией США, а США и Англия опасались советской армии – самой крупной и мощной армии в мире.                          Также их беспокоил рост популярности СССР                    в мире и сильно выросшие за годы войны коммунистические партии и их влияние в странах запад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shagin-parad_mini"/>
          <p:cNvPicPr/>
          <p:nvPr/>
        </p:nvPicPr>
        <p:blipFill>
          <a:blip r:embed="rId1"/>
          <a:stretch/>
        </p:blipFill>
        <p:spPr>
          <a:xfrm>
            <a:off x="2340000" y="620640"/>
            <a:ext cx="4789440" cy="3097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5084280"/>
            <a:ext cx="8424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 1945 г. в США разрабатывались секретные планы нанесения ядерного удара по СССР.                                       Один из таких планов предусматривал использование 196 атомных бомб для уничтожения 20 крупнейших советских го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3ce38198be02t"/>
          <p:cNvPicPr/>
          <p:nvPr/>
        </p:nvPicPr>
        <p:blipFill>
          <a:blip r:embed="rId1"/>
          <a:stretch/>
        </p:blipFill>
        <p:spPr>
          <a:xfrm>
            <a:off x="1547640" y="620640"/>
            <a:ext cx="6193080" cy="4002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6" name="Text Box 11"/>
          <p:cNvSpPr/>
          <p:nvPr/>
        </p:nvSpPr>
        <p:spPr>
          <a:xfrm>
            <a:off x="2565720" y="4653000"/>
            <a:ext cx="44571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мериканский бомбардировщик Б-2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414972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марте 1946 г. У.Черчилль в своей речи в г.Фултон      в США обвинил СССР в распространении «своих доктрин» в мире. Президент США Трумэн провозгласил программу спасения Европы                      от советской экспансии. Трумэн предложил оказывать значительную экономическую помощь только тем странам, в которых в правительстве  не будет коммун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86080" y="3716280"/>
            <a:ext cx="28386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Сталин и У.Черчил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e96dd8cf_resizedScaled_817to604"/>
          <p:cNvPicPr/>
          <p:nvPr/>
        </p:nvPicPr>
        <p:blipFill>
          <a:blip r:embed="rId1"/>
          <a:stretch/>
        </p:blipFill>
        <p:spPr>
          <a:xfrm>
            <a:off x="2556000" y="620640"/>
            <a:ext cx="4176720" cy="3092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У истоков «холодной войны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414972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апреле 1949 г. 12 стран во главе с США создали военно-политический блок НАТО для противостояния Советскому Союзу. Началось создание окружавших СССР военных баз.                   Целью НАТО являлось не допустить дальнейшего роста сфер влияния СССР и коммунистической идеологии, а также заставить СССР вернуться                   к довоенным границ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380360" y="1844640"/>
            <a:ext cx="12952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здание НА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big"/>
          <p:cNvPicPr/>
          <p:nvPr/>
        </p:nvPicPr>
        <p:blipFill>
          <a:blip r:embed="rId1"/>
          <a:stretch/>
        </p:blipFill>
        <p:spPr>
          <a:xfrm>
            <a:off x="2124000" y="549360"/>
            <a:ext cx="5256360" cy="35035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5084280"/>
            <a:ext cx="8424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45 г. коммунистические партии взяли власть                 в Югославии и Северном Вьетнаме, в 1946 г.                    в Албании. В 1946-1949 г. коммунисты пришли                к власти в Болгарии, Румынии, Польше, Венгрии, Чехословакии, Северной Корее, Кита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042920" y="3716280"/>
            <a:ext cx="29527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Сталин и Г.Димитр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Рисунок4"/>
          <p:cNvPicPr/>
          <p:nvPr/>
        </p:nvPicPr>
        <p:blipFill>
          <a:blip r:embed="rId1"/>
          <a:stretch/>
        </p:blipFill>
        <p:spPr>
          <a:xfrm>
            <a:off x="179280" y="620640"/>
            <a:ext cx="4456080" cy="306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9" name="Picture 8" descr="tajne-tita-bio-je-ruski-spijun-plemic-grof-i-slobodni-zidar-900x600-20140101-20140109161800-860e0bc3e21909aa79129a351e127c72"/>
          <p:cNvPicPr/>
          <p:nvPr/>
        </p:nvPicPr>
        <p:blipFill>
          <a:blip r:embed="rId2"/>
          <a:stretch/>
        </p:blipFill>
        <p:spPr>
          <a:xfrm>
            <a:off x="4427640" y="1916280"/>
            <a:ext cx="4587840" cy="3058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0" name="Text Box 9"/>
          <p:cNvSpPr/>
          <p:nvPr/>
        </p:nvSpPr>
        <p:spPr>
          <a:xfrm>
            <a:off x="5364000" y="1484280"/>
            <a:ext cx="29530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.Сталин и И.Ти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11280" y="4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Распространение сталинской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4724280"/>
            <a:ext cx="87854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мунистические правительства этих государств находились под полным контролем Сталина.                 Это обеспечивалось, как огромным авторитетом СССР, так и значительной материальной помощью (долгосрочные льготные кредиты с 1945 г. по 1952 г. составили 15 млрд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1228506564_plakat-4"/>
          <p:cNvPicPr/>
          <p:nvPr/>
        </p:nvPicPr>
        <p:blipFill>
          <a:blip r:embed="rId1"/>
          <a:stretch/>
        </p:blipFill>
        <p:spPr>
          <a:xfrm>
            <a:off x="2608200" y="620640"/>
            <a:ext cx="3559320" cy="396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74" name="Picture 11" descr="i?id=5766bc4138349ec225d81b725c6b6259&amp;n=33&amp;h=170"/>
          <p:cNvPicPr/>
          <p:nvPr/>
        </p:nvPicPr>
        <p:blipFill>
          <a:blip r:embed="rId2"/>
          <a:stretch/>
        </p:blipFill>
        <p:spPr>
          <a:xfrm>
            <a:off x="6300720" y="620640"/>
            <a:ext cx="1241640" cy="82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Flag of Bulgaria (1971-1990).svg"/>
          <p:cNvPicPr/>
          <p:nvPr/>
        </p:nvPicPr>
        <p:blipFill>
          <a:blip r:embed="rId3"/>
          <a:stretch/>
        </p:blipFill>
        <p:spPr>
          <a:xfrm>
            <a:off x="7236000" y="1484280"/>
            <a:ext cx="1377720" cy="82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Flag of Albania (1946-1992).svg"/>
          <p:cNvPicPr/>
          <p:nvPr/>
        </p:nvPicPr>
        <p:blipFill>
          <a:blip r:embed="rId4"/>
          <a:stretch/>
        </p:blipFill>
        <p:spPr>
          <a:xfrm>
            <a:off x="7451640" y="3068640"/>
            <a:ext cx="1158840" cy="82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Flag of Romania (1965-1989).svg"/>
          <p:cNvPicPr/>
          <p:nvPr/>
        </p:nvPicPr>
        <p:blipFill>
          <a:blip r:embed="rId5"/>
          <a:stretch/>
        </p:blipFill>
        <p:spPr>
          <a:xfrm>
            <a:off x="6300720" y="2276640"/>
            <a:ext cx="1241640" cy="82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Flag of Poland.svg"/>
          <p:cNvPicPr/>
          <p:nvPr/>
        </p:nvPicPr>
        <p:blipFill>
          <a:blip r:embed="rId6"/>
          <a:stretch/>
        </p:blipFill>
        <p:spPr>
          <a:xfrm>
            <a:off x="1116000" y="620640"/>
            <a:ext cx="1328760" cy="828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Flag of Czechoslovakia.svg"/>
          <p:cNvPicPr/>
          <p:nvPr/>
        </p:nvPicPr>
        <p:blipFill>
          <a:blip r:embed="rId7"/>
          <a:stretch/>
        </p:blipFill>
        <p:spPr>
          <a:xfrm>
            <a:off x="6300720" y="3789360"/>
            <a:ext cx="1241640" cy="82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Flag of SFR Yugoslavia.svg"/>
          <p:cNvPicPr/>
          <p:nvPr/>
        </p:nvPicPr>
        <p:blipFill>
          <a:blip r:embed="rId8"/>
          <a:stretch/>
        </p:blipFill>
        <p:spPr>
          <a:xfrm>
            <a:off x="250920" y="1413000"/>
            <a:ext cx="1655640" cy="8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Flag of North Vietnam.svg"/>
          <p:cNvPicPr/>
          <p:nvPr/>
        </p:nvPicPr>
        <p:blipFill>
          <a:blip r:embed="rId9"/>
          <a:stretch/>
        </p:blipFill>
        <p:spPr>
          <a:xfrm>
            <a:off x="1187280" y="220500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Flag of North Korea.svg"/>
          <p:cNvPicPr/>
          <p:nvPr/>
        </p:nvPicPr>
        <p:blipFill>
          <a:blip r:embed="rId10"/>
          <a:stretch/>
        </p:blipFill>
        <p:spPr>
          <a:xfrm>
            <a:off x="250920" y="2997360"/>
            <a:ext cx="164124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Flag of the People's Republic of China.svg"/>
          <p:cNvPicPr/>
          <p:nvPr/>
        </p:nvPicPr>
        <p:blipFill>
          <a:blip r:embed="rId11"/>
          <a:stretch/>
        </p:blipFill>
        <p:spPr>
          <a:xfrm>
            <a:off x="1187280" y="3789360"/>
            <a:ext cx="124164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Нафор Маточ</dc:creator>
  <dc:description/>
  <dc:language>en-US</dc:language>
  <cp:lastModifiedBy>Администратор</cp:lastModifiedBy>
  <dcterms:modified xsi:type="dcterms:W3CDTF">2020-04-04T18:54:29Z</dcterms:modified>
  <cp:revision>139</cp:revision>
  <dc:subject/>
  <dc:title>Внешняя политика ссср 1945-1953 гг</dc:title>
</cp:coreProperties>
</file>