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E61-7E76-481A-BEE0-75FF9903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9D1-145B-412B-99F1-568A8F3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AC2-79B8-497F-ABA4-113AF255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327-22ED-4F7F-BE9C-81211FEA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8F-B91C-4517-A2B4-5073D52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D99-CC90-4ED7-A6D7-ED90EAD6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F91-B003-4E59-8877-AC26ED1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542-BA25-4CCA-B68E-8E70D45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978-9CAE-4895-B79B-25E2BE4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341-91D4-456A-89F3-F885E74A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A4E-D6FB-4BAC-9F77-69EA263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B23-73ED-4B3B-AF0C-62A01FC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ee0"/>
            </a:gs>
            <a:gs pos="100000">
              <a:srgbClr val="abfb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B4E8-D522-47B1-A116-0D369A691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atherine_I_of_Russia_by_Nattier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Peter_II_by_unknow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ru.wikipedia.org/wiki/&#1060;&#1072;&#1081;&#1083;:Anna_Ioannovna_silk-wool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wiki/&#1060;&#1072;&#1081;&#1083;:Coronation_portrait_of_Peter_III_of_Russia_-1761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ru.wikipedia.org/wiki/&#1060;&#1072;&#1081;&#1083;:Ioann_Antonovich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f/Portrait_of_Alexander_Danilovich_Menshikov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Catherine_I_of_Russia_by_Nattier.jp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eter_II_by_unknow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50920" y="2997360"/>
            <a:ext cx="86421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утренняя политик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1725-1762 годах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2" name="Picture 12" descr="Екатерина  Алексеев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209232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3" name="Picture 13" descr="Пётр II Алексееви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89000"/>
            <a:ext cx="2317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4" name="Picture 14" descr="250px-Anna_Ioannovna_silk-wo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89000"/>
            <a:ext cx="214344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5" name="Picture 15" descr="&amp;Acy;&amp;ncy;&amp;ncy;&amp;acy; &amp;Lcy;&amp;iecy;&amp;ocy;&amp;pcy;&amp;ocy;&amp;lcy;&amp;softcy;&amp;dcy;&amp;ocy;&amp;vcy;&amp;ncy;&amp;acy;"/>
          <p:cNvPicPr/>
          <p:nvPr/>
        </p:nvPicPr>
        <p:blipFill>
          <a:blip r:embed="rId7"/>
          <a:stretch/>
        </p:blipFill>
        <p:spPr>
          <a:xfrm>
            <a:off x="6880320" y="189000"/>
            <a:ext cx="2263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6" name="Picture 16" descr="Пётр III Фёдорови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04000" y="4292640"/>
            <a:ext cx="196200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7" name="Picture 18" descr="Иван VI (Иоанн III) Антонович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5280" y="4365720"/>
            <a:ext cx="2192400" cy="2492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8" name="Picture 20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2"/>
          <a:stretch/>
        </p:blipFill>
        <p:spPr>
          <a:xfrm>
            <a:off x="3564000" y="4292640"/>
            <a:ext cx="204156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Политика в отношении каз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620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ласть стремилась расколоть казачество:                     на Украине обязанности зажиточных казаков были сведены только к военной службе, а рядовые казаки практически приравнивались к крестья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2205000"/>
            <a:ext cx="8569080" cy="37515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родолжалось ограничение самоуправления украинских казаков:                                                                 -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оздал для управления Левобережной Украиной Малороссийскую коллегию (вместо гетмана);                                                                                   -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осстановил должность гетмана;                        - В 1734 г. Анна Иоанновна передала управление Украиной Правлению гетманского уряда (назначался императрицей); пыталась провести реформирование казачьих воинских подраз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6. Политика в области мануфактурного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50920" y="105264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 связи с нехваткой свободных рабочих рук при Петр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репостных крестьян стали приписывать к мануфактурам; У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50920" y="2276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Указ Анны Иоанновны от 1736 г. навечно закреплял работавших на мануфактурах крестьян и их семьи в собственности владельца, приписывались также присланные на работу нищие и бродя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50920" y="386064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Указ Елизаветы Петровны подтвердил указ Анны; для работы на мануфактурах предприниматели могли либо купить крепостных, либо добиться приписки к предприятию государственных крестья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250920" y="5445000"/>
            <a:ext cx="8569080" cy="1373760"/>
          </a:xfrm>
          <a:prstGeom prst="rect">
            <a:avLst/>
          </a:prstGeom>
          <a:solidFill>
            <a:srgbClr val="ebffeb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осту мануфактур способствовали отмена внутренних таможен и учреждение первых банков: Дворянского и Купече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24000" y="907920"/>
            <a:ext cx="8351640" cy="340884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учить параграф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просы стр. 161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овторить последовательность правителей  России  с  1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7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25   по  1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7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62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18 век"/>
          <p:cNvPicPr/>
          <p:nvPr/>
        </p:nvPicPr>
        <p:blipFill>
          <a:blip r:embed="rId1"/>
          <a:stretch/>
        </p:blipFill>
        <p:spPr>
          <a:xfrm>
            <a:off x="3708360" y="4365720"/>
            <a:ext cx="1998720" cy="249228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111" name="Picture 6" descr="&amp;Acy;&amp;ncy;&amp;ncy;&amp;acy; &amp;Lcy;&amp;iecy;&amp;ocy;&amp;pcy;&amp;ocy;&amp;lcy;&amp;softcy;&amp;dcy;&amp;ocy;&amp;vcy;&amp;ncy;&amp;acy;"/>
          <p:cNvPicPr/>
          <p:nvPr/>
        </p:nvPicPr>
        <p:blipFill>
          <a:blip r:embed="rId2"/>
          <a:stretch/>
        </p:blipFill>
        <p:spPr>
          <a:xfrm>
            <a:off x="5940360" y="4365720"/>
            <a:ext cx="2063880" cy="249228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  <p:pic>
        <p:nvPicPr>
          <p:cNvPr id="112" name="Picture 7" descr="Пётр III Фёдорович"/>
          <p:cNvPicPr/>
          <p:nvPr/>
        </p:nvPicPr>
        <p:blipFill>
          <a:blip r:embed="rId3"/>
          <a:stretch/>
        </p:blipFill>
        <p:spPr>
          <a:xfrm>
            <a:off x="1476360" y="4365720"/>
            <a:ext cx="1906560" cy="2492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907920"/>
            <a:ext cx="8496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емены в системе центра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крепление позиций дворян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тношении кресть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менения в системе городск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тношении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итика в области мануфактурного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1125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смерти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 1726 г. был создан Верховный тайный совет (А.Д.Меншик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280" y="198900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ьшается роль Сената – ниже Верховного тайного совета (из «правительствующего» в «высокий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Картинка 4 из 1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852640"/>
            <a:ext cx="3397320" cy="400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55" name="Text Box 10"/>
          <p:cNvSpPr/>
          <p:nvPr/>
        </p:nvSpPr>
        <p:spPr>
          <a:xfrm>
            <a:off x="3635280" y="3645000"/>
            <a:ext cx="20876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Екатерина  Алексеев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2760" y="2852640"/>
            <a:ext cx="3062160" cy="400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57" name="Text Box 12"/>
          <p:cNvSpPr/>
          <p:nvPr/>
        </p:nvSpPr>
        <p:spPr>
          <a:xfrm>
            <a:off x="3995640" y="501336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л перенос столицы из Петербурга в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ступал против многих реформ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486900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Пётр II Алексе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7840" y="2133720"/>
            <a:ext cx="4003560" cy="4724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30 г. Верховный тайный совет распущ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9280" y="162864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абинет министров из трех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92360" y="4365720"/>
            <a:ext cx="172908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50px-Anna_Ioannovna_silk-wool"/>
          <p:cNvPicPr/>
          <p:nvPr/>
        </p:nvPicPr>
        <p:blipFill>
          <a:blip r:embed="rId1"/>
          <a:stretch/>
        </p:blipFill>
        <p:spPr>
          <a:xfrm>
            <a:off x="395280" y="2997360"/>
            <a:ext cx="3025800" cy="386064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68" name="Picture 8" descr="Эрнст Иоганн Бирон"/>
          <p:cNvPicPr/>
          <p:nvPr/>
        </p:nvPicPr>
        <p:blipFill>
          <a:blip r:embed="rId2"/>
          <a:stretch/>
        </p:blipFill>
        <p:spPr>
          <a:xfrm>
            <a:off x="5565600" y="3068640"/>
            <a:ext cx="3116520" cy="3789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69" name="Text Box 9"/>
          <p:cNvSpPr/>
          <p:nvPr/>
        </p:nvSpPr>
        <p:spPr>
          <a:xfrm>
            <a:off x="3780000" y="5445000"/>
            <a:ext cx="1728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79280" y="213372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анцелярия тайных розыскных дел (занималась государственными преступления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еремены в системе центрального 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112536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бинет министров упраздн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9280" y="162864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становлены полномочия Правительствующего С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995640" y="6021360"/>
            <a:ext cx="17287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изавет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9280" y="2492280"/>
            <a:ext cx="871380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становлена деятельность колле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79280" y="2997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ется Конференция при высочайшем дворе (выше Сен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"/>
          <a:stretch/>
        </p:blipFill>
        <p:spPr>
          <a:xfrm>
            <a:off x="1619280" y="3860640"/>
            <a:ext cx="2384280" cy="2997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Укрепление позиций дворя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76500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За проявленную поддержку Екатери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граждала дворян поместьями с крепостными крестьянами, деньгами; у руля государства Тайный Со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2060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етр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оял на стороне старой аристократии, дворяне не получили от него никаких привиле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292428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Анна сократила срок обязательной службы до 25 лет; отменен указ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 единонаследии; открыт Шляхетский кадетский корпус для подготовки офицеров; запись в армию с младенческих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50920" y="4508640"/>
            <a:ext cx="8569080" cy="1922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Елизавета наградила всех участников переворота; за дворянами закреплялись имения с крепостными; дворяне освобождались от наказаний розгами; помещики получили право ссылать своих крестьян на поселение в Сибирь (засчитывались как рекру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50920" y="765000"/>
            <a:ext cx="8569080" cy="228780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тр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в 1762 г. издал                                           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«Манифест о вольности дворянской»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по которому все дворяне освобождались               от обязательной службы государст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Пётр III Фёдорович"/>
          <p:cNvPicPr/>
          <p:nvPr/>
        </p:nvPicPr>
        <p:blipFill>
          <a:blip r:embed="rId1"/>
          <a:stretch/>
        </p:blipFill>
        <p:spPr>
          <a:xfrm>
            <a:off x="2916360" y="2637000"/>
            <a:ext cx="3228840" cy="422100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олитика в отношении крестьян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40360" y="1773360"/>
            <a:ext cx="46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95280" y="4941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раво собирать подушную подать с крестьян получили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50920" y="148428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мещики получили право продавать крестьян в рек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0920" y="234936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Крестьян лишили права брать откупы и подряды; им запретили заводить суконные фа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0920" y="321300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Помещики получили право определять наказание за побег, ссылать крестьян в Сибирь и на като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50920" y="407664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Помещики получили право расширять свою пашню за счет наделов крестья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50920" y="494172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Росли повинности крестьян в пользу помещиков (барщина выросла с трех до пяти-шести дней в нед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250920" y="2276640"/>
            <a:ext cx="8569080" cy="399348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азорение крестьянских хозяйств;                    рост недоимок;                                              снижение налоговых поступлений              в казну;                                                      бегство крестьян в низовья                          Волги и Дона;                                         крестьянские бу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Городское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4724280"/>
            <a:ext cx="70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50920" y="765000"/>
            <a:ext cx="8569080" cy="5639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В 1727 г. введенная  Петром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система местного управления была ликвидирована как дорогостоящая;                                                        - был сокращен аппарат управления;                                  - магистраты подчинялись воеводам;                                 - Главный Магистрат был упразднен;                                 - власть воеводы становилась практически неограниченной;                                                                    - государственное жалованье чиновному аппарату было отменено – они переводились на содержание местного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03:41Z</dcterms:created>
  <dc:creator>Нафор Маточ</dc:creator>
  <dc:description/>
  <dc:language>en-US</dc:language>
  <cp:lastModifiedBy>Администратор</cp:lastModifiedBy>
  <dcterms:modified xsi:type="dcterms:W3CDTF">2020-04-04T18:57:58Z</dcterms:modified>
  <cp:revision>167</cp:revision>
  <dc:subject/>
  <dc:title> Внутренняя политика в 1725-1762 гг</dc:title>
</cp:coreProperties>
</file>