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812-9D28-4887-8E65-56BB2DF21E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5FA0-E9E6-459A-928A-63DE51541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4BC-1B88-4AE4-A15E-FC10FEF0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D92-B060-4FC8-984E-0755100D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6F0-0C0B-4C9A-A671-374B6FF7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114-A4BB-470D-BA17-826978AB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1B76-8851-4B90-B33C-352B28C6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06B7-8B58-4F41-A772-31E70B54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A62F-BB0F-4064-B5EC-3E54138A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AAB9-6A3E-438E-9AF2-E87BB42D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E5F-529F-47B0-B72C-A919C23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ACB5-AE35-4900-83D9-0D0D11B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D4EF-F8D6-41C0-8E83-B579166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12E-8C6F-4F7D-8951-F3AA566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80F-5191-4D73-89EE-3942666A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CD2-8E10-4C15-8047-62FA1CC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A01-71B3-48D0-B310-047C06CF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138-111B-44DF-9453-3AFB3AD4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42FF-B371-4F47-8FEB-F4371A0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B402-10E1-4910-A091-2DF4DF0D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113A-0398-4CC3-B16C-666C08F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B7AF-F13C-4A6D-AB45-F86A6371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E415-3E32-42F8-80CE-EDD77C7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DA1C-6F5A-4B5F-A385-69E77F29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3BD-23DA-4DEB-918D-2287EC03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FE89-A3DE-4C92-84AC-88DEE62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CC05-E8EE-4B63-B409-00E617C0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9392-DFD3-4486-8A38-50479EA1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9B38-55F4-40A1-9343-8FA1B15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0007-FCBB-4E65-9539-08872989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10B0-7AE3-4420-9D66-375E957D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5530-4FE3-4564-B72E-596217C4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6233-C6AF-4C69-B2B5-AA015D07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4521-D76A-410E-815A-02E76C31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7599-3E9F-45D8-BD46-211B276C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F1D-3528-40F4-9C84-2A004C3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4B3F-AFB1-45D8-8845-F894A3F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C5F81-99AB-4EF8-BC72-7D5FFB9A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FB855-7E77-4E1A-BA40-0D5E037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7D24-87FB-4BAC-B48B-1B95E93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AA41-D3E7-49AF-8224-442F4A4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898C-E480-4D71-A133-64F075A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F797-C8BA-4992-B06E-1DEAAEA7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B431-669B-4995-A09C-18B6A66F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819C-9B21-4C7D-98BD-3345E1ED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0C54-9224-44F0-94F2-4BC2F059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A99-C442-45E7-921F-95487E3F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8C3B-3EA3-42D8-AFB1-7E41669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417F-DC56-444A-9B21-5C69A64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F451-16FA-4A4B-9421-A093DCA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1EE6-4735-4D81-AFA6-A5EAF8B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F1451-B51B-44BC-A61A-6A326B6B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3FCF-AB44-4CEC-970D-5040F5C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96ED-0E2E-4FCB-8DC0-BADFF22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AB30-C14A-49E5-B68A-D467483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9F1FA-ABAF-4C6A-A41F-A724A300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12A1-3D74-484F-BB57-4E6714B6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D55-8CC5-44B3-9BFE-8B5E4E6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7851-4940-44B2-AD3B-77D08FF9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98D8B-108F-4C1F-8A87-BFEA38E6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13C12-4813-4EFC-B7E3-5E5D1D9D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BCC6B-77A1-4E48-B90D-4933A2C5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B3B2-B2DB-4028-BE75-AA5F16AD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D300-8436-4887-B463-404280B5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246C-9E28-4B9C-8EF6-B76DEA1A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C258-D152-4A4F-A352-6A68F09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9374-E96E-4BA7-9A42-B661133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CDCC-FBF7-41E9-A4D8-277D09D6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39E-B85B-4523-A4AC-838200C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B9F0-2A0F-43DD-8A39-23B9A050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78ED-0423-4B43-80A3-50E35A53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A9C94-2D22-488E-93BD-97CB6074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AB92-9604-491F-8DEE-845721AB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FED6-CE60-4243-BED6-37E23A30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69DB-533B-4BBE-A87A-DE437BA4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34A12-365A-4827-BEA9-0C23DFB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17F4B-4BF2-4BF9-82BE-40BF08F6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9F419-2C3D-4221-8D62-6EF3AFE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7B20-80FB-4D53-B9A9-DD2A713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350-5F39-46C7-BC6D-13364C0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164D5-645A-4543-8F6D-A24FCD9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81B0D-844D-4851-A007-AB66308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8E53-9CC9-4FB0-990A-0A663DD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932A-76AF-46B0-866E-6CD27C32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9E7AC-BA1A-4B2C-839D-8EFC670D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BA2-801F-4D6B-AB00-327CA93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4908-027A-4F70-9788-53AE847C30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3458-B83F-4FD3-AA43-220D070265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7D4E-6A1B-44A2-AF98-6785E869D5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1C09-C80A-4B6D-94CC-DDAEC0097E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2310-2A0D-48B2-AFEC-78AF0D6E3A56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8B91-EDF5-4569-B41E-091E824CDC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593-2351-4F7B-9D6F-2F614FA05D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2"/>
          <p:cNvSpPr/>
          <p:nvPr/>
        </p:nvSpPr>
        <p:spPr>
          <a:xfrm>
            <a:off x="108000" y="18900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Bookman Old Style"/>
              </a:rPr>
              <a:t>Д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3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7200720" cy="3101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"/>
          <p:cNvPicPr/>
          <p:nvPr/>
        </p:nvPicPr>
        <p:blipFill>
          <a:blip r:embed="rId2"/>
          <a:stretch/>
        </p:blipFill>
        <p:spPr>
          <a:xfrm>
            <a:off x="2340000" y="0"/>
            <a:ext cx="6624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5"/>
          <p:cNvSpPr/>
          <p:nvPr/>
        </p:nvSpPr>
        <p:spPr>
          <a:xfrm>
            <a:off x="5094360" y="3567240"/>
            <a:ext cx="3467160" cy="19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68360" y="836640"/>
            <a:ext cx="83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Инверс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85760" y="4075200"/>
          <a:ext cx="2657520" cy="1280880"/>
        </p:xfrm>
        <a:graphic>
          <a:graphicData uri="http://schemas.openxmlformats.org/drawingml/2006/table">
            <a:tbl>
              <a:tblPr/>
              <a:tblGrid>
                <a:gridCol w="1330560"/>
                <a:gridCol w="13269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20"/>
          <p:cNvSpPr/>
          <p:nvPr/>
        </p:nvSpPr>
        <p:spPr>
          <a:xfrm>
            <a:off x="-71280" y="5560920"/>
            <a:ext cx="84261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7052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814320" y="304812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4502160" y="3021120"/>
            <a:ext cx="44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6"/>
          <p:cNvSpPr/>
          <p:nvPr/>
        </p:nvSpPr>
        <p:spPr>
          <a:xfrm>
            <a:off x="6103800" y="3781440"/>
            <a:ext cx="1330560" cy="1512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5681520" y="490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903240" y="871560"/>
            <a:ext cx="68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ая операция, значение которой меняется на противоположное исходному высказы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огическое отриц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"/>
          <p:cNvSpPr/>
          <p:nvPr/>
        </p:nvSpPr>
        <p:spPr>
          <a:xfrm>
            <a:off x="2171160" y="339876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2"/>
          <p:cNvSpPr/>
          <p:nvPr/>
        </p:nvSpPr>
        <p:spPr>
          <a:xfrm>
            <a:off x="179280" y="260280"/>
            <a:ext cx="843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a50021"/>
                </a:solidFill>
                <a:latin typeface="Calibri"/>
              </a:rPr>
              <a:t>Закрепл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395280" y="1916280"/>
            <a:ext cx="8426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иведите по одному примеру истинных и ложных высказываний  и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ологии, географии, математики, литературы, информат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33"/>
          <p:cNvSpPr/>
          <p:nvPr/>
        </p:nvSpPr>
        <p:spPr>
          <a:xfrm>
            <a:off x="250920" y="260280"/>
            <a:ext cx="849636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чему следующие предложения не являются высказываниями? Объ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Какого цвета этот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Запишите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Пейте томатный 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37"/>
          <p:cNvSpPr/>
          <p:nvPr/>
        </p:nvSpPr>
        <p:spPr>
          <a:xfrm>
            <a:off x="468360" y="333360"/>
            <a:ext cx="849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троить отрицание данных высказыв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театре идёт опера «Евгений Онеги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Каждый охотник желает знать, где сидит фаз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2" descr=""/>
          <p:cNvPicPr/>
          <p:nvPr/>
        </p:nvPicPr>
        <p:blipFill>
          <a:blip r:embed="rId1"/>
          <a:stretch/>
        </p:blipFill>
        <p:spPr>
          <a:xfrm>
            <a:off x="2170080" y="115920"/>
            <a:ext cx="45655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38"/>
          <p:cNvSpPr/>
          <p:nvPr/>
        </p:nvSpPr>
        <p:spPr>
          <a:xfrm>
            <a:off x="179280" y="115920"/>
            <a:ext cx="842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усть А = «Саше нравятся уроки математики», а В = «Саше нравятся уроки химии». Выразите следующие формулы на обычном язы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24717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2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4926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Заголовок 2"/>
          <p:cNvSpPr/>
          <p:nvPr/>
        </p:nvSpPr>
        <p:spPr>
          <a:xfrm>
            <a:off x="2311560" y="87480"/>
            <a:ext cx="5140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ение итог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979560" y="2987640"/>
            <a:ext cx="1942920" cy="432000"/>
          </a:xfrm>
          <a:prstGeom prst="rect">
            <a:avLst/>
          </a:prstGeom>
          <a:solidFill>
            <a:srgbClr val="e4831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787920" y="2987640"/>
            <a:ext cx="1942920" cy="432000"/>
          </a:xfrm>
          <a:prstGeom prst="rect">
            <a:avLst/>
          </a:prstGeom>
          <a:solidFill>
            <a:srgbClr val="e4831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6451560" y="2987640"/>
            <a:ext cx="1943280" cy="432000"/>
          </a:xfrm>
          <a:prstGeom prst="rect">
            <a:avLst/>
          </a:prstGeom>
          <a:solidFill>
            <a:srgbClr val="e4831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8"/>
          <p:cNvSpPr/>
          <p:nvPr/>
        </p:nvSpPr>
        <p:spPr>
          <a:xfrm flipV="1">
            <a:off x="2311560" y="2449440"/>
            <a:ext cx="2447640" cy="503280"/>
          </a:xfrm>
          <a:prstGeom prst="line">
            <a:avLst/>
          </a:prstGeom>
          <a:ln w="38160">
            <a:solidFill>
              <a:srgbClr val="e4831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 flipH="1" flipV="1">
            <a:off x="4758840" y="2449440"/>
            <a:ext cx="2737080" cy="503280"/>
          </a:xfrm>
          <a:prstGeom prst="line">
            <a:avLst/>
          </a:prstGeom>
          <a:ln w="38160">
            <a:solidFill>
              <a:srgbClr val="e4831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4759200" y="2449440"/>
            <a:ext cx="0" cy="503280"/>
          </a:xfrm>
          <a:prstGeom prst="line">
            <a:avLst/>
          </a:prstGeom>
          <a:ln w="38160">
            <a:solidFill>
              <a:srgbClr val="e4831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65240" y="758880"/>
            <a:ext cx="842472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049400" y="355428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3714840" y="3554280"/>
          <a:ext cx="2089080" cy="1981440"/>
        </p:xfrm>
        <a:graphic>
          <a:graphicData uri="http://schemas.openxmlformats.org/drawingml/2006/table">
            <a:tbl>
              <a:tblPr/>
              <a:tblGrid>
                <a:gridCol w="576000"/>
                <a:gridCol w="64800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6523200" y="3554280"/>
          <a:ext cx="2016000" cy="1981440"/>
        </p:xfrm>
        <a:graphic>
          <a:graphicData uri="http://schemas.openxmlformats.org/drawingml/2006/table">
            <a:tbl>
              <a:tblPr/>
              <a:tblGrid>
                <a:gridCol w="564840"/>
                <a:gridCol w="658800"/>
                <a:gridCol w="7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Text Box 114"/>
          <p:cNvSpPr/>
          <p:nvPr/>
        </p:nvSpPr>
        <p:spPr>
          <a:xfrm>
            <a:off x="-30240" y="57405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иоритет выполнения логических операций: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, &amp;,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3405240" y="1801800"/>
            <a:ext cx="2952720" cy="647640"/>
          </a:xfrm>
          <a:prstGeom prst="rect">
            <a:avLst/>
          </a:prstGeom>
          <a:solidFill>
            <a:srgbClr val="e4831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2" descr=""/>
          <p:cNvPicPr/>
          <p:nvPr/>
        </p:nvPicPr>
        <p:blipFill>
          <a:blip r:embed="rId1"/>
          <a:stretch/>
        </p:blipFill>
        <p:spPr>
          <a:xfrm>
            <a:off x="250920" y="0"/>
            <a:ext cx="6337080" cy="34545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63007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179280" y="236052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ab4"/>
                </a:solidFill>
                <a:latin typeface="Calibri"/>
              </a:rPr>
              <a:t>«Дисциплина - мать победы»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. Су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4094280" y="5059440"/>
            <a:ext cx="50482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Сам погиба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оварища выручай»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. Су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2030400" y="934920"/>
            <a:ext cx="6718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е отчаивайтесь! Сии грозные бури               обратятся к славе России»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Ф. 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2184480" y="68400"/>
            <a:ext cx="6564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ab4"/>
                </a:solidFill>
                <a:latin typeface="Calibri"/>
              </a:rPr>
              <a:t>« Тяжело в учении — легко в бою» 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. Су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6"/>
          <p:cNvSpPr/>
          <p:nvPr/>
        </p:nvSpPr>
        <p:spPr>
          <a:xfrm>
            <a:off x="1550880" y="3714840"/>
            <a:ext cx="71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2c16"/>
                </a:solidFill>
                <a:latin typeface="Calibri"/>
              </a:rPr>
              <a:t>«Только тот народ, который чтит своих героев, может считаться велики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2c16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. Рокосс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http://bms.24open.ru/images/3ad90a4fc24a90615379230ae8893741"/>
          <p:cNvPicPr/>
          <p:nvPr/>
        </p:nvPicPr>
        <p:blipFill>
          <a:blip r:embed="rId1"/>
          <a:stretch/>
        </p:blipFill>
        <p:spPr>
          <a:xfrm>
            <a:off x="6875640" y="2111400"/>
            <a:ext cx="1679400" cy="1631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http://i.ytimg.com/vi/l9P_Jj6nlNM/maxresdefault.jpg"/>
          <p:cNvPicPr/>
          <p:nvPr/>
        </p:nvPicPr>
        <p:blipFill>
          <a:blip r:embed="rId2"/>
          <a:stretch/>
        </p:blipFill>
        <p:spPr>
          <a:xfrm>
            <a:off x="23760" y="4278240"/>
            <a:ext cx="1527120" cy="2579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http://www.rostov.ru/Images/gorod/people/history/ushakoff/H9.jpg"/>
          <p:cNvPicPr/>
          <p:nvPr/>
        </p:nvPicPr>
        <p:blipFill>
          <a:blip r:embed="rId3"/>
          <a:stretch/>
        </p:blipFill>
        <p:spPr>
          <a:xfrm>
            <a:off x="0" y="507960"/>
            <a:ext cx="18255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Заголовок 1"/>
          <p:cNvSpPr/>
          <p:nvPr/>
        </p:nvSpPr>
        <p:spPr>
          <a:xfrm>
            <a:off x="685800" y="1557360"/>
            <a:ext cx="77756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Тема: 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ысказывание. Логические опер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1"/>
          <p:cNvSpPr/>
          <p:nvPr/>
        </p:nvSpPr>
        <p:spPr>
          <a:xfrm>
            <a:off x="1908000" y="144360"/>
            <a:ext cx="468000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250920" y="242100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знакомиться  с понятиями высказывание и логически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. Сформировать навыки работы с логическими опер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550800" y="879480"/>
            <a:ext cx="841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дложение на любом языке, содержание которого можно однозначно определить как истинное или ло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ысказывание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2195640" y="2389320"/>
            <a:ext cx="4824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е обознач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ми  (А,В,С,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5364000" y="4221000"/>
            <a:ext cx="430236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сказы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инно – А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жно –  А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http://s.pfst.net/2012.05/130551312154fcd6d991ac4c46dfa1584b8944e1ddcd_b.jpg"/>
          <p:cNvPicPr/>
          <p:nvPr/>
        </p:nvPicPr>
        <p:blipFill>
          <a:blip r:embed="rId1"/>
          <a:stretch/>
        </p:blipFill>
        <p:spPr>
          <a:xfrm>
            <a:off x="392040" y="3686040"/>
            <a:ext cx="4416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7052"/>
                </a:solidFill>
                <a:latin typeface="Calibri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0664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олилиния 8"/>
          <p:cNvSpPr/>
          <p:nvPr/>
        </p:nvSpPr>
        <p:spPr>
          <a:xfrm>
            <a:off x="1116000" y="140004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олилиния 9"/>
          <p:cNvSpPr/>
          <p:nvPr/>
        </p:nvSpPr>
        <p:spPr>
          <a:xfrm>
            <a:off x="1116000" y="204480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0"/>
          <p:cNvSpPr/>
          <p:nvPr/>
        </p:nvSpPr>
        <p:spPr>
          <a:xfrm>
            <a:off x="1116000" y="32637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confused"/>
          <p:cNvPicPr/>
          <p:nvPr/>
        </p:nvPicPr>
        <p:blipFill>
          <a:blip r:embed="rId1"/>
          <a:stretch/>
        </p:blipFill>
        <p:spPr>
          <a:xfrm>
            <a:off x="6097680" y="1197000"/>
            <a:ext cx="3027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719280" y="8240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1. Конъюн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74560" y="4175280"/>
          <a:ext cx="2928960" cy="2133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703440" y="3200400"/>
            <a:ext cx="36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4395960" y="31194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6" descr=""/>
          <p:cNvPicPr/>
          <p:nvPr/>
        </p:nvPicPr>
        <p:blipFill>
          <a:blip r:embed="rId1"/>
          <a:stretch/>
        </p:blipFill>
        <p:spPr>
          <a:xfrm>
            <a:off x="4898880" y="3551400"/>
            <a:ext cx="3667320" cy="24098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6300720" y="4460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2"/>
          <p:cNvSpPr/>
          <p:nvPr/>
        </p:nvSpPr>
        <p:spPr>
          <a:xfrm>
            <a:off x="1087560" y="825480"/>
            <a:ext cx="644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гическая операция, является истинной тогда и только тогда, когда оба исходных высказывания исти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гическое умноже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&amp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"/>
          <p:cNvSpPr/>
          <p:nvPr/>
        </p:nvSpPr>
        <p:spPr>
          <a:xfrm>
            <a:off x="1946160" y="35164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468360" y="765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Дизъюнкци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30240" y="4143240"/>
          <a:ext cx="324000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7840"/>
                <a:gridCol w="108108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7052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539640" y="3068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4427640" y="28656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3" descr=""/>
          <p:cNvPicPr/>
          <p:nvPr/>
        </p:nvPicPr>
        <p:blipFill>
          <a:blip r:embed="rId1"/>
          <a:stretch/>
        </p:blipFill>
        <p:spPr>
          <a:xfrm>
            <a:off x="4821120" y="3357720"/>
            <a:ext cx="3676680" cy="24285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6"/>
          <p:cNvSpPr/>
          <p:nvPr/>
        </p:nvSpPr>
        <p:spPr>
          <a:xfrm>
            <a:off x="6227640" y="5649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1"/>
          <p:cNvSpPr/>
          <p:nvPr/>
        </p:nvSpPr>
        <p:spPr>
          <a:xfrm>
            <a:off x="1052640" y="841320"/>
            <a:ext cx="675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ая операция, которая является ложной тогда и только тогда, когда оба исходных высказывания ло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логическое сло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я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|,  ИЛИ, +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1"/>
          <p:cNvSpPr/>
          <p:nvPr/>
        </p:nvSpPr>
        <p:spPr>
          <a:xfrm>
            <a:off x="1794240" y="34974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Windows User</cp:lastModifiedBy>
  <dcterms:modified xsi:type="dcterms:W3CDTF">2020-04-04T06:33:02Z</dcterms:modified>
  <cp:revision>215</cp:revision>
  <dc:subject/>
  <dc:title>Презентация PowerPoint</dc:title>
</cp:coreProperties>
</file>