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F64-5381-4955-9574-9267B0AD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8D0-9A70-4025-928F-F97682CA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B21-7DE2-4670-9D4C-B9F72622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C37-BD1B-41F8-A659-6292B611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7B4-1757-431C-AD2C-0459E96C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A21-B9FD-4B13-BF0C-830A9C7D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EC1-035A-4B8F-AAB0-58D2D014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AEB-94A6-4DEA-B27D-57213D64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0D8-EB2B-43D4-A9F2-7F8742E4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94E-25FE-42E4-BDFD-E9A33F10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975-81BD-43A0-BF65-924D5AF4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24E-D34D-49BA-8370-ECAEFA4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87B3-22E4-48C7-8118-275633D7A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"/>
          <p:cNvPicPr/>
          <p:nvPr/>
        </p:nvPicPr>
        <p:blipFill>
          <a:blip r:embed="rId1"/>
          <a:stretch/>
        </p:blipFill>
        <p:spPr>
          <a:xfrm>
            <a:off x="468360" y="-1440"/>
            <a:ext cx="828036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27"/>
          <p:cNvSpPr txBox="1"/>
          <p:nvPr/>
        </p:nvSpPr>
        <p:spPr>
          <a:xfrm>
            <a:off x="611280" y="765000"/>
            <a:ext cx="820584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Зарождение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еволюционног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народничест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и ег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идеолог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Народничество 60-начале 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24000" y="3500280"/>
            <a:ext cx="1584000" cy="36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.А.Ишу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708360" y="836640"/>
            <a:ext cx="52578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ередине 60-х гг. возникла                   организация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.А.Ишутин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И.А.Худяк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ставившая            задачу преобразовать общество на основе коллективной собственности     и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865 г. внутри ее возникла группа «АД». В 1866 г. ее член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Д.В.Каракозов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овершил покушение на царя и организация была разгромлена, а в стране наступила реакция.                             На смену «ишутинцам» пришли «нечаевц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1332000" y="6478560"/>
            <a:ext cx="1944720" cy="36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.В.Карак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8" descr="Рисунок2"/>
          <p:cNvPicPr/>
          <p:nvPr/>
        </p:nvPicPr>
        <p:blipFill>
          <a:blip r:embed="rId1"/>
          <a:stretch/>
        </p:blipFill>
        <p:spPr>
          <a:xfrm>
            <a:off x="250920" y="907920"/>
            <a:ext cx="1738080" cy="25178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80" name="Picture 19" descr="Рисунок1"/>
          <p:cNvPicPr/>
          <p:nvPr/>
        </p:nvPicPr>
        <p:blipFill>
          <a:blip r:embed="rId2"/>
          <a:stretch/>
        </p:blipFill>
        <p:spPr>
          <a:xfrm>
            <a:off x="1476360" y="3933720"/>
            <a:ext cx="1731960" cy="2519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Народничество 60-начале 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564000" y="765000"/>
            <a:ext cx="53276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869 г.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С.Г.Нечаев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оздал тайную организацию «Народная расправа». В «Катехизисе революционера» он утверждал,     что жизнь революционеров подчинена обще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убил соратника И.Иванова усомнившегося в его взглядах. Организация была разгромлена, а С.Г.Нечаев после бегства за границу был выдан в Россию             и даже склонил охрану Петропавловки организовать свой побег, но отказался, чтобы не помешать покушению на ц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42920" y="5589720"/>
            <a:ext cx="1584360" cy="36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.Г.Неч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Older Nechayev.jpg"/>
          <p:cNvPicPr/>
          <p:nvPr/>
        </p:nvPicPr>
        <p:blipFill>
          <a:blip r:embed="rId1"/>
          <a:stretch/>
        </p:blipFill>
        <p:spPr>
          <a:xfrm>
            <a:off x="276120" y="907920"/>
            <a:ext cx="3040200" cy="4681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Народничество 60-начале 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564000" y="765000"/>
            <a:ext cx="5327640" cy="52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противовес «нечаевщине»                 в Петербурге в 1869 г. возник кружок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.В.Чайковског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                   Его участники изучали работы Н.Г.Чернышевского, П.Л.Лаврова, К.Маркса и строили деятельность на основе высокой нравственности.                             Главным делом «чайковцев» была пропаганда среди рабочих. Делались попытки наладить работу и в деревне.                                        В начале 1874 г. полиция арестовала многих «чайковцев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4360" y="4941720"/>
            <a:ext cx="2089080" cy="36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.В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Nikolai Tchaikovsky.jpg"/>
          <p:cNvPicPr/>
          <p:nvPr/>
        </p:nvPicPr>
        <p:blipFill>
          <a:blip r:embed="rId1"/>
          <a:stretch/>
        </p:blipFill>
        <p:spPr>
          <a:xfrm>
            <a:off x="250920" y="907920"/>
            <a:ext cx="3025800" cy="3961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Народничество 60-начале 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492360" y="981000"/>
            <a:ext cx="532764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873 г.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А.В.Долгушин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основал кружок сторонников М.А.Бакунина.                                           Вели революционную пропаганду среди рабочих Петербурга, распространяли написанные Долгушиным прокламации. Весной 1873 г. Долгушинцы перебрались в Москву, летом приступили к революционной пропаганде среди крестьян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.В.Долгушин был арестован и приговорен             к 10 годам каторги, в 1881 г. дополнительно к 15 годам.                Умер в заточении                                  в Шлиссельбургской креп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26920" y="4869000"/>
            <a:ext cx="1872000" cy="36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.В.Долгу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070770"/>
          <p:cNvPicPr/>
          <p:nvPr/>
        </p:nvPicPr>
        <p:blipFill>
          <a:blip r:embed="rId1"/>
          <a:stretch/>
        </p:blipFill>
        <p:spPr>
          <a:xfrm>
            <a:off x="324000" y="1125360"/>
            <a:ext cx="2790720" cy="3600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3" name="Text Box 7"/>
          <p:cNvSpPr/>
          <p:nvPr/>
        </p:nvSpPr>
        <p:spPr>
          <a:xfrm>
            <a:off x="324000" y="4724280"/>
            <a:ext cx="8351640" cy="1617480"/>
          </a:xfrm>
          <a:prstGeom prst="rect">
            <a:avLst/>
          </a:prstGeom>
          <a:solidFill>
            <a:srgbClr val="d9ffd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Деятельность «долгушевцев» -                  одна из первых попыток                       </a:t>
            </a:r>
            <a:r>
              <a:rPr b="1" i="1" lang="ru-RU" sz="3600" spc="-1" strike="noStrike" u="sng">
                <a:solidFill>
                  <a:srgbClr val="ff3300"/>
                </a:solidFill>
                <a:uFillTx/>
                <a:latin typeface="Arial"/>
              </a:rPr>
              <a:t>«хождения в народ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4000" y="692280"/>
            <a:ext cx="8642160" cy="17398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Изучить параграф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Ответить на вопросы на стр.180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Bakunin"/>
          <p:cNvPicPr/>
          <p:nvPr/>
        </p:nvPicPr>
        <p:blipFill>
          <a:blip r:embed="rId1"/>
          <a:stretch/>
        </p:blipFill>
        <p:spPr>
          <a:xfrm>
            <a:off x="250920" y="2565360"/>
            <a:ext cx="2940120" cy="39211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99" name="Picture 21" descr="209569132"/>
          <p:cNvPicPr/>
          <p:nvPr/>
        </p:nvPicPr>
        <p:blipFill>
          <a:blip r:embed="rId2"/>
          <a:stretch/>
        </p:blipFill>
        <p:spPr>
          <a:xfrm>
            <a:off x="6084720" y="2565360"/>
            <a:ext cx="2818080" cy="3922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00" name="Picture 22" descr="fzvjtj"/>
          <p:cNvPicPr/>
          <p:nvPr/>
        </p:nvPicPr>
        <p:blipFill>
          <a:blip r:embed="rId3"/>
          <a:stretch/>
        </p:blipFill>
        <p:spPr>
          <a:xfrm>
            <a:off x="3203640" y="2565360"/>
            <a:ext cx="2817720" cy="3922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лан 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424720" cy="2664000"/>
          </a:xfrm>
          <a:prstGeom prst="rect">
            <a:avLst/>
          </a:prstGeom>
          <a:noFill/>
          <a:ln w="2232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ичины революционного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Поиски ориенти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Идеология народ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Народничество 60-начала 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4" descr="gercen"/>
          <p:cNvPicPr/>
          <p:nvPr/>
        </p:nvPicPr>
        <p:blipFill>
          <a:blip r:embed="rId1"/>
          <a:stretch/>
        </p:blipFill>
        <p:spPr>
          <a:xfrm>
            <a:off x="2050920" y="3454560"/>
            <a:ext cx="4537080" cy="3403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46" name="Text Box 25"/>
          <p:cNvSpPr/>
          <p:nvPr/>
        </p:nvSpPr>
        <p:spPr>
          <a:xfrm>
            <a:off x="6659640" y="5589720"/>
            <a:ext cx="2087640" cy="6426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.И.Герцен и Н.П.Огар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ричины революционного движения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50920" y="3789360"/>
            <a:ext cx="85708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Причины революционного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сохранение помещичьего землевладения,  временно-обязанное состояние крестья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медлительность властей в проведении рефор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активизация радикально настроенной интеллигенции, считавшей, что народ встретил реформу враждеб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33000" y="1341360"/>
            <a:ext cx="2859840" cy="91692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рестьянск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олнени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в с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ездн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в апреле 186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бездна"/>
          <p:cNvPicPr/>
          <p:nvPr/>
        </p:nvPicPr>
        <p:blipFill>
          <a:blip r:embed="rId1"/>
          <a:stretch/>
        </p:blipFill>
        <p:spPr>
          <a:xfrm>
            <a:off x="3276720" y="620640"/>
            <a:ext cx="5613120" cy="3141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Поиски ориентиров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203640" y="836640"/>
            <a:ext cx="576108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ним из признанных лидеров революционного движения был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.Г.Чернышевский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 редактор «Современника».                                      За призывы к созданию в стране революционной организации                 в 1862 г. он был арестован,                  в тюрьме он написал роман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Что дел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а книга стала «библией» для русских революционеров. Чернышевский был приговорен  к каторге и поселению в Сиби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352057"/>
          <p:cNvPicPr/>
          <p:nvPr/>
        </p:nvPicPr>
        <p:blipFill>
          <a:blip r:embed="rId1"/>
          <a:stretch/>
        </p:blipFill>
        <p:spPr>
          <a:xfrm>
            <a:off x="179280" y="981000"/>
            <a:ext cx="3260880" cy="4032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4" name="Text Box 14"/>
          <p:cNvSpPr/>
          <p:nvPr/>
        </p:nvSpPr>
        <p:spPr>
          <a:xfrm>
            <a:off x="684360" y="5084640"/>
            <a:ext cx="2447640" cy="36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.Г.Черныш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Поиски ориенти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26920" y="5589720"/>
            <a:ext cx="2448000" cy="6426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.Г.Чернышевский в тюрь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419640" y="907920"/>
            <a:ext cx="550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861 г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толице возникла тайная организация         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Земля и воля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                             состоявшая из разночинцев (выходцев из разных слоев общества). Землевольцы требовали установления в стране республики, введения местного самоуправления, передачи земли крестьянам, объединения жителей города    и деревни в общ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864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. «Земля и Воля»                приняла решение о самороспу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Cher5Petropavl"/>
          <p:cNvPicPr/>
          <p:nvPr/>
        </p:nvPicPr>
        <p:blipFill>
          <a:blip r:embed="rId1"/>
          <a:stretch/>
        </p:blipFill>
        <p:spPr>
          <a:xfrm>
            <a:off x="179280" y="907920"/>
            <a:ext cx="3490920" cy="4608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Идеология народ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708360" y="765000"/>
            <a:ext cx="525636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основе идей общинного социализма А.И.Герцена и Н.Г.Чернышевского возникла идеология народничества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родники хотели поднять крестьян на революцию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бы миновать стадию капитализма и перейти                         к социал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х взгляды были представлены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тремя течениям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 главе «бунтарского» направления стоял знаменитый русский революционер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М.А.Баку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136"/>
          <p:cNvPicPr/>
          <p:nvPr/>
        </p:nvPicPr>
        <p:blipFill>
          <a:blip r:embed="rId1"/>
          <a:stretch/>
        </p:blipFill>
        <p:spPr>
          <a:xfrm>
            <a:off x="250920" y="907920"/>
            <a:ext cx="3408120" cy="4897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2" name="Text Box 13"/>
          <p:cNvSpPr/>
          <p:nvPr/>
        </p:nvSpPr>
        <p:spPr>
          <a:xfrm>
            <a:off x="900000" y="5877000"/>
            <a:ext cx="2159280" cy="36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.А.Бак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Идеология народ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564000" y="765000"/>
            <a:ext cx="540216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.А.Бакунин считал крестьянство главной революционной силой, разбудить которую должна «умственная интеллигенция».                             Он призывал молодежь бросить учебу и разрушить существующий поря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лавным злом он считал не частную собственность,                 а государство.                 М.А.Бакунин - основоположник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анархизма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Вместо государства он предлагал создать федеративную свободную организ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Bakunin"/>
          <p:cNvPicPr/>
          <p:nvPr/>
        </p:nvPicPr>
        <p:blipFill>
          <a:blip r:embed="rId1"/>
          <a:stretch/>
        </p:blipFill>
        <p:spPr>
          <a:xfrm>
            <a:off x="250920" y="907920"/>
            <a:ext cx="3187440" cy="4249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6" name="Text Box 21"/>
          <p:cNvSpPr/>
          <p:nvPr/>
        </p:nvSpPr>
        <p:spPr>
          <a:xfrm>
            <a:off x="755640" y="5229360"/>
            <a:ext cx="2158920" cy="36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.А.Бак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Идеология народ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6093000"/>
            <a:ext cx="2159280" cy="36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.Л.Лав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924360" y="836640"/>
            <a:ext cx="50418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.Л.Лавров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ступал                          за 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ропаганду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волюционных и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 был против стихийного бунта и считал, что революцию нужно тщательно гото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должны делать                 «критически мыслящие         личности», обладающие научной подготовкой.                 Они должны пойти в народ  и разъяснить ему его потребности и с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fzvjtj"/>
          <p:cNvPicPr/>
          <p:nvPr/>
        </p:nvPicPr>
        <p:blipFill>
          <a:blip r:embed="rId1"/>
          <a:stretch/>
        </p:blipFill>
        <p:spPr>
          <a:xfrm>
            <a:off x="324000" y="981000"/>
            <a:ext cx="3619440" cy="5040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Идеология народ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140360" y="907920"/>
            <a:ext cx="460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 главе 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заговорщического направлен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оял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.Н.Ткачев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                                    Он считал, что крестьянство не способно совершить революцию. Это может сделать небольшая       тайная орган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сударство не имеет опоры в обществе, поэтому его легко можно разрушить и создать новые революционные формы само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1187280" y="5734080"/>
            <a:ext cx="1513080" cy="36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.Н.Тка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209569132"/>
          <p:cNvPicPr/>
          <p:nvPr/>
        </p:nvPicPr>
        <p:blipFill>
          <a:blip r:embed="rId1"/>
          <a:stretch/>
        </p:blipFill>
        <p:spPr>
          <a:xfrm>
            <a:off x="250920" y="907920"/>
            <a:ext cx="3467160" cy="4826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7:16:39Z</dcterms:created>
  <dc:creator>Нафор Маточ</dc:creator>
  <dc:description/>
  <dc:language>en-US</dc:language>
  <cp:lastModifiedBy>Администратор</cp:lastModifiedBy>
  <dcterms:modified xsi:type="dcterms:W3CDTF">2020-04-04T18:56:32Z</dcterms:modified>
  <cp:revision>270</cp:revision>
  <dc:subject/>
  <dc:title>Зарождение революционного народничества</dc:title>
</cp:coreProperties>
</file>