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0BE-C1DC-4374-BB1F-8DA8BA68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B2C-8EBC-4ACB-8ECA-856AE0F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01E29-569D-45A4-A37C-C9925D6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C46F8-4643-4478-A6CE-AB09618C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71E76-C930-4CD3-930C-C866BE2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F9C65-37F3-4CE5-BA95-D87C833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169E0-96CD-476D-9F71-07758EC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06D12-980C-42FB-819B-1C7319F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B13A2-DEFA-4452-973B-7BCBE0D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178F-01B7-4741-BCD1-3E0F9CFF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C4381-28A5-4830-8DF9-503E9AAD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3AF20-A7A5-4E09-9543-8885506C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7B0-9130-46D9-8F45-4511E138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AB990-D150-423E-8B98-7E5FB64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96B7A-A4C9-4587-88DB-51504FE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4EB03-08D9-4598-9224-5BC5AFE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17411-ABC5-48C4-AE4A-D79483D2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9A0B3-60E3-437B-81D7-8B3FCCA5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57366-CA6A-4B57-A9E7-B3AFDAE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95E35-28E2-4614-BDB6-C6BEE4EC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5C743-0F07-4053-A73B-63424B8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B5F18-7099-48F9-8976-9251838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DCAC4-9053-4B17-891C-613526D3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4AB-8668-4CE3-AD3D-5871A0E7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C5779-72F6-4603-AD68-31A36854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2935-EF06-49B7-949F-11A9BC58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411-EFAD-411A-B1E6-230D6755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947F-FFEB-419E-A076-C1492C80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D80-F7A9-409C-81EA-6939D2E1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0F0-BC79-4BC2-84C0-2874ACC4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045-E2A4-490E-998A-1EE04D03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9C93-AC9D-449F-A19B-59C47B6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549-2E4B-4413-BDF8-68D64A6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0555-DFC3-4B82-B634-EFCB0D2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405-8183-4171-A4CD-52B1EAB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B5C-353C-4F42-A00E-B0F3589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70A-585C-4301-8499-1D6B196E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0D08-C4B6-4226-9B2C-B08C936C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E94B-A4B8-4A21-87C5-E3DF4AFD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B586-A61E-4B07-A052-5C696940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F0E4-8A49-4B0D-99A1-D020F27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CB89-AB60-4560-8B3E-81B4056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9031-5366-49D5-904A-CFDE109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C0E-AF5D-4FD5-BD04-2A629B51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9EC2-097A-49E6-AEE2-5CB5E843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5C89-63FC-400F-BE9B-8C20613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890F2-7446-4DAC-9AC6-B3187DF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17FB-C40A-46C0-859A-6348BCD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53D5-A586-4606-8D28-0F30D1E6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A697-D258-47EC-85FF-7BA10E68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BFA7-3183-45EC-82BB-7E55625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17B1-6FAC-4A96-8D33-7973EF20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938E-3124-4073-9E14-E6881F5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2757-999F-4332-9DBF-2FB6497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2DB-F4FF-422D-B943-0BD8C43C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A1BF-7BB0-4F43-9FDB-49AE296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F52B-83A3-4536-8BEF-DDC9F57F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5B00-0FE9-4668-91CC-32BF968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CFEB-B506-4D44-98DA-B9F3F8F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D2BD-4CE2-41C2-B35D-594AB5C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D54B-9D33-4561-83A7-288FF36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C997-054C-498E-909C-6CAD8A7F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89E0-FA89-4549-92D5-63964215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D3A9-F0B1-4263-9E90-7E6E7046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01A3-E1E9-4087-A50B-0359ECE3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DB0-AF30-4E52-87AB-F544D021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DB46-5775-4DCA-BA58-2E1622B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D9C1E-2EB6-47AA-B308-DF240629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A7E5-C3D1-4973-8CC3-1817ADC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90F9-48AF-437B-9E44-DADDECA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2551-1A9C-4460-90EB-64E92D59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BC24-09D7-454E-B1B6-DB265A7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87AC-B374-41BF-96EE-96FCECB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E21E-9DD3-449B-9C91-B6788F73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0A0D-34C2-4221-A53D-6D921E4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A7C3-F420-46B3-9B03-14CE9CB4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5EF-BA49-4496-AA8F-9F0ADADD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C0AC-CD44-495A-A3D4-D0EFE2AA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395D-0CAC-47B2-8651-0AE5843F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A9C6-B40B-4407-A616-0826AC4B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A196-81BD-410A-A5F9-14FDEFF3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AB7B-139F-4FDB-9FDE-5B623F1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FB38-25ED-4513-96AE-D919A32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51DF-87C2-46BE-BA50-95657ED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DA13-1FC3-46F5-BC7F-D8364E2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6C37-25A9-44A2-B4A3-62E53DB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6F96-F713-4D04-985E-6AC02C9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2B6-7D4F-41AF-9ADC-93E41FB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59BF8-0CD9-4212-8AF1-7EB2A08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40D3-DB9A-4B2C-BF88-00D639F0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49FB2-50BC-4677-9824-9209CA18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88B1-5BE6-45EA-A258-4815316F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3260-A413-4D74-87ED-383B74F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0604-C018-4BA3-A7FE-8F3AB55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6CD9-3AF1-4784-8288-9C7C7910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6511-78A4-4C12-BBD0-B65970C7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F8E1-4301-41BB-A291-A5DA351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DBA5-6807-4298-ABF4-8E55820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42D-8ACE-4035-9540-B42558A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C6B6-5F24-4F76-A34E-F15A3D4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25C5-F764-4C6F-87D2-F7A7361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E3D8B-0B85-4818-AF97-92FAB0C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ACC2-9EB5-4538-9ACD-34E7B6BF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8499-E89B-459F-B9DF-5C40F0DC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3ECD-5440-47EA-AEF3-6EA99FBA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6B6A4-F63D-4DE4-8DD3-2B9522AE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10BA-B45A-443A-A400-768578EC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1EA3-AD1B-4F5D-B225-63A4F4F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82850-794A-4AD0-88A6-040B737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FCD-F2D4-4744-A799-55212F6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7940-B35B-49E4-AF7B-775D6DFC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3F50-9EFC-4A4D-BF91-5ED4E4D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C84EF-7434-4999-8621-0053F66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32EE-79C0-42BE-B779-030F2BF5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0ED0E-C46D-4639-9013-C479AB7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A6E7-5A42-4D26-AE69-1ABD9B0B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1DE4-F9CB-4761-A203-2257E9B8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79387-8C80-43F3-AFC9-2C34C5D0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39ED2-D95B-4725-9741-3603979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13FEF-FB93-40ED-ADFD-8F7B5D8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57E-7C4B-4112-8E49-F9D97F1A80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12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D70-E3EF-4D6C-A676-92E260B5F5C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B15-9E8E-45FA-9818-46BC16BA3D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34C-DA5D-432B-B4B1-A48571979B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012-0BDC-4C65-A921-CE252B830E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148D-AEE1-4A26-96A0-734B30AE1A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87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E8D-0D16-4B9F-942B-F3B0E4910D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9A26-2713-48BB-BCC9-F7EBCBA1370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1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FBA-D77C-41C4-B4CE-F9DDC24339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A89-9838-475A-AE82-A90C20926E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560" y="1295280"/>
            <a:ext cx="811836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8b0000"/>
                </a:solidFill>
                <a:latin typeface="Arial Black"/>
              </a:rPr>
              <a:t>Истоки возникновения международного гуманитарного пра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Arial Black"/>
              </a:rPr>
              <a:t>Благотворительное общество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В те времена в Женеве существовало благотворительное общество, президентом которого был адвокат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устав Муанье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. 'Книга 'Воспоминание о Сольферино' потрясла меня' - писал он. Будучи человеком действия, Муанье предложил Дюнану переговорить об этой книге с другими членами Обществ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В ходе встречи была создана комиссия из пяти членов. Помимо самого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Анри Дюнана и Густава Муанье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её состав вошли генерал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Гийом-Анри Дюфур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и доктора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Луи Аппия и Теодор Монуар 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- все швейцарские граждане. 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Женева 1863 год"/>
          <p:cNvPicPr/>
          <p:nvPr/>
        </p:nvPicPr>
        <p:blipFill>
          <a:blip r:embed="rId1"/>
          <a:stretch/>
        </p:blipFill>
        <p:spPr>
          <a:xfrm>
            <a:off x="4032360" y="1676520"/>
            <a:ext cx="496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Создание Международного комитета помощи ранены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первые комиссия собр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17 февраля 186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и назвала себя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'Международным комитетом помощи раненым'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следующие месяцы эти пять членов Комитета вели напряженную деятельность, в результате которой в октябре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1863 года в Женев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стоялась международная конференция. В ней приняли участие представители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шестнадцати государст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 этому случаю был выбран отличительный знак - 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красный кре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белом фо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cross_200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Международное гуманитарное право (МГП)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835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 (МГП) – свод норм, направленных на ограничение последствий вооруженного конфликта. МГП предоставляет защиту лицам, которые не принимают или прекратили принимать участие в военных действиях, а также ограничивает методы и средства ведения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835"/>
              </a:lnSpc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 также известно как право войны или право вооруженных конфли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Жан Симон Пикте ( 1914 - 2002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гуманитарное пра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предложил в 50-х гг. ХХ  века известный швейцарский юрист , многолетний член руководства Международного Комитета Красного Креста  Жан Пи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Содержимое 4" descr="Пикте.jpg"/>
          <p:cNvPicPr/>
          <p:nvPr/>
        </p:nvPicPr>
        <p:blipFill>
          <a:blip r:embed="rId1"/>
          <a:stretch/>
        </p:blipFill>
        <p:spPr>
          <a:xfrm>
            <a:off x="5181480" y="16765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еневские конвен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тыре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еневские конвенции 1949 года и два Дополнительных протокол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к ним 1977 года являются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лавными юридическими документа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ждународного гуманитарного прав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5" name="Picture 7" descr="Эмблема"/>
          <p:cNvPicPr/>
          <p:nvPr/>
        </p:nvPicPr>
        <p:blipFill>
          <a:blip r:embed="rId1"/>
          <a:stretch/>
        </p:blipFill>
        <p:spPr>
          <a:xfrm>
            <a:off x="1627200" y="312912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улучшении участи раненых и больных в действующих армия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8" name="Picture 4" descr="Госпиталь в Цхинвале"/>
          <p:cNvPicPr/>
          <p:nvPr/>
        </p:nvPicPr>
        <p:blipFill>
          <a:blip r:embed="rId1"/>
          <a:stretch/>
        </p:blipFill>
        <p:spPr>
          <a:xfrm>
            <a:off x="1752480" y="3429000"/>
            <a:ext cx="5791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улучшении участи раненых, больных и лиц, потерпевших кораблекрушение, из состава вооружённых сил на мор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 обращении с военнопленным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4" descr="Женева1977"/>
          <p:cNvPicPr/>
          <p:nvPr/>
        </p:nvPicPr>
        <p:blipFill>
          <a:blip r:embed="rId1"/>
          <a:stretch/>
        </p:blipFill>
        <p:spPr>
          <a:xfrm>
            <a:off x="1219320" y="2895480"/>
            <a:ext cx="69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НВЕНЦИЯ IV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 защите гражданского населения во время войн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4" descr="Цхинвал"/>
          <p:cNvPicPr/>
          <p:nvPr/>
        </p:nvPicPr>
        <p:blipFill>
          <a:blip r:embed="rId1"/>
          <a:stretch/>
        </p:blipFill>
        <p:spPr>
          <a:xfrm>
            <a:off x="1981080" y="33526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Дополнительный Протокол I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иливает защиту жертв международных вооруженных конфлик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5" descr="IL-E-00168s"/>
          <p:cNvPicPr/>
          <p:nvPr/>
        </p:nvPicPr>
        <p:blipFill>
          <a:blip r:embed="rId1"/>
          <a:stretch/>
        </p:blipFill>
        <p:spPr>
          <a:xfrm>
            <a:off x="2362320" y="37339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«Теперь, когда мы умеем летать по небу, как птицы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плавать по воде, как рыбы, нам осталось одно -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b0000"/>
                </a:solidFill>
                <a:latin typeface="Verdana"/>
              </a:rPr>
              <a:t>научиться жить на Земле, как люди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Verdana"/>
              </a:rPr>
              <a:t>Б. Шо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1" name="Picture 6" descr="Г М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полнительный Протокол I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иливает защиту жертв немеждународных вооружённых конфлик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5" descr="Беженцы из осетии"/>
          <p:cNvPicPr/>
          <p:nvPr/>
        </p:nvPicPr>
        <p:blipFill>
          <a:blip r:embed="rId1"/>
          <a:stretch/>
        </p:blipFill>
        <p:spPr>
          <a:xfrm>
            <a:off x="2209680" y="3733920"/>
            <a:ext cx="5058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ругие юридические документы гуманитарного характер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невский протокол 1925 года о запрещении применения газ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венция ООН 1980 года об обычном оруж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тавская конвенция о запрещении противопехотных 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сия является участником Женевских конвенций  с 1954 года, и Дополнительных протоколов с 1990 года.</a:t>
            </a:r>
            <a:br>
              <a:rPr sz="20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6" name="Picture 4" descr="Эмблема"/>
          <p:cNvPicPr/>
          <p:nvPr/>
        </p:nvPicPr>
        <p:blipFill>
          <a:blip r:embed="rId1"/>
          <a:stretch/>
        </p:blipFill>
        <p:spPr>
          <a:xfrm>
            <a:off x="2209680" y="2333520"/>
            <a:ext cx="53341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5780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одписав Конвенции, правительства стран взяли на себя обязательств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беспечить равный уход за раненым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как дружеской, так и вражеской сто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уважать личность челове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его физическую неприкосновенность, честь, достоинство, семейные права, религиозные и моральные убежде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претить пытки и жестокое обращени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казни без суда и следствия, депортацию, взятие заложников, грабежи и разрушения гражданских объект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разреш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едставителям Международного Комитета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Красного Креста (МККК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осещать лагеря военнопленных и интернированных гражданских лиц и разговаривать с заключёнными свободно и без свиде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Больные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В зонах"/>
          <p:cNvPicPr/>
          <p:nvPr/>
        </p:nvPicPr>
        <p:blipFill>
          <a:blip r:embed="rId2"/>
          <a:stretch/>
        </p:blipFill>
        <p:spPr>
          <a:xfrm>
            <a:off x="4724280" y="189000"/>
            <a:ext cx="3733920" cy="3087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Дома ребёнка"/>
          <p:cNvPicPr/>
          <p:nvPr/>
        </p:nvPicPr>
        <p:blipFill>
          <a:blip r:embed="rId3"/>
          <a:stretch/>
        </p:blipFill>
        <p:spPr>
          <a:xfrm>
            <a:off x="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Без родителей"/>
          <p:cNvPicPr/>
          <p:nvPr/>
        </p:nvPicPr>
        <p:blipFill>
          <a:blip r:embed="rId4"/>
          <a:stretch/>
        </p:blipFill>
        <p:spPr>
          <a:xfrm>
            <a:off x="48769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Брошеные дети"/>
          <p:cNvPicPr/>
          <p:nvPr/>
        </p:nvPicPr>
        <p:blipFill>
          <a:blip r:embed="rId5"/>
          <a:stretch/>
        </p:blipFill>
        <p:spPr>
          <a:xfrm>
            <a:off x="2666880" y="4572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Бездомные"/>
          <p:cNvPicPr/>
          <p:nvPr/>
        </p:nvPicPr>
        <p:blipFill>
          <a:blip r:embed="rId6"/>
          <a:stretch/>
        </p:blipFill>
        <p:spPr>
          <a:xfrm>
            <a:off x="22096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Нарушение норм Международного гуманитарного пра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чь с 7 на 8 августа 2008 года вооружённые силы Грузии совершили нападение на Южную Осетию. Город Цхинвали и сёла, в которых оставались мирные жители, обстреляли грузински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имели место многочисленные жертвы среди населения Южной Осетии. В настоящее время невозможно назвать точное число погибших. До сих пор некоторые официальные структуры говорят о тысячах убитых, однако по-прежнему невозможно найти источник, на котором основаны эти утвер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5" descr="Бой в Южной Осетии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Обстрел Цхинвала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2857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грузинская техника"/>
          <p:cNvPicPr/>
          <p:nvPr/>
        </p:nvPicPr>
        <p:blipFill>
          <a:blip r:embed="rId3"/>
          <a:stretch/>
        </p:blipFill>
        <p:spPr>
          <a:xfrm>
            <a:off x="6553080" y="2895480"/>
            <a:ext cx="2590920" cy="1886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Госпиталь в цхинвале 1"/>
          <p:cNvPicPr/>
          <p:nvPr/>
        </p:nvPicPr>
        <p:blipFill>
          <a:blip r:embed="rId4"/>
          <a:stretch/>
        </p:blipFill>
        <p:spPr>
          <a:xfrm>
            <a:off x="0" y="3581280"/>
            <a:ext cx="4800600" cy="327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Цхинвал1"/>
          <p:cNvPicPr/>
          <p:nvPr/>
        </p:nvPicPr>
        <p:blipFill>
          <a:blip r:embed="rId5"/>
          <a:stretch/>
        </p:blipFill>
        <p:spPr>
          <a:xfrm>
            <a:off x="4876920" y="4495680"/>
            <a:ext cx="4267080" cy="2362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Осетинцы и россияне"/>
          <p:cNvPicPr/>
          <p:nvPr/>
        </p:nvPicPr>
        <p:blipFill>
          <a:blip r:embed="rId6"/>
          <a:stretch/>
        </p:blipFill>
        <p:spPr>
          <a:xfrm>
            <a:off x="2590920" y="2000160"/>
            <a:ext cx="396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За что всё э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914400" y="175248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учение МГП в наше время стоит очень остро. Нестабильность политической ситуации в мире, назревающие и назревшие военные конфликты приводят к пониманию необходимости более глубокого изучения МГП.МГП является, своего рода, документом, который регламентирует основные правила ведения войны, что является актуальным в наш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Актуальность те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Целью является исследование международно-правового и национально-правового механизмов имплементации норм международного гуманитарного прав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 Black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пределение понятия, сущности, особенности, место и роли МГП в системе международного пра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Исследование генезиса развития МГП как самостоятельной отрасли международного пра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Из истории создания МГП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оследние пять веков по Земле пронеслось около 15 тысяч войн, которые унесли почти 4 миллиарда жизней - это соответствует 2/3 нынешнего населения Земли. Смерть и разрушения всегда были и остаются спутниками войны. Печальная история Карфагена, стертого с лица земли, на протяжении веков неоднократно повторялас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ое международное гуманитарное право сформировалось в основном в середине 20 века и в концентрированном виде отражено в уставе Организаций Объединенных Наций, который открыл новую эпоху в правовом регулировании международных отношений и нормативно закрепил важнейшие принципы международного пра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4" descr="Эмблема2"/>
          <p:cNvPicPr/>
          <p:nvPr/>
        </p:nvPicPr>
        <p:blipFill>
          <a:blip r:embed="rId1"/>
          <a:stretch/>
        </p:blipFill>
        <p:spPr>
          <a:xfrm>
            <a:off x="4876920" y="16002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История возникновения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началось 24 июня 1859 года 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ольферино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лении в северной Италии, где французские и итальянские войска сражались с оккупировавшими тогда страну австрийцами. В этой ожесточенной битве за несколько часов пало 40000 жертв - убитых и ране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тарные службы воюющих сторон были явно бессильны помочь в сложившейся ситуации. Вид тяжелых страданий раненых привел в ужас приехавшего в те места по делам швейцарца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нри Дюн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ратившись с призывом к жителям соседних сел, он принялся оказывать помощь всем раненым воинам независимо от национальност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picto_about"/>
          <p:cNvPicPr/>
          <p:nvPr/>
        </p:nvPicPr>
        <p:blipFill>
          <a:blip r:embed="rId1"/>
          <a:stretch/>
        </p:blipFill>
        <p:spPr>
          <a:xfrm>
            <a:off x="6172200" y="0"/>
            <a:ext cx="2819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Анри Дюнан (1828-1910)</a:t>
            </a:r>
            <a:br>
              <a:rPr sz="44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0520" y="9907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айший гуманист и «идеолог» Всемирного Движени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асного Крес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Автор «Воспоминания о битве при Сольферин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 мая в день рождения Анри Дюнана, отмечается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еждународный день Красного Креста и красного Полумеся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кая заслуга Анри Дюнана состоит в том, что он не ограничился отдельными и спонтанными гуманитарными жестами своих предшественников, а выдвинул в своей книге новые, конкретные предложения и широко распространил их: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'Нельзя ли создать во всех европейских странах общества по оказанию помощи, которые в военное время, действуя на добровольных началах, обеспечивали бы уход за ранеными, независимо от национальности?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Анри Дюнан"/>
          <p:cNvPicPr/>
          <p:nvPr/>
        </p:nvPicPr>
        <p:blipFill>
          <a:blip r:embed="rId1"/>
          <a:stretch/>
        </p:blipFill>
        <p:spPr>
          <a:xfrm>
            <a:off x="5029200" y="1295280"/>
            <a:ext cx="3809880" cy="48769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Создание книг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увшись в Швейцарию, Анри Дюнан не мог стереть из памяти эту ужасающую картину. Он взялся за перо,  чтобы рассказать миру об этой, так много раз повторявшейся,  драме войны. В 1862 году была закончена его книг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'Воспоминание о Сольферино'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нига сильно взволновала Европу, так как многим была неизвестна жестокая реальность полей бит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Битва при Солдьферино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989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6T11:17:4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