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004-DBA4-4B88-86FC-33E79957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C72-2A4F-4635-99D5-2C810338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AB8E7-9E06-42F1-9D9B-46B6821C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67668-36ED-4035-8F9D-3FAE7E7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D312-F0DF-4BE0-B968-A5087F2B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31932-C7C7-4FF4-82CC-D3975A5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755F0-5A16-47E4-ADD6-4BED45F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92C2-F2E8-4B5F-9A85-93EF2CE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63DF4-E0EE-487C-84C4-5DF06D76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7364C-E1B4-4D67-AB3A-44E23322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BDF5C-140F-4877-BAAA-814AD81D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077A8-F505-448E-AD22-60906C73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4D1-81E4-4890-B550-07C8A562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40181-7919-4E75-9B27-F568B93F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C5DDF-CB0D-4FC3-86C2-7450527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1AD2D-76A8-44BA-91BC-7F2AFA7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63ED5-92BB-4DB9-A614-12393E39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5769-30F5-4548-841B-6BCB10D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DE17-AFC0-433C-93F1-404826A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DBF28-BFE2-418B-A614-758F842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EC270-90CF-4354-B188-0B1F9D5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65BE0-1F36-493A-B9A7-105F3858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95854-E4F1-4D58-9EE2-60AC2F1C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2FD-DDE1-4C0D-81D1-A9790CBE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3036B-1CC5-4389-8EF1-23ED5539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F65-2E1C-4637-84D8-3EC2EBEE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CCD9-9912-40DE-ADF9-B0B10E0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DD9F-E9B0-4378-B8C8-0D447993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B20D-6A0D-426F-9BD5-A55E8A3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470B-613C-4757-83CE-C1A0376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9B37-EE89-4163-AA40-46A5A7EB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75BF-25B3-434E-A40E-6F51271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BD8-2919-458C-A128-96C2B7A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7F2C-5F16-4AC4-866B-3377949F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B046-CDE1-4850-A45B-4C8ED9F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162-CEE6-4E1F-B189-E6481A8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462-9445-4329-9EEE-5A76FE0A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7631-282B-4885-86EE-CE73F2B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B6DA-3A38-4249-9487-E1B27C9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0B20-9445-4D21-85CE-F59A4C7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4DD2-0D2D-4E0E-87C2-34558F4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E99A-ABB9-41CC-AD36-3FC6CD96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0D79-CBC5-482C-85BB-D2B9897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38E-AA9C-4EF6-A606-3FD27A97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B2C2-ED6A-47A4-B3ED-58C461D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ADA0-1FEE-41E3-9614-C05B33D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828D-ABF2-42B8-ACFB-D7C3D31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07E1-7C7F-4466-9FF0-18B6276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9D43-E403-4BFF-A04A-12D1048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F53F-2A2F-43D0-ABA9-DE813D74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92A8-6BC8-47EB-8910-06079AE5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6B6E-EFC6-41DC-8B08-04585124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1EF7-5BDA-486B-9164-213F1379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222F-666B-433F-9455-37D3A3D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7C3-3942-4822-B647-D12C777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B7AE4-946E-4D73-B82C-45120F3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FFFF-608D-4BD5-B9CF-5695913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7468-E628-40CE-B803-42A65F0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C498-472B-4647-AADF-CE7B2B7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2DA0-003E-481B-967C-48FC131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10D8-F885-4274-A6EA-26363C3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2B32-1650-4473-A4DE-66E6B124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82A5-28B8-43DF-A15F-AFD758D6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BC30-779D-4EC0-9164-B3EAFE59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0689-5F96-42FA-9550-3A7C126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CD1-A32C-4568-BF78-0C19482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0158-46AF-4FDC-9E27-372FC9A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B9FC-6725-4295-B962-F6A294C1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1F55-896C-4044-BF46-FF06624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79DA-0996-4B0B-94B8-9689D82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FD18-DF8A-4332-8CD3-3DAF155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CEDA-B998-45B0-BEB8-8A2DF8B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5686-1733-4339-9CE9-E7CC262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C711-86A1-42D7-A048-FA27420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AEDB-AC1C-42B9-9F30-B47F66C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BC2B3-0AEA-4344-933F-8F2A6799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7BC-CC1A-4993-91B2-0951375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64E3-03D3-4A1E-8526-7ED039B7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BBF2-044F-43D0-8AE5-7E98903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A7AC-278C-4FAC-89CF-254F43C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F206-EB0F-4D3B-875B-B56270E7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0F4F-07C7-4506-9F8F-E995FD2E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E552-3758-4EF3-9C86-6B4F3307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401F-129D-4930-B815-5070EC0B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6972-E9C0-497E-BD03-BAFDAFB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B3D3-92E8-4839-8607-246A9E9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FB18-4CFE-4A83-B970-992BA36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BF3-9B53-4A06-AD54-AB18584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E598-4271-4612-94B7-B9A1FE7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D8F3-D4FE-43CC-8CE1-D3D2506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0E0E-8F40-4CCB-8F8F-C39EBC7D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EDE5-DDBC-4BD8-A116-6B41960E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855C-0C9A-4590-936E-FCB13EC3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88687-1F3B-42D7-92C7-EC9FC90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1AEC-37DA-4696-B61E-96DC1B1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F963-61A8-4B39-B4D2-873DF21D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B8CC-6CF4-43D4-B2BF-EB7D388E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5E5F2-55EB-4A90-9001-019C640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791-C88C-45AA-9252-4399BCD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84FE-381C-4388-9443-38B6341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5048-4CC8-4E5D-8D6F-0812638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406B-7FE1-48F7-95C0-5FE8139A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A066-C2B4-4EF4-8BB2-E0EB9BB9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980F-E37E-49DE-997B-888992CB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95CE-A69A-4374-B4DB-1674C229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A446-6F14-46BE-AE72-CB1C6E0C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D9FFF-4F16-4E97-B666-0EF88F0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FBD5-8258-4049-85BA-5BAE71B7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FABE-1FF9-4638-954A-91BDE73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CF4-28EA-4DDA-A4B4-79C5DD3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26138-BD7A-4898-A6A7-00AF613D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6738-9A81-4778-91DE-8528C1B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0856-CD48-4957-9BD9-23E98D3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79E5A-C75F-449F-A4A6-8AA86BD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8C9EC-D415-4831-A29A-645545B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A9CED-2818-4998-BA45-D6474613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BBC8-87E2-472A-AF7F-9246A731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30FA0-679F-41DC-A19D-72803E50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B927-430A-404A-A245-9CFC335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07869-DD9A-44C3-A280-EA413B6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745-FFA4-417F-98C7-0FBF744C1E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12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01D4-D31B-4BC1-9C33-4265D7DA31D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66A-1BF0-4FF2-8D22-482ED13518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C3B-8CDB-4A68-A6DC-6CF7BE2F22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531-09DF-4FE8-8B87-DB23C762F4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E60-1EEC-4628-974D-EFDF505C1F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87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077-E8FF-4D08-9D0F-08177BF4B0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FAF-68A9-4E05-AF26-171AA01FF9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1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C4DF-B591-460F-B31F-AEE70164D0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F420-5C2F-41AB-9D34-24B12AF8A3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560" y="1295280"/>
            <a:ext cx="811836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8b0000"/>
                </a:solidFill>
                <a:latin typeface="Arial Black"/>
              </a:rPr>
              <a:t>Истоки возникновения международного гуманитарного пра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Arial Black"/>
              </a:rPr>
              <a:t>Благотворительное общество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В те времена в Женеве существовало благотворительное общество, президентом которого был адвокат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устав Муанье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. 'Книга 'Воспоминание о Сольферино' потрясла меня' - писал он. Будучи человеком действия, Муанье предложил Дюнану переговорить об этой книге с другими членами Обществ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В ходе встречи была создана комиссия из пяти членов. Помимо самого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Анри Дюнана и Густава Муанье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её состав вошли генерал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ийом-Анри Дюфур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и доктора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Луи Аппия и Теодор Монуар 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- все швейцарские граждане. 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Женева 1863 год"/>
          <p:cNvPicPr/>
          <p:nvPr/>
        </p:nvPicPr>
        <p:blipFill>
          <a:blip r:embed="rId1"/>
          <a:stretch/>
        </p:blipFill>
        <p:spPr>
          <a:xfrm>
            <a:off x="4032360" y="1676520"/>
            <a:ext cx="496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Создание Международного комитета помощи ранены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первые комиссия собр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17 февраля 186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и назвала себя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'Международным комитетом помощи раненым'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следующие месяцы эти пять членов Комитета вели напряженную деятельность, в результате которой в октябре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1863 года в Женев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стоялась международная конференция. В ней приняли участие представители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шестнадцати государст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 этому случаю был выбран отличительный знак -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красный кре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белом ф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cross_200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Международное гуманитарное право (МГП)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835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 (МГП) – свод норм, направленных на ограничение последствий вооруженного конфликта. МГП предоставляет защиту лицам, которые не принимают или прекратили принимать участие в военных действиях, а также ограничивает методы и средства ведения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835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 также известно как право войны или право вооруженных конфли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Жан Симон Пикте ( 1914 - 2002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предложил в 50-х гг. ХХ  века известный швейцарский юрист , многолетний член руководства Международного Комитета Красного Креста  Жан Пи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Содержимое 4" descr="Пикте.jpg"/>
          <p:cNvPicPr/>
          <p:nvPr/>
        </p:nvPicPr>
        <p:blipFill>
          <a:blip r:embed="rId1"/>
          <a:stretch/>
        </p:blipFill>
        <p:spPr>
          <a:xfrm>
            <a:off x="5181480" y="16765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еневские конвен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тыре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еневские конвенции 1949 года и два Дополнительных протокол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к ним 1977 года являются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лавными юридическими документа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ждународного гуманитарного прав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7" descr="Эмблема"/>
          <p:cNvPicPr/>
          <p:nvPr/>
        </p:nvPicPr>
        <p:blipFill>
          <a:blip r:embed="rId1"/>
          <a:stretch/>
        </p:blipFill>
        <p:spPr>
          <a:xfrm>
            <a:off x="1627200" y="31291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улучшении участи раненых и больных в действующих армия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8" name="Picture 4" descr="Госпиталь в Цхинвале"/>
          <p:cNvPicPr/>
          <p:nvPr/>
        </p:nvPicPr>
        <p:blipFill>
          <a:blip r:embed="rId1"/>
          <a:stretch/>
        </p:blipFill>
        <p:spPr>
          <a:xfrm>
            <a:off x="1752480" y="3429000"/>
            <a:ext cx="5791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улучшении участи раненых, больных и лиц, потерпевших кораблекрушение, из состава вооружённых сил на мор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обращении с военнопленным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4" descr="Женева1977"/>
          <p:cNvPicPr/>
          <p:nvPr/>
        </p:nvPicPr>
        <p:blipFill>
          <a:blip r:embed="rId1"/>
          <a:stretch/>
        </p:blipFill>
        <p:spPr>
          <a:xfrm>
            <a:off x="1219320" y="2895480"/>
            <a:ext cx="69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V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защите гражданского населения во время войн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4" descr="Цхинвал"/>
          <p:cNvPicPr/>
          <p:nvPr/>
        </p:nvPicPr>
        <p:blipFill>
          <a:blip r:embed="rId1"/>
          <a:stretch/>
        </p:blipFill>
        <p:spPr>
          <a:xfrm>
            <a:off x="1981080" y="33526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Дополнительный Протокол I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иливает защиту жертв международных вооруженных конфлик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5" descr="IL-E-00168s"/>
          <p:cNvPicPr/>
          <p:nvPr/>
        </p:nvPicPr>
        <p:blipFill>
          <a:blip r:embed="rId1"/>
          <a:stretch/>
        </p:blipFill>
        <p:spPr>
          <a:xfrm>
            <a:off x="2362320" y="37339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«Теперь, когда мы умеем летать по небу, как птицы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плавать по воде, как рыбы, нам осталось одно -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научиться жить на Земле, как люди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Verdana"/>
              </a:rPr>
              <a:t>Б. Шо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1" name="Picture 6" descr="Г М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полнительный Протокол 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иливает защиту жертв немеждународных вооружённых конфлик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5" descr="Беженцы из осетии"/>
          <p:cNvPicPr/>
          <p:nvPr/>
        </p:nvPicPr>
        <p:blipFill>
          <a:blip r:embed="rId1"/>
          <a:stretch/>
        </p:blipFill>
        <p:spPr>
          <a:xfrm>
            <a:off x="2209680" y="3733920"/>
            <a:ext cx="505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ругие юридические документы гуманитарного характер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невский протокол 1925 года о запрещении применения газ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венция ООН 1980 года об обычном оруж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тавская конвенция о запрещении противопехотных 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сия является участником Женевских конвенций  с 1954 года, и Дополнительных протоколов с 1990 года.</a:t>
            </a:r>
            <a:br>
              <a:rPr sz="20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6" name="Picture 4" descr="Эмблема"/>
          <p:cNvPicPr/>
          <p:nvPr/>
        </p:nvPicPr>
        <p:blipFill>
          <a:blip r:embed="rId1"/>
          <a:stretch/>
        </p:blipFill>
        <p:spPr>
          <a:xfrm>
            <a:off x="2209680" y="2333520"/>
            <a:ext cx="53341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5780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одписав Конвенции, правительства стран взяли на себя обязательств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беспечить равный уход за раненым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как дружеской, так и вражеской сто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уважать личность челове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его физическую неприкосновенность, честь, достоинство, семейные права, религиозные и моральные убежде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претить пытки и жестокое обращени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казни без суда и следствия, депортацию, взятие заложников, грабежи и разрушения гражданских объек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зреш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едставителям Международного Комитета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расного Креста (МККК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осещать лагеря военнопленных и интернированных гражданских лиц и разговаривать с заключёнными свободно и без свиде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Больные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В зонах"/>
          <p:cNvPicPr/>
          <p:nvPr/>
        </p:nvPicPr>
        <p:blipFill>
          <a:blip r:embed="rId2"/>
          <a:stretch/>
        </p:blipFill>
        <p:spPr>
          <a:xfrm>
            <a:off x="4724280" y="189000"/>
            <a:ext cx="3733920" cy="3087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Дома ребёнка"/>
          <p:cNvPicPr/>
          <p:nvPr/>
        </p:nvPicPr>
        <p:blipFill>
          <a:blip r:embed="rId3"/>
          <a:stretch/>
        </p:blipFill>
        <p:spPr>
          <a:xfrm>
            <a:off x="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Без родителей"/>
          <p:cNvPicPr/>
          <p:nvPr/>
        </p:nvPicPr>
        <p:blipFill>
          <a:blip r:embed="rId4"/>
          <a:stretch/>
        </p:blipFill>
        <p:spPr>
          <a:xfrm>
            <a:off x="48769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Брошеные дети"/>
          <p:cNvPicPr/>
          <p:nvPr/>
        </p:nvPicPr>
        <p:blipFill>
          <a:blip r:embed="rId5"/>
          <a:stretch/>
        </p:blipFill>
        <p:spPr>
          <a:xfrm>
            <a:off x="2666880" y="4572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Бездомные"/>
          <p:cNvPicPr/>
          <p:nvPr/>
        </p:nvPicPr>
        <p:blipFill>
          <a:blip r:embed="rId6"/>
          <a:stretch/>
        </p:blipFill>
        <p:spPr>
          <a:xfrm>
            <a:off x="22096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Нарушение норм Международного гуманитарного пра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чь с 7 на 8 августа 2008 года вооружённые силы Грузии совершили нападение на Южную Осетию. Город Цхинвали и сёла, в которых оставались мирные жители, обстреляли грузински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имели место многочисленные жертвы среди населения Южной Осетии. В настоящее время невозможно назвать точное число погибших. До сих пор некоторые официальные структуры говорят о тысячах убитых, однако по-прежнему невозможно найти источник, на котором основаны эти утвер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5" descr="Бой в Южной Осетии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Обстрел Цхинвала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857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грузинская техника"/>
          <p:cNvPicPr/>
          <p:nvPr/>
        </p:nvPicPr>
        <p:blipFill>
          <a:blip r:embed="rId3"/>
          <a:stretch/>
        </p:blipFill>
        <p:spPr>
          <a:xfrm>
            <a:off x="6553080" y="2895480"/>
            <a:ext cx="2590920" cy="1886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Госпиталь в цхинвале 1"/>
          <p:cNvPicPr/>
          <p:nvPr/>
        </p:nvPicPr>
        <p:blipFill>
          <a:blip r:embed="rId4"/>
          <a:stretch/>
        </p:blipFill>
        <p:spPr>
          <a:xfrm>
            <a:off x="0" y="3581280"/>
            <a:ext cx="4800600" cy="327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Цхинвал1"/>
          <p:cNvPicPr/>
          <p:nvPr/>
        </p:nvPicPr>
        <p:blipFill>
          <a:blip r:embed="rId5"/>
          <a:stretch/>
        </p:blipFill>
        <p:spPr>
          <a:xfrm>
            <a:off x="4876920" y="4495680"/>
            <a:ext cx="4267080" cy="2362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Осетинцы и россияне"/>
          <p:cNvPicPr/>
          <p:nvPr/>
        </p:nvPicPr>
        <p:blipFill>
          <a:blip r:embed="rId6"/>
          <a:stretch/>
        </p:blipFill>
        <p:spPr>
          <a:xfrm>
            <a:off x="2590920" y="2000160"/>
            <a:ext cx="396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За что всё э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914400" y="175248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учение МГП в наше время стоит очень остро. Нестабильность политической ситуации в мире, назревающие и назревшие военные конфликты приводят к пониманию необходимости более глубокого изучения МГП.МГП является, своего рода, документом, который регламентирует основные правила ведения войны, что является актуальным в наш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Актуальность те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Целью является исследование международно-правового и национально-правового механизмов имплементации норм международного гуманитарного прав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пределение понятия, сущности, особенности, место и роли МГП в системе международного пра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Исследование генезиса развития МГП как самостоятельной отрасли международного пра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Из истории создания МГП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оследние пять веков по Земле пронеслось около 15 тысяч войн, которые унесли почти 4 миллиарда жизней - это соответствует 2/3 нынешнего населения Земли. Смерть и разрушения всегда были и остаются спутниками войны. Печальная история Карфагена, стертого с лица земли, на протяжении веков неоднократно повторялас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ое международное гуманитарное право сформировалось в основном в середине 20 века и в концентрированном виде отражено в уставе Организаций Объединенных Наций, который открыл новую эпоху в правовом регулировании международных отношений и нормативно закрепил важнейшие принципы международного пра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Эмблема2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История возникновения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началось 24 июня 1859 года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льферино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лении в северной Италии, где французские и итальянские войска сражались с оккупировавшими тогда страну австрийцами. В этой ожесточенной битве за несколько часов пало 40000 жертв - убитых и ране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тарные службы воюющих сторон были явно бессильны помочь в сложившейся ситуации. Вид тяжелых страданий раненых привел в ужас приехавшего в те места по делам швейцарц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нри Дюн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ратившись с призывом к жителям соседних сел, он принялся оказывать помощь всем раненым воинам независимо от национальност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picto_about"/>
          <p:cNvPicPr/>
          <p:nvPr/>
        </p:nvPicPr>
        <p:blipFill>
          <a:blip r:embed="rId1"/>
          <a:stretch/>
        </p:blipFill>
        <p:spPr>
          <a:xfrm>
            <a:off x="6172200" y="0"/>
            <a:ext cx="2819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Анри Дюнан (1828-1910)</a:t>
            </a:r>
            <a:br>
              <a:rPr sz="44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0520" y="9907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айший гуманист и «идеолог» Всемирного Движени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асного Крес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Автор «Воспоминания о битве при Сольферин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мая в день рождения Анри Дюнана, отмечаетс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еждународный день Красного Креста и красного Полумеся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кая заслуга Анри Дюнана состоит в том, что он не ограничился отдельными и спонтанными гуманитарными жестами своих предшественников, а выдвинул в своей книге новые, конкретные предложения и широко распространил их: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'Нельзя ли создать во всех европейских странах общества по оказанию помощи, которые в военное время, действуя на добровольных началах, обеспечивали бы уход за ранеными, независимо от национальности?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Анри Дюнан"/>
          <p:cNvPicPr/>
          <p:nvPr/>
        </p:nvPicPr>
        <p:blipFill>
          <a:blip r:embed="rId1"/>
          <a:stretch/>
        </p:blipFill>
        <p:spPr>
          <a:xfrm>
            <a:off x="5029200" y="1295280"/>
            <a:ext cx="3809880" cy="48769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Создание книг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увшись в Швейцарию, Анри Дюнан не мог стереть из памяти эту ужасающую картину. Он взялся за перо,  чтобы рассказать миру об этой, так много раз повторявшейся,  драме войны. В 1862 году была закончена его книг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'Воспоминание о Сольферино'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нига сильно взволновала Европу, так как многим была неизвестна жестокая реальность полей бит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Битва при Солдьферино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989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6T11:17:4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