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365-5254-43F9-BB00-4B04B7B7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281-33FE-4326-B491-3308FC83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5DC-D434-4AF7-A42A-FF230486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7A9-A3BC-4753-BFFB-5814FC34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FD3-D58D-4CB7-8613-C82A86A3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10B4-418C-40F6-ADAA-51F61331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323-7892-4147-9240-1133404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9F93-CF31-4E72-86B1-E9B1D030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8690-424B-4FAF-A5DA-F9B0BA5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C810-5105-47DD-BF05-486D5049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09AD-A1A3-4329-82B4-E476600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4C6-DBE3-47F0-BC16-63AF3024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3F2-EAF7-4266-BCF5-C702D252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08DD-A407-44EB-8096-C1DC13A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3C5-91EA-4820-879D-AE3F88EE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579-FFA4-4D13-9FC1-C5EC750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A348-D9A6-4E17-BB26-735CA468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8D6-FEAE-4D78-8DFB-91C979D5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A62-8072-4F56-B4EB-CD2DEA2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8BC-12DD-4425-AE20-C093EF15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5FF-3F7B-4248-97E8-E25C61D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805-0405-4F76-8F14-720FFEF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0A2-9CFA-4A4D-BA1F-11936FF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365-57C8-41A0-8855-714ED56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2944-B5ED-4BC0-A2BA-1FA499A36A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4F0-3109-4F9E-8856-AB45FE0AC1F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ОРАЛЬ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685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аль – форма общественного сознания, состоящая из системы ценностей и требований, регулирующих поведение людей, предъявляемых обществом индиви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-228600" y="3290760"/>
            <a:ext cx="141638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ормы мора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у – абсолютный запрет на те или иные 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350532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ай – исторически сложившиеся формы поведения людей в стандартных ситуац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85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я – передаваемые из поколения в поколение образцы п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ремония – внешние формы, символические действия и обрядность для разных случаев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Ната</cp:lastModifiedBy>
  <dcterms:modified xsi:type="dcterms:W3CDTF">2020-04-04T21:30:5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