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061-FAF9-41F9-A9EA-E184D39D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3CC-69D6-409D-A2BA-4D9BB65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CE4-6CE5-4249-B9DD-9A0DC45B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006-0FEE-4A53-9EA9-543F3D07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CA62-6FAD-4A9D-AE27-EC369C35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0416-DD93-4F32-B2BD-FAFA88EC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B0B0-73F8-466C-BA05-3E441407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5E3E-7C64-4540-9C62-B1BF006F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3772-544B-4605-AB46-5ADBD65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8CC-B55B-499B-A489-E1B5723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D01-1230-4E95-87E4-A272DF9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B04-D932-420C-BFEC-297D9645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566D-4015-4784-919D-A596949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3511-786E-4870-AD1C-7C97B915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ABE-D112-4170-9A98-656FEBF4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D1ED-E24C-4CBC-8D61-9360460A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6FE6-BE8C-4050-8A00-6B13253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E48-E256-4161-811F-A759D15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CCA-063F-4162-AE00-D823FF85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FFE-DA31-459B-A8F7-222F7A7C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D09-6D21-447C-8D0F-FF1164BA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059-8325-4C65-9207-8A2BBBD0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E11-150F-4207-A6CC-435F6D5B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03F-7911-460C-975F-54D3E919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197-CE07-4684-BEFA-D6244E394A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DB6-5134-49B5-B9EF-097AD812D3B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ОРАЛЬ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арактерные черты мора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четко очерченных гран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специальных организаций, создающих моральные нормы и следящих за их исполне-                                          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53337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альные нормы возникают стихийно, как отражение потребностей об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аль требует от человека определенного п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аль не формализована, она позволяет оценить поведение человека в любой жизнен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мора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утверждать ценность личности, равенство людей в их стремлении к счастью и достойной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руктура мора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равственная деятельность (поступки и поведение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равственные отно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альное сознание (моральные нормы, моральные принципы, моральные ценн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ункции мора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тив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ностно-ориентацион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ивацион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на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4267080" y="3127320"/>
            <a:ext cx="48769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щее права и мора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версальный 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тор общественных отнош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понятием «социальная справедливос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а свободы в обще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тличия морали от пра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уются в процессе развития общества, содержатся в сознании людей, выражаются в общественном мн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няются в силу привычки и внутреннего поб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ют широкий простор для толк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х нарушение карается не силой государства, а общественным пориц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091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ируют отношения, не подконтрольные государс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ируют отношения с позиции добра и зла, справедливости и несправедлив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Ната</cp:lastModifiedBy>
  <dcterms:modified xsi:type="dcterms:W3CDTF">2020-04-04T21:29:0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