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D72-2360-41B2-8506-7799D2B3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C71-32AA-4884-A423-50389FC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291-5463-4EA7-B0B7-6BA54258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FA8-3994-46D7-8658-985DBD69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735-E221-47A5-9A17-BF95DB20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DE9-AFC7-4458-8F31-8BA523E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B0D-5A71-498D-9103-76847278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610-B48E-4B2D-A341-AE62A3A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4CD-568C-4A1F-B2A1-5634468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70C-E1F9-41F5-ADC1-8D6B27A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952-30C9-4661-AD7C-B3006127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552-214B-4C3F-8E45-AE6869D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FD7-A3D5-4406-92B0-EFBDB29C7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878040" y="2651040"/>
            <a:ext cx="7881840" cy="3530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одно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</a:t>
            </a:r>
            <a:r>
              <a:rPr b="0" lang="tt-RU" sz="2800" spc="-1" strike="noStrike" u="sng">
                <a:solidFill>
                  <a:srgbClr val="000000"/>
                </a:solidFill>
                <a:uFillTx/>
                <a:latin typeface="Calibri"/>
              </a:rPr>
              <a:t>:/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larf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f</a:t>
            </a:r>
            <a:r>
              <a:rPr b="0" lang="tt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Просмотр мультипликационного фильма.(Научиться составить диалог по тематике мультфильма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составить диалог «В магазине»/»В магази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тправки дом.заданий- в день пр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5T07:09:18Z</dcterms:modified>
  <cp:revision>32</cp:revision>
  <dc:subject/>
  <dc:title>Презентация PowerPoint</dc:title>
</cp:coreProperties>
</file>