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6F5-630A-42E2-9AFC-727435FC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6A6-09EE-4D92-AA0E-D4507487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1FC-1E22-4AA5-98E7-D287A616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190-460C-483B-ABD3-C9652DF4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01D-C6A3-46EA-A3EF-B8D9740E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566-D314-4EDB-A06F-86A58067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129-D7EE-4FF3-9AB8-461FF8F6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714-671E-4C8D-9565-021FB773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C48-CC5D-4B1D-A8AB-DD77AABE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EED-CE9D-4B60-9593-55AC64D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AC3-16B1-4403-B2BB-4D0F24A0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AE1-C5E0-40EC-BCF3-1F68EADD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2A78-B7DF-41F3-9235-A73AF205C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abantuyjournal.ru/news/iat/balalar-chen-khkiman-khalikov-shi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1103400" y="2651040"/>
            <a:ext cx="7589880" cy="4365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26920" y="1844640"/>
            <a:ext cx="777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айт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:/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lar.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Просмотр стихотворений по ссылк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abantuyjournal.ru/news/iat/balalar-chen-khkiman-khalikov-sh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:Прочитать одно стихотвор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ить аудиозапись(ученика)  и прислать 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рок выполнения : в день про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5T07:17:09Z</dcterms:modified>
  <cp:revision>33</cp:revision>
  <dc:subject/>
  <dc:title>Презентация PowerPoint</dc:title>
</cp:coreProperties>
</file>