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3484-D906-4133-B357-D2E0133E9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98DC-24AD-4BA6-B3C9-268DE528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66B0-C121-4A36-AD37-B78D42157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AA46-B1C5-45B7-A496-520ED96B4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265F-5C8E-48BB-BA5F-F0796AA7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2D58-06E6-4EA9-8EE9-512BAAB4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1C65-BEDB-4448-93ED-2701172E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C973-FB97-4F8D-ABC1-92DF8D47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CF1E-8263-4131-AB79-EB99F78C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5A44-7482-4FB8-98A2-6BC714F0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9EA6-366F-4C8A-A0C6-3062C0B9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7467-7F3B-4C24-BB8E-53231D54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C9CB-5B98-45A5-8D89-5B27A3AFD4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abantuyjournal.ru/news/iat/balalar-chen-khkiman-khalikov-shi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Администратор\Desktop\тишина\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2" descr=""/>
          <p:cNvPicPr/>
          <p:nvPr/>
        </p:nvPicPr>
        <p:blipFill>
          <a:blip r:embed="rId2"/>
          <a:stretch/>
        </p:blipFill>
        <p:spPr>
          <a:xfrm>
            <a:off x="1103400" y="2651040"/>
            <a:ext cx="7589880" cy="436572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1511280" y="620640"/>
            <a:ext cx="662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000" spc="-1" strike="noStrike">
                <a:solidFill>
                  <a:srgbClr val="6f0096"/>
                </a:solidFill>
                <a:latin typeface="Georgia"/>
              </a:rPr>
              <a:t>                                                                                                                                                          </a:t>
            </a:r>
            <a:r>
              <a:rPr b="1" i="1" lang="tt-RU" sz="4000" spc="-1" strike="noStrike">
                <a:solidFill>
                  <a:srgbClr val="6f0096"/>
                </a:solidFill>
                <a:latin typeface="Georgia"/>
              </a:rPr>
              <a:t>Русский язык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f0096"/>
                </a:solidFill>
                <a:latin typeface="Georgia"/>
              </a:rPr>
              <a:t>3 КЛА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кая отрасль экономики производит эти товар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9"/>
          <p:cNvSpPr/>
          <p:nvPr/>
        </p:nvSpPr>
        <p:spPr>
          <a:xfrm>
            <a:off x="714240" y="214200"/>
            <a:ext cx="7674120" cy="120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 нужно сделать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бы изучить т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826920" y="1844640"/>
            <a:ext cx="7777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йти по ссылке и посмотреть видеоуроки и выполнить тренировочные задани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t-RU" sz="2800" spc="-1" strike="noStrike">
                <a:solidFill>
                  <a:srgbClr val="000000"/>
                </a:solidFill>
                <a:latin typeface="Calibri"/>
              </a:rPr>
              <a:t>айт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</a:t>
            </a:r>
            <a:r>
              <a:rPr b="0" lang="tt-RU" sz="2800" spc="-1" strike="noStrike">
                <a:solidFill>
                  <a:srgbClr val="000000"/>
                </a:solidFill>
                <a:latin typeface="Calibri"/>
              </a:rPr>
              <a:t>://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lalar.r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Calibri"/>
              </a:rPr>
              <a:t>Просмотр стихотворений по ссылке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abantuyjournal.ru/news/iat/balalar-chen-khkiman-khalikov-sh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ь :Прочитать одно стихотвор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равить аудиозапись(ученика)  и прислать  в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sAp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рок выполнения : в день провед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3T07:24:06Z</dcterms:created>
  <dc:creator>Администратор</dc:creator>
  <dc:description/>
  <dc:language>en-US</dc:language>
  <cp:lastModifiedBy>2017</cp:lastModifiedBy>
  <dcterms:modified xsi:type="dcterms:W3CDTF">2020-04-05T07:17:09Z</dcterms:modified>
  <cp:revision>33</cp:revision>
  <dc:subject/>
  <dc:title>Презентация PowerPoint</dc:title>
</cp:coreProperties>
</file>