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787-C74B-431F-9365-5839788F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D5ED-C6F6-430C-B275-07B0D263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D970-98D8-4741-B5E2-06F09228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D7A5-0100-4C30-847B-B4150095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9E98-5BDB-4CF2-8B72-C3FBD38D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17D6-4CDA-43B4-BA8B-BE5FD73D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38E-8264-474A-93E9-3DF53A13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A829-C559-4695-89BB-2F7507B5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2301-B881-4618-9CF2-9475B9B5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EAC9-85FA-44E0-993A-D9C9382C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F2FB-5CE1-4A8D-AAC6-C4CB480B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36A7-91DE-44E1-AB5C-14158457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9A80-199B-4DF9-88FF-3F62F1B78B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Адапт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етей к детскому с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ramka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user\Desktop\анимашки\multyashki-492.gif"/>
          <p:cNvPicPr/>
          <p:nvPr/>
        </p:nvPicPr>
        <p:blipFill>
          <a:blip r:embed="rId2"/>
          <a:stretch/>
        </p:blipFill>
        <p:spPr>
          <a:xfrm rot="19029600">
            <a:off x="5940360" y="1483920"/>
            <a:ext cx="7430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обходимо зна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адаптационный период нежелательно разрушать любые привычки, в том числе и вредные (например, если ребенок сосет палец, не засыпает без соски или пения и т.п.), так как это осложнит приспособление к новым условиям. На момент поступления в детский сад необходимо предупреждать воспитателя о «особых» привычках ребенка, если таковые име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8bc5751b36aa55b03faa72cd4305b5eb_1329683174"/>
          <p:cNvPicPr/>
          <p:nvPr/>
        </p:nvPicPr>
        <p:blipFill>
          <a:blip r:embed="rId1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но придерживаться режима дня максимально приближенного к режиму в ДО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омендуется укороченный де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о избегать обсуждения при ребенке волнующих проблем, связанных с детским са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подчеркивать, что ребенок по-прежнему дорог и любим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жливое и приветливое обращение родителей к сотрудникам детского сада расположит ребенка к общению с н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8bc5751b36aa55b03faa72cd4305b5eb_1329683174"/>
          <p:cNvPicPr/>
          <p:nvPr/>
        </p:nvPicPr>
        <p:blipFill>
          <a:blip r:embed="rId1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даптация (от лат. - приспособлять) - в широком смысле - приспособление к изменяющимся внешним и внутренним условия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8bc5751b36aa55b03faa72cd4305b5eb_1329683174"/>
          <p:cNvPicPr/>
          <p:nvPr/>
        </p:nvPicPr>
        <p:blipFill>
          <a:blip r:embed="rId1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процесс адаптации ребенка влияю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игнутый уровень психического и физического развит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яние здоров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ь закаленн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нность навыков самообслужив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уникативного общения со взрослыми и сверстник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чностные особенности самого малыш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чностные особенности родите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8bc5751b36aa55b03faa72cd4305b5eb_1329683174"/>
          <p:cNvPicPr/>
          <p:nvPr/>
        </p:nvPicPr>
        <p:blipFill>
          <a:blip r:embed="rId1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деляются два основных критерия успешной адаптации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енний комфорт (эмоциональная удовлетворенност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яя адекватность поведения (способность легко и точно выполнять требования среды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8bc5751b36aa55b03faa72cd4305b5eb_1329683174"/>
          <p:cNvPicPr/>
          <p:nvPr/>
        </p:nvPicPr>
        <p:blipFill>
          <a:blip r:embed="rId1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азы адаптационного процесс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трая фаз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(которая сопровождается разнообразными колебаниями в соматическом состоянии и психическом статусе. Что приводит к снижению веса, частым респираторным заболеваниям, нарушению сна, снижению аппетита, регрессу в речевом развитии (длится в среднем один месяц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8bc5751b36aa55b03faa72cd4305b5eb_1329683174"/>
          <p:cNvPicPr/>
          <p:nvPr/>
        </p:nvPicPr>
        <p:blipFill>
          <a:blip r:embed="rId1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азы адаптационного процесс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дострая фаз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характеризуется адекватным поведением ребенка, то есть все сдвиги уменьшаются и регистрируются лишь по отдельным параметрам на фоне замедленного темпа развития, особенно психического, по сравнению со средними возрастными нормами (длится 3-5 месяцев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8bc5751b36aa55b03faa72cd4305b5eb_1329683174"/>
          <p:cNvPicPr/>
          <p:nvPr/>
        </p:nvPicPr>
        <p:blipFill>
          <a:blip r:embed="rId1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азы адаптационного процесс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 фаза компенс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характеризуется убыстрением темпа развития, в результате дети к концу учебного года преодолевают указанную выше задержку темпов развит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8bc5751b36aa55b03faa72cd4305b5eb_1329683174"/>
          <p:cNvPicPr/>
          <p:nvPr/>
        </p:nvPicPr>
        <p:blipFill>
          <a:blip r:embed="rId1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епени тяжести прохождения адапт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Легкая адапт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редняя адапт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Тяжелая адаптация(от 2 до 6 месяцев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Очень тяжелая адапт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от 6 месяцев до 1 го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8bc5751b36aa55b03faa72cd4305b5eb_1329683174"/>
          <p:cNvPicPr/>
          <p:nvPr/>
        </p:nvPicPr>
        <p:blipFill>
          <a:blip r:embed="rId1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чины тяжелой 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в семье режима, совпадающего с режимом дошкольного учрежд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здоровая атмосфера в семье (конфликты между родителя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у ребенка своеобразных привыче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умение занять себя игруш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элементарных культурно-гигиенических навык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навыка общения с незнакомыми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8bc5751b36aa55b03faa72cd4305b5eb_1329683174"/>
          <p:cNvPicPr/>
          <p:nvPr/>
        </p:nvPicPr>
        <p:blipFill>
          <a:blip r:embed="rId1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9T09:39:17Z</dcterms:created>
  <dc:creator>Оля</dc:creator>
  <dc:description/>
  <dc:language>en-US</dc:language>
  <cp:lastModifiedBy>user</cp:lastModifiedBy>
  <dcterms:modified xsi:type="dcterms:W3CDTF">2014-10-06T07:12:24Z</dcterms:modified>
  <cp:revision>5</cp:revision>
  <dc:subject/>
  <dc:title>Адаптация  </dc:title>
</cp:coreProperties>
</file>