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8F2-B9F4-4815-A52B-FF62D645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3A6-56DB-426E-A7FC-B5832F86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581-E3F9-453F-89A4-B9E30240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012-510A-40F2-8730-C2AE3900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0C1-DF0C-4343-8F62-A87EF5B7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EB7-4B7D-4141-A243-78DCB1FA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603-5DB5-48F5-B258-5548FD9E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64A-6D19-439F-9AF4-79235B38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661-4D4B-46BF-BC36-F7E4EA4B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E17-AF29-4A2E-B9C0-3E2D6595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CF4-7C05-4AA4-9C49-AE4FF96A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8EC-FC51-454E-882E-84B4394A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0A81-4F7B-4C48-B42C-202A1C8D65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280" y="4876920"/>
            <a:ext cx="266724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400800" y="487692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6400800" y="2971800"/>
            <a:ext cx="2629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Наталья</cp:lastModifiedBy>
  <dcterms:modified xsi:type="dcterms:W3CDTF">2020-03-31T13:39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