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772-F0EA-457D-9201-4BC3F520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00D-7A7F-440D-992E-943F7E01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121-5F77-4367-9BFA-08FAC737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3D4-14A3-4C61-9941-9CDEA549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A91-FF92-447A-8302-0B06627F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48D-8883-4129-B322-8592BCEA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CEC-30AF-4E0D-A6A9-59669A44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54A-869B-4DFF-9290-8745C905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B03-A5CC-4404-A3A8-B1FD2241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D1D-4505-442C-A13A-A625BFA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50E-D2F3-4947-AF06-1901538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CBD-51F1-4AF7-B709-B84271CA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21BE-AADD-43E7-8741-11613161D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280" y="4876920"/>
            <a:ext cx="266724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400800" y="48769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6400800" y="2971800"/>
            <a:ext cx="2629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Наталья</cp:lastModifiedBy>
  <dcterms:modified xsi:type="dcterms:W3CDTF">2020-03-31T13:39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